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3207-033F-498E-82C0-899ABD3D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23BB-A96E-4FB6-A6A2-AA53EA91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619B-8DFA-4007-9938-718DE24C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820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9560" y="19807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820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9560" y="4009320"/>
            <a:ext cx="264852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33CF-5DE5-4E1D-8F74-769CE53E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DF50-5791-45B5-9222-C0E773A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AA16-2FC6-4457-B13D-B86807B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25BD-07A2-49A5-8992-00F13518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0041-F5CA-4E99-B2CC-FD77B942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B5F1-9805-4A9E-9943-0ACBC7D7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646F-DAE7-407D-A55F-476B6C7B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2440" y="40093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1495-1680-43BC-8A24-642FE0A1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980720"/>
            <a:ext cx="4014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26360" cy="18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B1BE-7E85-4FBA-9393-9713788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89A77-960D-49C4-8F88-336D0D47A039}" type="slidenum">
              <a:rPr b="0" lang="ru-RU" sz="1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636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05120" y="3276720"/>
            <a:ext cx="5562360" cy="25905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424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ДЕКОРАТИВ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1880" y="495288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ронина О.В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ОУ СОШ № 12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. Нижнего Новгорода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7720" y="649440"/>
            <a:ext cx="200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Гармония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685800"/>
            <a:ext cx="6591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30524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232680" y="33955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Георгин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19320" y="68580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42040" cy="494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67640" y="370044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Лили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68580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38156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9800" y="3809880"/>
            <a:ext cx="12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Роза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19320" y="53352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716360" cy="5248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40384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Астр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95280" y="533520"/>
            <a:ext cx="6610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наешь ли ты эти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05360" y="4419720"/>
            <a:ext cx="230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1. Фиалк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2. Какту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3. Декабрис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4. Алоэ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38280" y="533520"/>
            <a:ext cx="4267440" cy="447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де ты их видел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114640" cy="235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81280" y="1295280"/>
            <a:ext cx="2114640" cy="2352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00800" y="1219320"/>
            <a:ext cx="219060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21049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343480" cy="398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5720" y="57913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Азали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392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338640" y="57578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Глоксини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72040" cy="3786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897280" y="586728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Хлорофитум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376960" cy="4012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586728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Кодиеум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35440" cy="4267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54480" y="601992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Монстера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905120" y="533520"/>
            <a:ext cx="5848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Найди "лишнее" растение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971800" cy="238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80036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48080" y="19875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859280" y="19875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666880" y="5335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стения бывают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ультур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37160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дикорастущи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 -17 L 1.69288 -6 L 0.00521 0.03261 E">
                                      <p:cBhvr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2.99722 -6 C -0.00938000000000017 0.00785999999999998 -0.01822 0.01711 -0.02725 0.02451 C -0.04341 0.03839 -0.03282 0.03284 -0.04254 0.03746 C -0.05365 0.04949 -0.06615 0.06568 -0.07935 0.071 C -0.08768 0.08025 -0.09584 0.08996 -0.10452 0.09829 C -0.11094 0.10476 -0.11806 0.10939 -0.12431 0.11517 C -0.13282 0.12349 -0.13941 0.13829 -0.14827 0.14454 C -0.15122 0.14685 -0.15382 0.14755 -0.15678 0.14893 C -0.16441 0.15286 -0.17223 0.16188 -0.17917 0.16813 C -0.18212 0.17021 -0.18455 0.17437 -0.18768 0.17645 C -0.19619 0.18131 -0.20504 0.1857 -0.21303 0.19102 C -0.21511 0.19264 -0.21702 0.1938 -0.21858 0.19542 C -0.22084 0.19727 -0.2224 0.20051 -0.22448 0.20189 C -0.23386 0.20883 -0.24671 0.21739 -0.25678 0.22063 C -0.27483 0.2345 -0.29271 0.23196 -0.3132 0.23358 C -0.31945 0.23543 -0.325 0.2382 -0.3316 0.23959 C -0.33855 0.24375 -0.34566 0.24722 -0.35261 0.25231 C -0.36042 0.26989 -0.3474 0.24329 -0.36528 0.2648 C -0.36754 0.26757 -0.36789 0.2722 -0.36945 0.27567 C -0.37171 0.28006 -0.37414 0.28422 -0.37657 0.28816 C -0.38941 0.30897 -0.40348 0.32261 -0.41893 0.3388 C -0.43403 0.35453 -0.44063 0.38205 -0.4599 0.38899 C -0.46494 0.39708 -0.46632 0.395 -0.47188 0.40032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77 0.08326 L -0.46511 0.37188 E">
                                      <p:cBhvr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2914 L 0.27084 -0.17345 E">
                                      <p:cBhvr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52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14240" y="606276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Колеус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765600" cy="4191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11680" y="59436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Флокс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962520" cy="4410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11680" y="601992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Фикус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209680" y="609480"/>
            <a:ext cx="5010120" cy="104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 ещё бы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омнат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7280" y="594360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Диффенбахи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34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9360" y="3124080"/>
            <a:ext cx="3071880" cy="341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124080" y="1447920"/>
            <a:ext cx="3071880" cy="34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3073320" cy="341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133720" y="609480"/>
            <a:ext cx="47624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знообразие сортов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762120"/>
            <a:ext cx="80866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ход за декоративными растениям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5280" y="1828800"/>
            <a:ext cx="6704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свещённост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лив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ддержание температуры воздух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Рыхление почв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одкормка удобрениям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81280" y="1066680"/>
            <a:ext cx="18288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ти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2464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екоративные растения могут быть очень «капризными»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ежде, чем приобрести растение, узнай, какие условия требуются ему для нормального роста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тарайся следовать советам специалистов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895480" y="685800"/>
            <a:ext cx="30765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верь себя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8560" y="1436760"/>
            <a:ext cx="778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 такое декоративные растения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де их выращивают 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азови несколько комнатных растений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азови несколько растений, растущих на клумбе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ак ухаживают за декоративными растениями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609480"/>
            <a:ext cx="78962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ачем выращивают эти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743200" y="4495680"/>
            <a:ext cx="178128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85800" y="15238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14600" y="685800"/>
            <a:ext cx="42292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ультуры бывают: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42840" y="1387440"/>
            <a:ext cx="2747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зернов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вощ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лодов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аслич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ядильн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рмовы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286000"/>
            <a:ext cx="2286000" cy="4267080"/>
          </a:xfrm>
          <a:custGeom>
            <a:avLst/>
            <a:gdLst>
              <a:gd name="textAreaLeft" fmla="*/ 1143000 w 2286000"/>
              <a:gd name="textAreaRight" fmla="*/ 2286000 w 2286000"/>
              <a:gd name="textAreaTop" fmla="*/ 0 h 4267080"/>
              <a:gd name="textAreaBottom" fmla="*/ 2133360 h 42670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952880" y="44956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3048120" y="1752480"/>
            <a:ext cx="1676160" cy="5486400"/>
          </a:xfrm>
          <a:custGeom>
            <a:avLst/>
            <a:gdLst>
              <a:gd name="textAreaLeft" fmla="*/ 838080 w 1676160"/>
              <a:gd name="textAreaRight" fmla="*/ 1676160 w 1676160"/>
              <a:gd name="textAreaTop" fmla="*/ 0 h 5486400"/>
              <a:gd name="textAreaBottom" fmla="*/ 2742840 h 54864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97480" y="2589840"/>
            <a:ext cx="3352680" cy="1523880"/>
          </a:xfrm>
          <a:custGeom>
            <a:avLst/>
            <a:gdLst>
              <a:gd name="textAreaLeft" fmla="*/ 1584360 w 3352680"/>
              <a:gd name="textAreaRight" fmla="*/ 3352680 w 3352680"/>
              <a:gd name="textAreaTop" fmla="*/ -360 h 1523880"/>
              <a:gd name="textAreaBottom" fmla="*/ 761400 h 152388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3657600"/>
            <a:ext cx="4114800" cy="1523880"/>
          </a:xfrm>
          <a:custGeom>
            <a:avLst/>
            <a:gdLst>
              <a:gd name="textAreaLeft" fmla="*/ 2057040 w 4114800"/>
              <a:gd name="textAreaRight" fmla="*/ 4114800 w 4114800"/>
              <a:gd name="textAreaTop" fmla="*/ 0 h 1523880"/>
              <a:gd name="textAreaBottom" fmla="*/ 761760 h 15238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436120" y="2971080"/>
            <a:ext cx="2590920" cy="152280"/>
          </a:xfrm>
          <a:custGeom>
            <a:avLst/>
            <a:gdLst>
              <a:gd name="textAreaLeft" fmla="*/ 1295280 w 2590920"/>
              <a:gd name="textAreaRight" fmla="*/ 2590920 w 2590920"/>
              <a:gd name="textAreaTop" fmla="*/ 0 h 152280"/>
              <a:gd name="textAreaBottom" fmla="*/ 75960 h 1522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666880"/>
            <a:ext cx="609480" cy="3505320"/>
          </a:xfrm>
          <a:custGeom>
            <a:avLst/>
            <a:gdLst>
              <a:gd name="textAreaLeft" fmla="*/ 304560 w 609480"/>
              <a:gd name="textAreaRight" fmla="*/ 609480 w 609480"/>
              <a:gd name="textAreaTop" fmla="*/ 0 h 3505320"/>
              <a:gd name="textAreaBottom" fmla="*/ 1752480 h 35053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52480" y="60948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 для чего выращивают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ки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98612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1976400" cy="220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3680" y="1905120"/>
            <a:ext cx="1917720" cy="2133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581280" y="213372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858000" y="1905120"/>
            <a:ext cx="1908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50840" y="1789200"/>
            <a:ext cx="725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99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Декоративные растения</a:t>
            </a:r>
            <a:r>
              <a:rPr b="0" i="1" lang="ru-RU" sz="3600" spc="-1" strike="noStrike" u="sng">
                <a:solidFill>
                  <a:srgbClr val="003300"/>
                </a:solidFill>
                <a:uFillTx/>
                <a:latin typeface="Arial"/>
              </a:rPr>
              <a:t> -</a:t>
            </a: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это культурные растения, которые  люди выращивают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 u="sng">
                <a:solidFill>
                  <a:srgbClr val="003300"/>
                </a:solidFill>
                <a:uFillTx/>
                <a:latin typeface="Arial"/>
              </a:rPr>
              <a:t>для украшения</a:t>
            </a: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 жилища, улиц, парков и садов.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828800" y="533520"/>
            <a:ext cx="571500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де выращивают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декоративные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2240" y="2286000"/>
            <a:ext cx="252108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28958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52680" y="4419720"/>
            <a:ext cx="2971800" cy="2219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676520" y="2057400"/>
            <a:ext cx="30477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533520"/>
            <a:ext cx="66103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Знаешь ли ты эти растения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86600" y="1523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3722760"/>
            <a:ext cx="314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1.Нарцис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2.Анютины глазк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3.Сирен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4.Гладиолу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5.Гвоздик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533520"/>
            <a:ext cx="4267440" cy="447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де ты их видел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371600" y="68580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5180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26280" y="50292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Бархатц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9320" y="533520"/>
            <a:ext cx="6591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ещё растёт на клумбах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4587840" cy="5105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783120" y="3886200"/>
            <a:ext cx="13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Пион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0-03-01T19:18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