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FFD-02F1-47E7-BB30-85400753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E9B-E640-4D60-B015-EBA1FEB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BC5-38EC-47DB-9871-8937BD82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360-814C-4334-9A4C-4058C30F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206-252F-40CC-A777-881B123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7E6-E19A-4620-B102-5DE1257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5D1-9D8D-42E9-B114-1F05B869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2B0-69D7-422C-9980-B0C8A7B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18D-4450-4957-BB71-39B3AAC1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F95-9991-44AB-A0BF-7BBD8AA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4C0-6143-4C82-B0DB-4B59AFB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84A-A72F-4FAB-9D6C-8C7D0D1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21A-E772-452A-A40E-8F500117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549000"/>
            <a:ext cx="5472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Евгений Абрамович </a:t>
            </a:r>
            <a:br>
              <a:rPr sz="4000"/>
            </a:b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Баратынск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19280" y="4436640"/>
            <a:ext cx="7076880" cy="181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альников Спар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еник 8в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АОУ «Гимназия имени Н.В. Пушк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уководитель Мазурова Еле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Баратынский Е.А."/>
          <p:cNvPicPr/>
          <p:nvPr/>
        </p:nvPicPr>
        <p:blipFill>
          <a:blip r:embed="rId2"/>
          <a:stretch/>
        </p:blipFill>
        <p:spPr>
          <a:xfrm>
            <a:off x="826920" y="333360"/>
            <a:ext cx="2864160" cy="31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Сл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281800" cy="23050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полной мере пришедшая слава привела Баратынского к знакомству с множеством интересных людей среди которых был Вяземский, написавший впоследствии о поэт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" Чем более растираешь его, тем он лучше и сильнее пахнет. В нем, кроме дарования, и основа плотная и прекрасная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357720"/>
            <a:ext cx="6337080" cy="2592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ако длилась эта слава недолго. После неудачного выхода поэмы «Наложница», поэт уходит в себя и пишет в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"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Заключимся в своем кругу, как первые братья христиане... Будем писать, не печатая"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исьмо И. Киреевскому от 14 марта 1832 год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оследний сбор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281800" cy="23050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етий, последний сборник стихотворений, Баратынский выпустил в 1842 и посвятил его П. Вяземскому. Назывался он "Сумерки", включал в себя 26 стихотворений, отличаясь необычной для русской поэзии философской циклич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квозной лирический образ книги: трагическое осознание одиночества человека в глухом мире и страстная потребность отзыва "другой души". Появление "Сумерек" сравнено было критикой с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"привидением внезапно появившемся на улице, с тенью среди недоумевающих лиц потомков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оратынский был назван ярким, замечательным поэтом мысли окончательно чуждым нашему поколению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16192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Смерть поэ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137440" cy="1368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а 1843-44 года проходит в Париже. Жизнь начинает манить Баратынского яркостью красок и новыми горизонтами. Он даже предполагает вернуться домой "исцеленным от многих предубежден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276640"/>
            <a:ext cx="5473440" cy="4392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, прожив в Неаполе два месяца, взволнованный новыми впечатлениями, полный замыслов и планов, окунувшись в живительные воспоминания о детстве, 29 июня 1844 года, в результате неожиданного кровоизлияния в мозг, потрясенный нервическим припадком, случившемся с женой, поэт внезапно умир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1 августа 1845 года Баратынский был предан земле в Александро-Невской Лавре. Жизненный круг из сумерек и просветлений неслышно замкну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3520" y="60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1010587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3132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Дет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solidFill>
            <a:srgbClr val="99cc00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аратынский родился 19 февраля.      (2 марта) 1800 года в отцовской усадьбе Мара под Тамбовом. Его отец, был выходцем из старинного польского рода. Под руководством итальянского гувернера он дал своему сыну замечательное образование. Пяти лет отроду мальчик уже знал французский и русский языки настолько хорошо, что мог самостоятельно читать, а к восьми годам свободно писал письма на этих язы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М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6408720" cy="2952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том, находясь на учебе в Петербургском Пажеском корпусе, Боратынский писал ей очень теплые и красноречивые письма, по которым можно судить о характере будущего поэта: благородство, нежная привязанность к близким, склонность к меланхолии, пессимизм, неумение быстро сходиться с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81000"/>
            <a:ext cx="8066160" cy="16560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сле смерти отца самым близким человеком Баратынского была его мать, Александра Федоровна. Решительная и энергичная женщина после смерти мужа взяла на себя все бремя управления большой семьей и им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Темное пятно на судьбе будущего поэ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6192720" cy="431964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Он имел неосторожность примкнуть к обществу маленьких бунтарей, возникшему среди пажей. Они мстили особо нелюбимым и придирчивым преподавателям и надзирателям корпуса: протыкали шляпы, мазали чернилами стулья, писали мелом на спинах учительских сюртуков обидные надписи. Чаще всего это было слово "пьяница"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Однажды, дошалившегося повесу исключили из корпуса. Исключили с позором и скандалом, после которого ему категорически запрещалось служить где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981000"/>
            <a:ext cx="8353440" cy="1368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ать изо всех сил старалась помочь своему сыну, дать ему все самое лучшее. Но, как это часто бывает, оставшись глухой к просьбе Евгения определить его в морское ведомство, сделала его жизнь несчас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573360"/>
            <a:ext cx="5905440" cy="29512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Отвечать за ребячество детских лет пришлось уже взрослому молодому человеку. После заочного знакомства с Жуковским в апреле 1816 года,  Баратынский провел больше двух лет в имении своего дяди на Смоленщине, где и родились первые строки 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168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31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616720" cy="318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Хроники службы поэ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208720" cy="792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сле исключения из Пажеского корпуса служба Баратынского, однако, не законч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844640"/>
            <a:ext cx="6337080" cy="46800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1819 году он поступает рядовым в лейб-гвардии Егерский полк, стоящий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1820 году был произведен в унтер-офицеры и служил в Нейшлотском полку в Финляндии, в укреплении Кюмень и его окрест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сенью 1824 года Баратынский получил разрешение приехать в Гельсингфорс (тогдашнее название Хельсинки) и состоять при корпусном штабе генерала Закр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1825 году он, наконец, был произведен в офиц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 в январе 1826 года "певец пиров" (выражение Пушкина) вышел в отставку и поселился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Гельсингфо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22338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знь его в Гельсингфорсе была яркая, шумная и беспокой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лечение красавицей Аграфеной Федоровной Закревской, женой генерал-губернатора (которую Пушкин назвал "Беззаконною кометой в кругу расчисленном светил") принесло Баратынскому немало мучительных переживаний и вызвало к жизни прекрасные строки целого цикла стихотворений, позднее ставших роман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068640"/>
            <a:ext cx="5977080" cy="3168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Другим курил я фими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о Вас носил в святыне серд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Молился новым образц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о с беспокойством старове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"Уверение". 1824 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53200" y="2708280"/>
            <a:ext cx="2533680" cy="3882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Декабрис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22338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ветские исследователи причислили Баратынского к "декабристскому"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стихотворении «Стансы» (1827) он, перефразируя относящиеся к декабристам пушкинские строки, за год до этого процитированные Вяземским в «Московском телеграфе», ска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068640"/>
            <a:ext cx="5977080" cy="3168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Я братьев знал; но сны млад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Соединили нас на ми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Далече бедствуют и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И в мире нет уже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Отста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22338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изведение в офицеры дало Баратынскому право на отставку. Воспользовавшись им, поэт уехал в Москву, где женился на Анастасии Львовне Энгельгардт - особе "неэлегической наружности", но сумевшей привязать к себе грустного и задумчивого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сле выхода поэмы «Бал», Баратынский, наконец, получает всю славу, которой он заслуживал. В своем Предвиденье он пис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2781360"/>
            <a:ext cx="6119640" cy="37432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Мой дар убог, и голос мой не гром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Но я живу, и на земле 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Кому-нибудь любезно бы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Его найдет далекий мой пото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В моих стихах; как знать? душа м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окажется с душой его в снош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И как нашел я друга в покол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Читателя найду в потомстве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троки оказались весьма пророче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12000" y="2997360"/>
            <a:ext cx="2700360" cy="360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14:00Z</dcterms:created>
  <dc:creator>Dmitry Grishukov</dc:creator>
  <dc:description/>
  <dc:language>en-US</dc:language>
  <cp:lastModifiedBy>Anya</cp:lastModifiedBy>
  <dcterms:modified xsi:type="dcterms:W3CDTF">2012-01-28T18:55:38Z</dcterms:modified>
  <cp:revision>34</cp:revision>
  <dc:subject/>
  <dc:title>Слайд 1</dc:title>
</cp:coreProperties>
</file>