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963-CD6E-40AE-A452-E3C7C19F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14E0-44A7-4350-8CAA-591D7BB1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9DC-793B-4412-A4C4-556D081A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1DC-7467-4D56-B25A-55AB0899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9BE-7BE1-4DDC-AE14-819A252D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929-D9B8-4A8B-A988-8EDCBF83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4B1-AC53-416A-8DC4-957A7A4A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DD8-5478-4B1F-BA39-539A93B6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DC7-9CEB-4E7E-AB7A-68E79999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70D-D8AD-4194-8BE6-96B3C92D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450-8155-4C51-900E-E0FDC2E2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1B7-8C26-4175-8660-6A1BF00E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B694-29E2-43B0-AFCA-6DACD5ED7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343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6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540072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4969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3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4:21:21Z</dcterms:created>
  <dc:creator>WIN7XP</dc:creator>
  <dc:description/>
  <dc:language>en-US</dc:language>
  <cp:lastModifiedBy>WIN7XP</cp:lastModifiedBy>
  <dcterms:modified xsi:type="dcterms:W3CDTF">2011-08-31T14:54:58Z</dcterms:modified>
  <cp:revision>2</cp:revision>
  <dc:subject/>
  <dc:title>Слайд 1</dc:title>
</cp:coreProperties>
</file>