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15.jpeg" ContentType="image/jpe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26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10.png" ContentType="image/png"/>
  <Override PartName="/ppt/media/image47.png" ContentType="image/png"/>
  <Override PartName="/ppt/media/image13.wmf" ContentType="image/x-wmf"/>
  <Override PartName="/ppt/media/image28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32.wmf" ContentType="image/x-wmf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3.png" ContentType="image/png"/>
  <Override PartName="/ppt/media/image52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41.png" ContentType="image/png"/>
  <Override PartName="/ppt/media/image53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188-80EA-44C7-AF3A-1B590463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0BD-5DB4-49F9-99E0-B99ACF61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DC0-04B5-44A4-A58C-07639873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857-65F3-43FC-8937-C67287EA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9C9-0EFD-4F5B-AEFB-9340EC03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EAB-E0A1-40A7-9454-E28E6887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04E-922C-47F2-B9B9-87897A85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C04-86AB-43C5-970F-7267036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514-E1EB-46CF-9ECF-0DD2EECA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9DB-3515-4F21-B87B-4FB1756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5B2-BC8F-4FEF-A59A-2539075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C72-73DE-4577-A68D-0B04F6D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afe"/>
            </a:gs>
            <a:gs pos="100000">
              <a:srgbClr val="a3c0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1322-CD10-42B1-96D0-4AA2C68F3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wm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23.wmf"/><Relationship Id="rId6" Type="http://schemas.openxmlformats.org/officeDocument/2006/relationships/image" Target="../media/image26.wm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74.xml"/><Relationship Id="rId3" Type="http://schemas.openxmlformats.org/officeDocument/2006/relationships/slide" Target="slide16.xml"/><Relationship Id="rId4" Type="http://schemas.openxmlformats.org/officeDocument/2006/relationships/slide" Target="slide26.xml"/><Relationship Id="rId5" Type="http://schemas.openxmlformats.org/officeDocument/2006/relationships/slide" Target="slide45.xml"/><Relationship Id="rId6" Type="http://schemas.openxmlformats.org/officeDocument/2006/relationships/slide" Target="slide3.xml"/><Relationship Id="rId7" Type="http://schemas.openxmlformats.org/officeDocument/2006/relationships/slide" Target="slide64.xml"/><Relationship Id="rId8" Type="http://schemas.openxmlformats.org/officeDocument/2006/relationships/slide" Target="slide18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7.png"/><Relationship Id="rId3" Type="http://schemas.openxmlformats.org/officeDocument/2006/relationships/slide" Target="slide22.xml"/><Relationship Id="rId4" Type="http://schemas.openxmlformats.org/officeDocument/2006/relationships/image" Target="../media/image28.png"/><Relationship Id="rId5" Type="http://schemas.openxmlformats.org/officeDocument/2006/relationships/slide" Target="slide23.xml"/><Relationship Id="rId6" Type="http://schemas.openxmlformats.org/officeDocument/2006/relationships/image" Target="../media/image29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69.xml"/><Relationship Id="rId3" Type="http://schemas.openxmlformats.org/officeDocument/2006/relationships/slide" Target="slide24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69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69.xml"/><Relationship Id="rId3" Type="http://schemas.openxmlformats.org/officeDocument/2006/relationships/slide" Target="slide29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8.xm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18.xm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" Target="slide30.xml"/><Relationship Id="rId3" Type="http://schemas.openxmlformats.org/officeDocument/2006/relationships/slide" Target="slide32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37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38.xml"/><Relationship Id="rId8" Type="http://schemas.openxmlformats.org/officeDocument/2006/relationships/slide" Target="slide38.xml"/><Relationship Id="rId9" Type="http://schemas.openxmlformats.org/officeDocument/2006/relationships/slide" Target="slide38.xml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6.xml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slide" Target="slide36.xml"/><Relationship Id="rId6" Type="http://schemas.openxmlformats.org/officeDocument/2006/relationships/slide" Target="slide26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" Target="slide30.xml"/><Relationship Id="rId3" Type="http://schemas.openxmlformats.org/officeDocument/2006/relationships/slide" Target="slide41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9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40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47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45.xml"/><Relationship Id="rId3" Type="http://schemas.openxmlformats.org/officeDocument/2006/relationships/slide" Target="slide45.xml"/><Relationship Id="rId4" Type="http://schemas.openxmlformats.org/officeDocument/2006/relationships/slide" Target="slide45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46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118.xm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118.xml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74.xml"/><Relationship Id="rId3" Type="http://schemas.openxmlformats.org/officeDocument/2006/relationships/slide" Target="slide16.xml"/><Relationship Id="rId4" Type="http://schemas.openxmlformats.org/officeDocument/2006/relationships/slide" Target="slide26.xml"/><Relationship Id="rId5" Type="http://schemas.openxmlformats.org/officeDocument/2006/relationships/slide" Target="slide45.xml"/><Relationship Id="rId6" Type="http://schemas.openxmlformats.org/officeDocument/2006/relationships/slide" Target="slide3.xml"/><Relationship Id="rId7" Type="http://schemas.openxmlformats.org/officeDocument/2006/relationships/slide" Target="slide64.xml"/><Relationship Id="rId8" Type="http://schemas.openxmlformats.org/officeDocument/2006/relationships/slide" Target="slide18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" Target="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155.xml"/><Relationship Id="rId2" Type="http://schemas.openxmlformats.org/officeDocument/2006/relationships/slide" Target="slide155.xml"/><Relationship Id="rId3" Type="http://schemas.openxmlformats.org/officeDocument/2006/relationships/slide" Target=""/><Relationship Id="rId4" Type="http://schemas.openxmlformats.org/officeDocument/2006/relationships/image" Target="../media/image49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74.xml"/><Relationship Id="rId3" Type="http://schemas.openxmlformats.org/officeDocument/2006/relationships/slide" Target="slide16.xml"/><Relationship Id="rId4" Type="http://schemas.openxmlformats.org/officeDocument/2006/relationships/slide" Target="slide26.xml"/><Relationship Id="rId5" Type="http://schemas.openxmlformats.org/officeDocument/2006/relationships/slide" Target="slide45.xml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26920" y="765000"/>
            <a:ext cx="75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средняя общеобразовательная школа №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глублённым изучением отдельных предметов г. Чехов Моск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572000" y="3860640"/>
            <a:ext cx="38149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аринцев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юков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 Карпенко А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835280" y="2637000"/>
            <a:ext cx="57610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: «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глядный справочник по изучению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иков с пример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308720" y="6237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3494520" y="220428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6100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60000"/>
                </a:solidFill>
                <a:latin typeface="Arial"/>
              </a:rPr>
              <a:t>Y=|log</a:t>
            </a:r>
            <a:r>
              <a:rPr b="1" lang="en-US" sz="4000" spc="-1" strike="noStrike" baseline="-25000">
                <a:solidFill>
                  <a:srgbClr val="76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760000"/>
                </a:solidFill>
                <a:latin typeface="Arial"/>
              </a:rPr>
              <a:t>(|x-2|)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11280" y="333360"/>
            <a:ext cx="3960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60000"/>
                </a:solidFill>
                <a:latin typeface="Arial"/>
              </a:rPr>
              <a:t>Y=log</a:t>
            </a:r>
            <a:r>
              <a:rPr b="1" lang="en-US" sz="4400" spc="-1" strike="noStrike" baseline="-25000">
                <a:solidFill>
                  <a:srgbClr val="76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760000"/>
                </a:solidFill>
                <a:latin typeface="Arial"/>
              </a:rPr>
              <a:t>(|x-2|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539640" y="1919160"/>
            <a:ext cx="3961080" cy="4102200"/>
          </a:xfrm>
          <a:prstGeom prst="rect">
            <a:avLst/>
          </a:prstGeom>
          <a:ln w="0">
            <a:noFill/>
          </a:ln>
        </p:spPr>
      </p:pic>
      <p:sp>
        <p:nvSpPr>
          <p:cNvPr id="103" name="Freeform 9"/>
          <p:cNvSpPr/>
          <p:nvPr/>
        </p:nvSpPr>
        <p:spPr>
          <a:xfrm>
            <a:off x="3203640" y="3429000"/>
            <a:ext cx="1152360" cy="1008000"/>
          </a:xfrm>
          <a:custGeom>
            <a:avLst/>
            <a:gdLst/>
            <a:ahLst/>
            <a:rect l="l" t="t" r="r" b="b"/>
            <a:pathLst>
              <a:path w="726" h="635">
                <a:moveTo>
                  <a:pt x="0" y="635"/>
                </a:moveTo>
                <a:cubicBezTo>
                  <a:pt x="0" y="555"/>
                  <a:pt x="1" y="476"/>
                  <a:pt x="46" y="408"/>
                </a:cubicBezTo>
                <a:cubicBezTo>
                  <a:pt x="91" y="340"/>
                  <a:pt x="159" y="295"/>
                  <a:pt x="272" y="227"/>
                </a:cubicBezTo>
                <a:cubicBezTo>
                  <a:pt x="385" y="159"/>
                  <a:pt x="651" y="38"/>
                  <a:pt x="726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1835280" y="3357720"/>
            <a:ext cx="1296720" cy="1079280"/>
          </a:xfrm>
          <a:custGeom>
            <a:avLst/>
            <a:gdLst/>
            <a:ahLst/>
            <a:rect l="l" t="t" r="r" b="b"/>
            <a:pathLst>
              <a:path w="817" h="680">
                <a:moveTo>
                  <a:pt x="817" y="680"/>
                </a:moveTo>
                <a:cubicBezTo>
                  <a:pt x="813" y="619"/>
                  <a:pt x="809" y="559"/>
                  <a:pt x="771" y="499"/>
                </a:cubicBezTo>
                <a:cubicBezTo>
                  <a:pt x="733" y="439"/>
                  <a:pt x="718" y="400"/>
                  <a:pt x="590" y="317"/>
                </a:cubicBezTo>
                <a:cubicBezTo>
                  <a:pt x="462" y="234"/>
                  <a:pt x="98" y="53"/>
                  <a:pt x="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643280" y="1947960"/>
            <a:ext cx="4032360" cy="400212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12"/>
          <p:cNvSpPr/>
          <p:nvPr/>
        </p:nvSpPr>
        <p:spPr>
          <a:xfrm>
            <a:off x="6912000" y="3213000"/>
            <a:ext cx="324000" cy="720720"/>
          </a:xfrm>
          <a:custGeom>
            <a:avLst/>
            <a:gdLst/>
            <a:ahLst/>
            <a:rect l="l" t="t" r="r" b="b"/>
            <a:pathLst>
              <a:path w="204" h="454">
                <a:moveTo>
                  <a:pt x="204" y="0"/>
                </a:moveTo>
                <a:cubicBezTo>
                  <a:pt x="196" y="102"/>
                  <a:pt x="189" y="204"/>
                  <a:pt x="159" y="272"/>
                </a:cubicBezTo>
                <a:cubicBezTo>
                  <a:pt x="129" y="340"/>
                  <a:pt x="46" y="378"/>
                  <a:pt x="23" y="408"/>
                </a:cubicBezTo>
                <a:cubicBezTo>
                  <a:pt x="0" y="438"/>
                  <a:pt x="23" y="446"/>
                  <a:pt x="23" y="454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H="1" flipV="1">
            <a:off x="5940360" y="3357360"/>
            <a:ext cx="1008000" cy="50292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 flipV="1">
            <a:off x="7667640" y="3428640"/>
            <a:ext cx="792000" cy="431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5"/>
          <p:cNvSpPr/>
          <p:nvPr/>
        </p:nvSpPr>
        <p:spPr>
          <a:xfrm>
            <a:off x="7380360" y="321300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181" y="408"/>
                </a:moveTo>
                <a:cubicBezTo>
                  <a:pt x="128" y="374"/>
                  <a:pt x="75" y="340"/>
                  <a:pt x="45" y="272"/>
                </a:cubicBezTo>
                <a:cubicBezTo>
                  <a:pt x="15" y="204"/>
                  <a:pt x="7" y="102"/>
                  <a:pt x="0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>
            <a:hlinkClick r:id="rId3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Arial"/>
              </a:rPr>
              <a:t>Пример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араллельный перено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доль ос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на ед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3)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нверсия относительно оси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3851280" y="1268280"/>
                <a:ext cx="24494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1042920" y="2637000"/>
                <a:ext cx="1297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900000" y="3213000"/>
                <a:ext cx="12970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971640" y="3932280"/>
                <a:ext cx="1439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Line 10"/>
          <p:cNvSpPr/>
          <p:nvPr/>
        </p:nvSpPr>
        <p:spPr>
          <a:xfrm>
            <a:off x="395280" y="112536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395280" y="57340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8604360" y="112536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395280" y="98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 flipH="1">
            <a:off x="394920" y="112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7596360" y="2708280"/>
            <a:ext cx="7920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7669080" y="3429000"/>
            <a:ext cx="71928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7667640" y="4437000"/>
            <a:ext cx="79200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2">
            <a:hlinkClick r:id="rId1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900000" y="189000"/>
                <a:ext cx="2808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5400720" y="287280"/>
                <a:ext cx="273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4176720"/>
          </a:xfrm>
          <a:prstGeom prst="rect">
            <a:avLst/>
          </a:prstGeom>
          <a:ln w="0">
            <a:noFill/>
          </a:ln>
        </p:spPr>
      </p:pic>
      <p:sp>
        <p:nvSpPr>
          <p:cNvPr id="132" name="Freeform 10"/>
          <p:cNvSpPr/>
          <p:nvPr/>
        </p:nvSpPr>
        <p:spPr>
          <a:xfrm>
            <a:off x="2340000" y="2637000"/>
            <a:ext cx="1584360" cy="792000"/>
          </a:xfrm>
          <a:custGeom>
            <a:avLst/>
            <a:gdLst/>
            <a:ahLst/>
            <a:rect l="l" t="t" r="r" b="b"/>
            <a:pathLst>
              <a:path w="998" h="499">
                <a:moveTo>
                  <a:pt x="0" y="499"/>
                </a:moveTo>
                <a:cubicBezTo>
                  <a:pt x="7" y="427"/>
                  <a:pt x="15" y="355"/>
                  <a:pt x="181" y="272"/>
                </a:cubicBezTo>
                <a:cubicBezTo>
                  <a:pt x="347" y="189"/>
                  <a:pt x="862" y="45"/>
                  <a:pt x="99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032360" cy="4105440"/>
          </a:xfrm>
          <a:prstGeom prst="rect">
            <a:avLst/>
          </a:prstGeom>
          <a:ln w="0">
            <a:noFill/>
          </a:ln>
        </p:spPr>
      </p:pic>
      <p:sp>
        <p:nvSpPr>
          <p:cNvPr id="134" name="Freeform 12"/>
          <p:cNvSpPr/>
          <p:nvPr/>
        </p:nvSpPr>
        <p:spPr>
          <a:xfrm>
            <a:off x="6588000" y="2997360"/>
            <a:ext cx="1656000" cy="792000"/>
          </a:xfrm>
          <a:custGeom>
            <a:avLst/>
            <a:gdLst/>
            <a:ahLst/>
            <a:rect l="l" t="t" r="r" b="b"/>
            <a:pathLst>
              <a:path w="1043" h="499">
                <a:moveTo>
                  <a:pt x="0" y="499"/>
                </a:moveTo>
                <a:cubicBezTo>
                  <a:pt x="26" y="427"/>
                  <a:pt x="53" y="355"/>
                  <a:pt x="227" y="272"/>
                </a:cubicBezTo>
                <a:cubicBezTo>
                  <a:pt x="401" y="189"/>
                  <a:pt x="907" y="45"/>
                  <a:pt x="1043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>
            <a:hlinkClick r:id="rId3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611280" y="333360"/>
                <a:ext cx="3097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5003640" y="330120"/>
                <a:ext cx="30974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2360" cy="410544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9"/>
          <p:cNvSpPr/>
          <p:nvPr/>
        </p:nvSpPr>
        <p:spPr>
          <a:xfrm>
            <a:off x="2340000" y="3357720"/>
            <a:ext cx="1655640" cy="792000"/>
          </a:xfrm>
          <a:custGeom>
            <a:avLst/>
            <a:gdLst/>
            <a:ahLst/>
            <a:rect l="l" t="t" r="r" b="b"/>
            <a:pathLst>
              <a:path w="1043" h="499">
                <a:moveTo>
                  <a:pt x="0" y="499"/>
                </a:moveTo>
                <a:cubicBezTo>
                  <a:pt x="26" y="427"/>
                  <a:pt x="53" y="355"/>
                  <a:pt x="227" y="272"/>
                </a:cubicBezTo>
                <a:cubicBezTo>
                  <a:pt x="401" y="189"/>
                  <a:pt x="907" y="45"/>
                  <a:pt x="1043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961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Freeform 11"/>
          <p:cNvSpPr/>
          <p:nvPr/>
        </p:nvSpPr>
        <p:spPr>
          <a:xfrm>
            <a:off x="6588000" y="4149720"/>
            <a:ext cx="289080" cy="863640"/>
          </a:xfrm>
          <a:custGeom>
            <a:avLst/>
            <a:gdLst/>
            <a:ahLst/>
            <a:rect l="l" t="t" r="r" b="b"/>
            <a:pathLst>
              <a:path w="182" h="544">
                <a:moveTo>
                  <a:pt x="0" y="0"/>
                </a:moveTo>
                <a:cubicBezTo>
                  <a:pt x="53" y="67"/>
                  <a:pt x="106" y="135"/>
                  <a:pt x="136" y="226"/>
                </a:cubicBezTo>
                <a:cubicBezTo>
                  <a:pt x="166" y="317"/>
                  <a:pt x="174" y="430"/>
                  <a:pt x="182" y="5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2"/>
          <p:cNvSpPr/>
          <p:nvPr/>
        </p:nvSpPr>
        <p:spPr>
          <a:xfrm>
            <a:off x="6948360" y="2205000"/>
            <a:ext cx="1584360" cy="1511280"/>
          </a:xfrm>
          <a:custGeom>
            <a:avLst/>
            <a:gdLst/>
            <a:ahLst/>
            <a:rect l="l" t="t" r="r" b="b"/>
            <a:pathLst>
              <a:path w="998" h="952">
                <a:moveTo>
                  <a:pt x="0" y="0"/>
                </a:moveTo>
                <a:cubicBezTo>
                  <a:pt x="30" y="140"/>
                  <a:pt x="61" y="280"/>
                  <a:pt x="91" y="363"/>
                </a:cubicBezTo>
                <a:cubicBezTo>
                  <a:pt x="121" y="446"/>
                  <a:pt x="128" y="446"/>
                  <a:pt x="181" y="499"/>
                </a:cubicBezTo>
                <a:cubicBezTo>
                  <a:pt x="234" y="552"/>
                  <a:pt x="302" y="612"/>
                  <a:pt x="408" y="680"/>
                </a:cubicBezTo>
                <a:cubicBezTo>
                  <a:pt x="514" y="748"/>
                  <a:pt x="718" y="862"/>
                  <a:pt x="816" y="907"/>
                </a:cubicBezTo>
                <a:cubicBezTo>
                  <a:pt x="914" y="952"/>
                  <a:pt x="968" y="945"/>
                  <a:pt x="998" y="9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>
            <a:hlinkClick r:id="rId3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2840" y="1268280"/>
            <a:ext cx="843588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строить графики функ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РИАНТ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РИАНТ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=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;y=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№2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Y=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(|x-3|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1332000" y="2781360"/>
                <a:ext cx="2663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Line 10"/>
          <p:cNvSpPr/>
          <p:nvPr/>
        </p:nvSpPr>
        <p:spPr>
          <a:xfrm>
            <a:off x="428472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0" y="27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1476360" y="4073400"/>
                <a:ext cx="15829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4" name="Picture 14" descr="j0299125"/>
          <p:cNvPicPr/>
          <p:nvPr/>
        </p:nvPicPr>
        <p:blipFill>
          <a:blip r:embed="rId1"/>
          <a:stretch/>
        </p:blipFill>
        <p:spPr>
          <a:xfrm>
            <a:off x="179280" y="5373720"/>
            <a:ext cx="905040" cy="14842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6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7560" y="2995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АРИАНТ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                         №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0030301"/>
          <p:cNvPicPr/>
          <p:nvPr/>
        </p:nvPicPr>
        <p:blipFill>
          <a:blip r:embed="rId1"/>
          <a:stretch/>
        </p:blipFill>
        <p:spPr>
          <a:xfrm>
            <a:off x="5076720" y="2924280"/>
            <a:ext cx="3324240" cy="332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0030105"/>
          <p:cNvPicPr/>
          <p:nvPr/>
        </p:nvPicPr>
        <p:blipFill>
          <a:blip r:embed="rId2"/>
          <a:stretch/>
        </p:blipFill>
        <p:spPr>
          <a:xfrm>
            <a:off x="539640" y="285264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4643280" y="1484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949640" y="1628640"/>
            <a:ext cx="34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АРИАНТ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324000" y="2205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324000" y="1484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>
            <a:hlinkClick r:id="rId3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7560" y="2995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АРИАНТ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                        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4643280" y="1484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949640" y="1628640"/>
            <a:ext cx="31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АРИАНТ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324000" y="2205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324000" y="1484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333600" cy="3305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3353040" cy="34192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4">
            <a:hlinkClick r:id="rId3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мер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имер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5219640" y="1341360"/>
          <a:ext cx="276084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341360"/>
                    <a:ext cx="276084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8"/>
          <p:cNvGraphicFramePr/>
          <p:nvPr/>
        </p:nvGraphicFramePr>
        <p:xfrm>
          <a:off x="971640" y="3930480"/>
          <a:ext cx="28796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930480"/>
                    <a:ext cx="28796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AutoShape 10">
            <a:hlinkClick r:id="rId7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тематическая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771640" y="4436640"/>
            <a:ext cx="3996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ов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6804000" y="3357000"/>
            <a:ext cx="1835280" cy="1035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1655640" cy="1150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4"/>
          <a:stretch/>
        </p:blipFill>
        <p:spPr>
          <a:xfrm>
            <a:off x="2987640" y="0"/>
            <a:ext cx="1568520" cy="1082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j0216858"/>
          <p:cNvPicPr/>
          <p:nvPr/>
        </p:nvPicPr>
        <p:blipFill>
          <a:blip r:embed="rId5"/>
          <a:stretch/>
        </p:blipFill>
        <p:spPr>
          <a:xfrm>
            <a:off x="5867280" y="476280"/>
            <a:ext cx="2808360" cy="1265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9">
            <a:hlinkClick r:id="rId6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иг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гонка рассчитана на трех игроков, или на три кома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того, как каждый игрок выбрал свою машинку, учитель засекает время. И гонка начинает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й гонке предложено пройти три эта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прохождения всех этапов, игрок затративший меньше всех времени, объявляется победителем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j0301252"/>
          <p:cNvPicPr/>
          <p:nvPr/>
        </p:nvPicPr>
        <p:blipFill>
          <a:blip r:embed="rId2"/>
          <a:stretch/>
        </p:blipFill>
        <p:spPr>
          <a:xfrm>
            <a:off x="6300720" y="404640"/>
            <a:ext cx="1333440" cy="114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Object 5"/>
          <p:cNvGraphicFramePr/>
          <p:nvPr/>
        </p:nvGraphicFramePr>
        <p:xfrm>
          <a:off x="6804000" y="5651640"/>
          <a:ext cx="91584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5651640"/>
                    <a:ext cx="9158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6" descr="j0216858"/>
          <p:cNvPicPr/>
          <p:nvPr/>
        </p:nvPicPr>
        <p:blipFill>
          <a:blip r:embed="rId5"/>
          <a:stretch/>
        </p:blipFill>
        <p:spPr>
          <a:xfrm>
            <a:off x="2916360" y="5229360"/>
            <a:ext cx="1827000" cy="833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j0234131"/>
          <p:cNvPicPr/>
          <p:nvPr/>
        </p:nvPicPr>
        <p:blipFill>
          <a:blip r:embed="rId6"/>
          <a:stretch/>
        </p:blipFill>
        <p:spPr>
          <a:xfrm>
            <a:off x="7667640" y="2492280"/>
            <a:ext cx="743040" cy="7905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rId7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116000" y="333360"/>
            <a:ext cx="698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2700000"/>
                </a:gradFill>
                <a:latin typeface="Arial"/>
              </a:rPr>
              <a:t>графики функций и их свойст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47" name="Text Box 8">
            <a:hlinkClick r:id="rId1" action="ppaction://hlinksldjump"/>
          </p:cNvPr>
          <p:cNvSpPr/>
          <p:nvPr/>
        </p:nvSpPr>
        <p:spPr>
          <a:xfrm>
            <a:off x="900000" y="50068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вые как траектория движения т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>
            <a:hlinkClick r:id="rId2" action="ppaction://hlinksldjump"/>
          </p:cNvPr>
          <p:cNvSpPr/>
          <p:nvPr/>
        </p:nvSpPr>
        <p:spPr>
          <a:xfrm>
            <a:off x="900000" y="54388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Математическ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Jac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>
            <a:hlinkClick r:id="rId3" action="ppaction://hlinksldjump"/>
          </p:cNvPr>
          <p:cNvSpPr/>
          <p:nvPr/>
        </p:nvSpPr>
        <p:spPr>
          <a:xfrm>
            <a:off x="900000" y="21985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и их свойства 7-8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>
            <a:hlinkClick r:id="rId4" action="ppaction://hlinksldjump"/>
          </p:cNvPr>
          <p:cNvSpPr/>
          <p:nvPr/>
        </p:nvSpPr>
        <p:spPr>
          <a:xfrm>
            <a:off x="900000" y="256536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IX’S GRAPHIC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>
            <a:hlinkClick r:id="rId5" action="ppaction://hlinksldjump"/>
          </p:cNvPr>
          <p:cNvSpPr/>
          <p:nvPr/>
        </p:nvSpPr>
        <p:spPr>
          <a:xfrm>
            <a:off x="900000" y="31352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и их свойства 9-10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>
            <a:hlinkClick r:id="rId6" action="ppaction://hlinksldjump"/>
          </p:cNvPr>
          <p:cNvSpPr/>
          <p:nvPr/>
        </p:nvSpPr>
        <p:spPr>
          <a:xfrm>
            <a:off x="900000" y="40705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и их свойства 11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>
            <a:hlinkClick r:id="rId7" action="ppaction://hlinksldjump"/>
          </p:cNvPr>
          <p:cNvSpPr/>
          <p:nvPr/>
        </p:nvSpPr>
        <p:spPr>
          <a:xfrm>
            <a:off x="900000" y="350208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Игра график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>
            <a:hlinkClick r:id="rId8" action="ppaction://hlinksldjump"/>
          </p:cNvPr>
          <p:cNvSpPr/>
          <p:nvPr/>
        </p:nvSpPr>
        <p:spPr>
          <a:xfrm>
            <a:off x="900000" y="45021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Математическая гонка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>
            <a:hlinkClick r:id="rId9" action="ppaction://hlinksldjump"/>
          </p:cNvPr>
          <p:cNvSpPr/>
          <p:nvPr/>
        </p:nvSpPr>
        <p:spPr>
          <a:xfrm>
            <a:off x="900000" y="16956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>
            <a:hlinkClick r:id="rId10" action="ppaction://hlinksldjump"/>
          </p:cNvPr>
          <p:cNvSpPr/>
          <p:nvPr/>
        </p:nvSpPr>
        <p:spPr>
          <a:xfrm>
            <a:off x="900000" y="59421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до выбрать одну машин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Organization Chart 3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98" name="_s1028"/>
            <p:cNvCxnSpPr>
              <a:stCxn id="199" idx="0"/>
              <a:endCxn id="200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029"/>
            <p:cNvCxnSpPr>
              <a:stCxn id="202" idx="0"/>
              <a:endCxn id="200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030"/>
            <p:cNvCxnSpPr>
              <a:stCxn id="204" idx="0"/>
              <a:endCxn id="200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0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6900" spc="-1" strike="noStrike">
                  <a:solidFill>
                    <a:srgbClr val="000000"/>
                  </a:solidFill>
                  <a:latin typeface="Arial"/>
                </a:rPr>
                <a:t> этап</a:t>
              </a:r>
              <a:endParaRPr b="0" lang="en-US" sz="6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1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85440" y="4505040"/>
              <a:ext cx="1997640" cy="13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3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492720" y="4437720"/>
              <a:ext cx="1924200" cy="13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4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659640" y="4654080"/>
              <a:ext cx="1598760" cy="107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Picture 15" descr="j0234131"/>
          <p:cNvPicPr/>
          <p:nvPr/>
        </p:nvPicPr>
        <p:blipFill>
          <a:blip r:embed="rId7"/>
          <a:stretch/>
        </p:blipFill>
        <p:spPr>
          <a:xfrm>
            <a:off x="6227640" y="1989000"/>
            <a:ext cx="18082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к какой функции   принадлежат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836640"/>
          <a:ext cx="7993080" cy="455940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 определения:            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 значений                                                                     (0;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ность, нечетность:                                                 Функция не является  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ной, ни нече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лей                                                                                             н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ток знакопостоянства :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 пр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тки моното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0&lt; а&lt;1  функция убывает п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а&gt;1 функция возрастает при                               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тремумов                                                                                  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 функции проходит через точку                                    (0;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мптот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Line 25"/>
          <p:cNvSpPr/>
          <p:nvPr/>
        </p:nvSpPr>
        <p:spPr>
          <a:xfrm flipV="1">
            <a:off x="5076720" y="83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1763640" y="5084640"/>
            <a:ext cx="1727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1258920" y="5950080"/>
            <a:ext cx="17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8">
            <a:hlinkClick r:id="rId2" action="ppaction://hlinksldjump"/>
          </p:cNvPr>
          <p:cNvSpPr/>
          <p:nvPr/>
        </p:nvSpPr>
        <p:spPr>
          <a:xfrm>
            <a:off x="3132000" y="6021360"/>
            <a:ext cx="26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логарифм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6372360" y="595008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каз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6537240" y="6188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1"/>
          <p:cNvSpPr/>
          <p:nvPr/>
        </p:nvSpPr>
        <p:spPr>
          <a:xfrm>
            <a:off x="1547640" y="595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2"/>
          <p:cNvSpPr/>
          <p:nvPr/>
        </p:nvSpPr>
        <p:spPr>
          <a:xfrm>
            <a:off x="2843280" y="595008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3"/>
          <p:cNvSpPr/>
          <p:nvPr/>
        </p:nvSpPr>
        <p:spPr>
          <a:xfrm>
            <a:off x="5867280" y="595008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79280" y="1052640"/>
          <a:ext cx="8496360" cy="4479840"/>
        </p:xfrm>
        <a:graphic>
          <a:graphicData uri="http://schemas.openxmlformats.org/drawingml/2006/table">
            <a:tbl>
              <a:tblPr/>
              <a:tblGrid>
                <a:gridCol w="3273480"/>
                <a:gridCol w="2631960"/>
                <a:gridCol w="259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&gt;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&lt;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 значени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ность, нечетнос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не является ни четной, ни нечет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л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лей 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ток знакопостоянства 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тки моното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возрастает пр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є [0;∞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убывает при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є (0;∞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трему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 функции проходит через точк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0), (1;1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;1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мпт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=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144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к какой функции   принадлежат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0"/>
          <p:cNvSpPr/>
          <p:nvPr/>
        </p:nvSpPr>
        <p:spPr>
          <a:xfrm flipV="1" rot="10800000">
            <a:off x="1763640" y="537264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1258920" y="6021360"/>
            <a:ext cx="17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2">
            <a:hlinkClick r:id="rId2" action="ppaction://hlinksldjump"/>
          </p:cNvPr>
          <p:cNvSpPr/>
          <p:nvPr/>
        </p:nvSpPr>
        <p:spPr>
          <a:xfrm>
            <a:off x="3132000" y="6021360"/>
            <a:ext cx="26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логарифм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3"/>
          <p:cNvSpPr/>
          <p:nvPr/>
        </p:nvSpPr>
        <p:spPr>
          <a:xfrm>
            <a:off x="6372360" y="595008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каз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4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5"/>
          <p:cNvSpPr/>
          <p:nvPr/>
        </p:nvSpPr>
        <p:spPr>
          <a:xfrm>
            <a:off x="2916360" y="6021360"/>
            <a:ext cx="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6"/>
          <p:cNvSpPr/>
          <p:nvPr/>
        </p:nvSpPr>
        <p:spPr>
          <a:xfrm>
            <a:off x="5940360" y="6021360"/>
            <a:ext cx="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к какой функции   принадлежат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763640" y="5084640"/>
            <a:ext cx="1727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332000" y="6021360"/>
            <a:ext cx="17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>
            <a:hlinkClick r:id="rId2" action="ppaction://hlinksldjump"/>
          </p:cNvPr>
          <p:cNvSpPr/>
          <p:nvPr/>
        </p:nvSpPr>
        <p:spPr>
          <a:xfrm>
            <a:off x="3132000" y="6021360"/>
            <a:ext cx="26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логарифм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6372360" y="595008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каз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37240" y="6188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1547640" y="595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2843280" y="595008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5867280" y="595008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68280"/>
          <a:ext cx="8351640" cy="4168800"/>
        </p:xfrm>
        <a:graphic>
          <a:graphicData uri="http://schemas.openxmlformats.org/drawingml/2006/table">
            <a:tbl>
              <a:tblPr/>
              <a:tblGrid>
                <a:gridCol w="3089160"/>
                <a:gridCol w="2598840"/>
                <a:gridCol w="182520"/>
                <a:gridCol w="2481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&lt;a&lt;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 определ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нос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четность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не является ни четной , ни нечет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=0 п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=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=0 п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=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ток знакопостоян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0 пр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є (0;1),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 пр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є (1; 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0 пр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є (1; ∞)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 пр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є (0;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тки моното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убывает при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є (0;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возрастает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є (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трему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 функции проходит через точк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0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0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мпт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84720" y="5805000"/>
            <a:ext cx="25927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чать снач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68360" y="5661000"/>
            <a:ext cx="1440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468360" y="0"/>
            <a:ext cx="4537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2" name="Picture 5" descr="j0278882"/>
          <p:cNvPicPr/>
          <p:nvPr/>
        </p:nvPicPr>
        <p:blipFill>
          <a:blip r:embed="rId3"/>
          <a:stretch/>
        </p:blipFill>
        <p:spPr>
          <a:xfrm>
            <a:off x="2987640" y="2060640"/>
            <a:ext cx="475128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84720" y="5805000"/>
            <a:ext cx="25927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чать снач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68360" y="5661000"/>
            <a:ext cx="1440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468360" y="0"/>
            <a:ext cx="4537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6" name="Picture 5" descr="j0278882"/>
          <p:cNvPicPr/>
          <p:nvPr/>
        </p:nvPicPr>
        <p:blipFill>
          <a:blip r:embed="rId3"/>
          <a:stretch/>
        </p:blipFill>
        <p:spPr>
          <a:xfrm>
            <a:off x="2987640" y="2060640"/>
            <a:ext cx="475128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84720" y="5805000"/>
            <a:ext cx="25927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чать снач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68360" y="5661000"/>
            <a:ext cx="1440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468360" y="0"/>
            <a:ext cx="4537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0" name="Picture 5" descr="j0278882"/>
          <p:cNvPicPr/>
          <p:nvPr/>
        </p:nvPicPr>
        <p:blipFill>
          <a:blip r:embed="rId3"/>
          <a:stretch/>
        </p:blipFill>
        <p:spPr>
          <a:xfrm>
            <a:off x="2987640" y="1989000"/>
            <a:ext cx="475128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72000" y="4221000"/>
            <a:ext cx="2484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ап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708360" y="260280"/>
            <a:ext cx="1513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7021440" y="6093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7885080" y="5867280"/>
          <a:ext cx="91116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85080" y="5867280"/>
                    <a:ext cx="911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6732720" y="4724280"/>
            <a:ext cx="1850760" cy="10479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0" y="3716280"/>
            <a:ext cx="15127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08 0.00601 C -0.1125 0.00532 -0.12274 0.00509 -0.13316 0.00416 C -0.14687 0.00277 -0.16059 -0.02199 -0.1684 -0.03542 C -0.16996 -0.04121 -0.17222 -0.04584 -0.17378 -0.05162 C -0.17274 -0.07524 -0.17483 -0.07917 -0.16701 -0.09491 C -0.16476 -0.10996 -0.15833 -0.12408 -0.1467 -0.12917 C -0.14045 -0.1375 -0.13177 -0.14352 -0.12378 -0.14885 C -0.11701 -0.15324 -0.11371 -0.16366 -0.10625 -0.1669 C -0.09931 -0.16991 -0.1026 -0.16806 -0.0941 -0.17593 C -0.08819 -0.18149 -0.08142 -0.18982 -0.07517 -0.19399 C -0.07153 -0.1963 -0.06424 -0.20116 -0.06424 -0.20116 C -0.0599 -0.21019 -0.05295 -0.21459 -0.0467 -0.22107 C -0.04618 -0.22292 -0.04635 -0.225 -0.04531 -0.22639 C -0.04253 -0.2301 -0.03594 -0.23542 -0.03594 -0.23542 C -0.03003 -0.25047 -0.02413 -0.26505 -0.0184 -0.28033 C -0.01684 -0.28473 -0.01493 -0.28889 -0.01302 -0.29306 C -0.01128 -0.29676 -0.00746 -0.30394 -0.00746 -0.30394 C -0.0059 -0.31065 -0.00365 -0.31598 -0.00087 -0.32176 C 0.00122 -0.33519 0.00677 -0.34514 0.01007 -0.35787 C 0.0092 -0.39329 0.01129 -0.4301 -0.00087 -0.4625 C -0.00399 -0.48125 0.00035 -0.45926 -0.00486 -0.475 C -0.00642 -0.4794 -0.00573 -0.48496 -0.00746 -0.48936 C -0.00885 -0.49329 -0.01302 -0.50024 -0.01302 -0.50024 C -0.01545 -0.51482 -0.01198 -0.50139 -0.0184 -0.51112 C -0.02986 -0.52848 -0.01858 -0.5169 -0.02778 -0.52547 C -0.03194 -0.53334 -0.03681 -0.53982 -0.04271 -0.54537 C -0.04566 -0.55162 -0.04896 -0.55556 -0.05347 -0.55973 C -0.05816 -0.56875 -0.06562 -0.57524 -0.0724 -0.58125 C -0.07674 -0.58496 -0.08733 -0.58681 -0.08733 -0.58681 C -0.13455 -0.58519 -0.1283 -0.58658 -0.15625 -0.58125 C -0.15903 -0.5757 -0.16215 -0.57338 -0.16562 -0.56875 E">
                                      <p:cBhvr>
                                        <p:cTn id="160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72000" y="4221000"/>
            <a:ext cx="2484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ап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708360" y="260280"/>
            <a:ext cx="1513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878520" y="6021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7885080" y="5867280"/>
          <a:ext cx="911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85080" y="5867280"/>
                    <a:ext cx="911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6" descr=""/>
          <p:cNvPicPr/>
          <p:nvPr/>
        </p:nvPicPr>
        <p:blipFill>
          <a:blip r:embed="rId5"/>
          <a:stretch/>
        </p:blipFill>
        <p:spPr>
          <a:xfrm>
            <a:off x="6372360" y="4724280"/>
            <a:ext cx="1873080" cy="1089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3716280"/>
            <a:ext cx="15127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4 0.02986 C -0.16424 0.0375 -0.13212 0.03333 -0.24393 0.02986 C -0.25643 0.0294 -0.27118 0.01481 -0.28316 0.01018 C -0.2875 0.00602 -0.29028 0.00162 -0.29532 -0.0007 C -0.30157 -0.00903 -0.30712 -0.01435 -0.31007 -0.02593 C -0.30921 -0.03565 -0.30782 -0.04514 -0.30747 -0.05486 C -0.30747 -0.05672 -0.30868 -0.05834 -0.30868 -0.06019 C -0.30868 -0.07269 -0.30747 -0.08496 -0.29792 -0.08912 C -0.29497 -0.10047 -0.29914 -0.08912 -0.29115 -0.0963 C -0.28976 -0.09746 -0.28959 -0.10023 -0.28855 -0.10162 C -0.28525 -0.10602 -0.28073 -0.11042 -0.27639 -0.1125 C -0.27466 -0.11435 -0.27309 -0.11644 -0.27101 -0.11783 C -0.26841 -0.11945 -0.26285 -0.12153 -0.26285 -0.12153 C -0.25764 -0.12685 -0.25157 -0.13102 -0.24532 -0.13403 C -0.23542 -0.14676 -0.24723 -0.13334 -0.23577 -0.14121 C -0.23368 -0.1426 -0.23247 -0.14537 -0.23039 -0.14676 C -0.22396 -0.15093 -0.21563 -0.15463 -0.20868 -0.15741 C -0.20191 -0.16366 -0.19514 -0.16991 -0.18716 -0.17199 C -0.18577 -0.17315 -0.18473 -0.17477 -0.18316 -0.17547 C -0.18108 -0.17662 -0.17848 -0.17593 -0.17639 -0.17732 C -0.17466 -0.17848 -0.17379 -0.18125 -0.17223 -0.18264 C -0.16754 -0.18704 -0.1625 -0.18704 -0.15747 -0.18982 C -0.14549 -0.19653 -0.15816 -0.18982 -0.14792 -0.19885 C -0.14306 -0.20324 -0.13698 -0.2044 -0.13178 -0.20787 C -0.12743 -0.21088 -0.12431 -0.2132 -0.11962 -0.21505 C -0.11285 -0.22107 -0.10573 -0.22824 -0.09792 -0.23125 C -0.09011 -0.23843 -0.08091 -0.24283 -0.07362 -0.25116 C -0.06684 -0.2588 -0.06094 -0.26806 -0.0533 -0.27454 C -0.04723 -0.28565 -0.04046 -0.30116 -0.03178 -0.3088 C -0.03004 -0.31574 -0.029 -0.31898 -0.02362 -0.32153 C -0.01459 -0.34005 -0.02813 -0.31389 -0.01684 -0.33056 C -0.01164 -0.3382 -0.00712 -0.34792 -0.00209 -0.35579 C 0.00208 -0.3625 0.00746 -0.36852 0.01145 -0.37547 C 0.01527 -0.38218 0.01475 -0.38982 0.01684 -0.39723 C 0.01822 -0.40209 0.02013 -0.40556 0.02239 -0.40973 C 0.02725 -0.45301 0.03316 -0.52477 0.00468 -0.56111 C 0.00243 -0.57084 -0.00243 -0.57361 -0.00868 -0.57917 C -0.01303 -0.5831 -0.01216 -0.58565 -0.01684 -0.5882 C -0.02709 -0.59398 -0.03872 -0.59584 -0.04931 -0.6007 C -0.06737 -0.59977 -0.08542 -0.6007 -0.1033 -0.59723 C -0.10608 -0.59676 -0.10903 -0.5956 -0.11146 -0.59352 C -0.11285 -0.59236 -0.11389 -0.59028 -0.11546 -0.58982 C -0.11945 -0.58889 -0.12362 -0.58982 -0.12761 -0.58982 E">
                                      <p:cBhvr>
                                        <p:cTn id="166" dur="5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372000" y="4221000"/>
            <a:ext cx="2484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ап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j0212957"/>
          <p:cNvPicPr/>
          <p:nvPr/>
        </p:nvPicPr>
        <p:blipFill>
          <a:blip r:embed="rId1"/>
          <a:stretch/>
        </p:blipFill>
        <p:spPr>
          <a:xfrm>
            <a:off x="6588000" y="479736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3708360" y="260280"/>
            <a:ext cx="1513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7021440" y="5877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6"/>
          <p:cNvGraphicFramePr/>
          <p:nvPr/>
        </p:nvGraphicFramePr>
        <p:xfrm>
          <a:off x="7885080" y="5867280"/>
          <a:ext cx="911160" cy="99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85080" y="5867280"/>
                    <a:ext cx="911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7"/>
          <p:cNvSpPr/>
          <p:nvPr/>
        </p:nvSpPr>
        <p:spPr>
          <a:xfrm>
            <a:off x="0" y="3716280"/>
            <a:ext cx="15127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18 -0.00115 C -0.1191 -0.00324 -0.1323 -0.00787 -0.14862 -0.01898 C -0.15799 -0.02546 -0.16511 -0.03912 -0.17518 -0.04328 C -0.18039 -0.05393 -0.18334 -0.06527 -0.19028 -0.07453 C -0.19254 -0.08426 -0.19723 -0.09213 -0.20018 -0.10115 C -0.20452 -0.11435 -0.20573 -0.12893 -0.21181 -0.1412 C -0.21563 -0.16018 -0.21476 -0.16805 -0.21355 -0.19004 C -0.21198 -0.21759 -0.21303 -0.23889 -0.19185 -0.24768 C -0.18612 -0.25578 -0.19115 -0.25046 -0.18021 -0.25439 C -0.17171 -0.2574 -0.16355 -0.26203 -0.15521 -0.26551 C -0.15035 -0.26759 -0.14254 -0.27222 -0.13855 -0.27662 C -0.13664 -0.2787 -0.13542 -0.28148 -0.13351 -0.28333 C -0.13212 -0.28472 -0.13004 -0.28449 -0.12848 -0.28564 C -0.12674 -0.2868 -0.12518 -0.28865 -0.12362 -0.29004 C -0.11858 -0.30972 -0.10608 -0.32129 -0.09357 -0.33217 C -0.08107 -0.34305 -0.09635 -0.33611 -0.08194 -0.3412 C -0.07968 -0.34977 -0.07499 -0.35254 -0.07013 -0.35879 C -0.06962 -0.36111 -0.06962 -0.36365 -0.06857 -0.36551 C -0.06562 -0.3706 -0.0585 -0.37893 -0.0585 -0.37893 C -0.05798 -0.38125 -0.05781 -0.38356 -0.05694 -0.38564 C -0.05607 -0.3875 -0.05347 -0.38796 -0.05347 -0.39004 C -0.05208 -0.49259 -0.04704 -0.48078 -0.06024 -0.53449 C -0.06145 -0.53958 -0.06562 -0.54259 -0.06684 -0.54768 C -0.07083 -0.56342 -0.08143 -0.57222 -0.09184 -0.57893 C -0.0967 -0.58194 -0.10191 -0.58333 -0.10695 -0.58564 C -0.10851 -0.58634 -0.11181 -0.58773 -0.11181 -0.58773 C -0.12535 -0.60486 -0.11372 -0.59213 -0.15695 -0.59213 E">
                                      <p:cBhvr>
                                        <p:cTn id="172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Логарифмическая функция </a:t>
            </a:r>
            <a:br>
              <a:rPr sz="4000"/>
            </a:b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Y</a:t>
            </a: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log</a:t>
            </a:r>
            <a:r>
              <a:rPr b="1" i="1" lang="ru-RU" sz="4000" spc="-1" strike="noStrike" baseline="-25000">
                <a:solidFill>
                  <a:srgbClr val="993300"/>
                </a:solidFill>
                <a:latin typeface="Arial"/>
              </a:rPr>
              <a:t>а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x</a:t>
            </a: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, где а&gt;0, 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≠</a:t>
            </a: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272360" cy="4176720"/>
          </a:xfrm>
          <a:prstGeom prst="rect">
            <a:avLst/>
          </a:prstGeom>
          <a:ln w="0">
            <a:noFill/>
          </a:ln>
        </p:spPr>
      </p:pic>
      <p:sp>
        <p:nvSpPr>
          <p:cNvPr id="59" name="Freeform 7"/>
          <p:cNvSpPr/>
          <p:nvPr/>
        </p:nvSpPr>
        <p:spPr>
          <a:xfrm>
            <a:off x="1547640" y="2637000"/>
            <a:ext cx="4824720" cy="2087280"/>
          </a:xfrm>
          <a:custGeom>
            <a:avLst/>
            <a:gdLst/>
            <a:ahLst/>
            <a:rect l="l" t="t" r="r" b="b"/>
            <a:pathLst>
              <a:path w="3039" h="1315">
                <a:moveTo>
                  <a:pt x="0" y="1315"/>
                </a:moveTo>
                <a:cubicBezTo>
                  <a:pt x="147" y="1043"/>
                  <a:pt x="295" y="771"/>
                  <a:pt x="544" y="590"/>
                </a:cubicBezTo>
                <a:cubicBezTo>
                  <a:pt x="793" y="409"/>
                  <a:pt x="1142" y="318"/>
                  <a:pt x="1497" y="227"/>
                </a:cubicBezTo>
                <a:cubicBezTo>
                  <a:pt x="1852" y="136"/>
                  <a:pt x="2419" y="83"/>
                  <a:pt x="2676" y="45"/>
                </a:cubicBezTo>
                <a:cubicBezTo>
                  <a:pt x="2933" y="7"/>
                  <a:pt x="2979" y="7"/>
                  <a:pt x="3039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8"/>
          <p:cNvSpPr/>
          <p:nvPr/>
        </p:nvSpPr>
        <p:spPr>
          <a:xfrm>
            <a:off x="1619280" y="2421000"/>
            <a:ext cx="4753080" cy="2087640"/>
          </a:xfrm>
          <a:custGeom>
            <a:avLst/>
            <a:gdLst/>
            <a:ahLst/>
            <a:rect l="l" t="t" r="r" b="b"/>
            <a:pathLst>
              <a:path w="2994" h="1315">
                <a:moveTo>
                  <a:pt x="0" y="0"/>
                </a:moveTo>
                <a:cubicBezTo>
                  <a:pt x="140" y="280"/>
                  <a:pt x="280" y="560"/>
                  <a:pt x="454" y="726"/>
                </a:cubicBezTo>
                <a:cubicBezTo>
                  <a:pt x="628" y="892"/>
                  <a:pt x="621" y="900"/>
                  <a:pt x="1044" y="998"/>
                </a:cubicBezTo>
                <a:cubicBezTo>
                  <a:pt x="1467" y="1096"/>
                  <a:pt x="2669" y="1262"/>
                  <a:pt x="2994" y="131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обро пожаловать во втор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7669080" y="6237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j0291984"/>
          <p:cNvPicPr/>
          <p:nvPr/>
        </p:nvPicPr>
        <p:blipFill>
          <a:blip r:embed="rId2"/>
          <a:stretch/>
        </p:blipFill>
        <p:spPr>
          <a:xfrm>
            <a:off x="2268360" y="2924280"/>
            <a:ext cx="396108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бро пожаловать во втор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669080" y="6237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j0291984"/>
          <p:cNvPicPr/>
          <p:nvPr/>
        </p:nvPicPr>
        <p:blipFill>
          <a:blip r:embed="rId2"/>
          <a:stretch/>
        </p:blipFill>
        <p:spPr>
          <a:xfrm>
            <a:off x="2268360" y="2924280"/>
            <a:ext cx="396108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Добро пожаловать во втор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669080" y="6237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j0291984"/>
          <p:cNvPicPr/>
          <p:nvPr/>
        </p:nvPicPr>
        <p:blipFill>
          <a:blip r:embed="rId2"/>
          <a:stretch/>
        </p:blipFill>
        <p:spPr>
          <a:xfrm>
            <a:off x="2268360" y="2924280"/>
            <a:ext cx="396108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ь точку пересечения      графиков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афический спосо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762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067280" y="551664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) А(0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300720" y="5516640"/>
            <a:ext cx="144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3) А(2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08000" y="5516640"/>
            <a:ext cx="136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) А(1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979640" y="5229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97964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1979640" y="6237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774072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586728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6400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5"/>
          <p:cNvGraphicFramePr/>
          <p:nvPr/>
        </p:nvGraphicFramePr>
        <p:xfrm>
          <a:off x="4859280" y="1773360"/>
          <a:ext cx="2772000" cy="21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1773360"/>
                    <a:ext cx="277200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ь точку пересечения      графиков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афический спосо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54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6-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067280" y="551664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) А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4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6300720" y="5516640"/>
            <a:ext cx="144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А(2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908000" y="5516640"/>
            <a:ext cx="136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1) А(1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5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979640" y="5229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197964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1979640" y="6237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774072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3"/>
          <p:cNvSpPr/>
          <p:nvPr/>
        </p:nvSpPr>
        <p:spPr>
          <a:xfrm>
            <a:off x="586728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356400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15"/>
          <p:cNvGraphicFramePr/>
          <p:nvPr/>
        </p:nvGraphicFramePr>
        <p:xfrm>
          <a:off x="4859280" y="1773360"/>
          <a:ext cx="2772000" cy="2193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6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59280" y="1773360"/>
                    <a:ext cx="277200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ь точку пересечения      графиков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афический спосо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0384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</a:t>
            </a:r>
            <a:r>
              <a:rPr b="0" lang="en-US" sz="2800" spc="-1" strike="noStrike" baseline="52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4067280" y="551664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) А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6300720" y="5516640"/>
            <a:ext cx="144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3) А(2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1908000" y="5516640"/>
            <a:ext cx="136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1) А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5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1979640" y="5229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0"/>
          <p:cNvSpPr/>
          <p:nvPr/>
        </p:nvSpPr>
        <p:spPr>
          <a:xfrm>
            <a:off x="197964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1979640" y="6237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774072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586728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356400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5"/>
          <p:cNvGraphicFramePr/>
          <p:nvPr/>
        </p:nvGraphicFramePr>
        <p:xfrm>
          <a:off x="4859280" y="1773360"/>
          <a:ext cx="2772000" cy="2193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9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59280" y="1773360"/>
                    <a:ext cx="277200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372000" y="4221000"/>
            <a:ext cx="2484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ап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j0212957"/>
          <p:cNvPicPr/>
          <p:nvPr/>
        </p:nvPicPr>
        <p:blipFill>
          <a:blip r:embed="rId1"/>
          <a:stretch/>
        </p:blipFill>
        <p:spPr>
          <a:xfrm>
            <a:off x="5003640" y="907920"/>
            <a:ext cx="1830600" cy="11494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3708360" y="260280"/>
            <a:ext cx="1513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7021440" y="5877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6"/>
          <p:cNvGraphicFramePr/>
          <p:nvPr/>
        </p:nvGraphicFramePr>
        <p:xfrm>
          <a:off x="7885080" y="5867280"/>
          <a:ext cx="911160" cy="99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85080" y="5867280"/>
                    <a:ext cx="911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7"/>
          <p:cNvSpPr/>
          <p:nvPr/>
        </p:nvSpPr>
        <p:spPr>
          <a:xfrm>
            <a:off x="0" y="3716280"/>
            <a:ext cx="15127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C -0.00052 0.02755 -0.00052 0.05532 -0.00139 0.08287 C -0.00209 0.10324 -0.01476 0.14074 -0.02969 0.14768 C -0.03438 0.15671 -0.03906 0.1669 -0.04601 0.17292 C -0.05139 0.18403 -0.04531 0.17292 -0.05278 0.18194 C -0.06354 0.19491 -0.0625 0.19537 -0.0757 0.2 C -0.09879 0.22014 -0.18507 0.2125 -0.18924 0.2125 C -0.19514 0.21528 -0.20052 0.21667 -0.20677 0.21782 C -0.21111 0.22176 -0.2125 0.22639 -0.21754 0.2287 C -0.22934 0.24444 -0.23698 0.2581 -0.24184 0.27917 C -0.24115 0.29514 -0.24254 0.30486 -0.23646 0.31713 C -0.23438 0.32639 -0.23229 0.33333 -0.22709 0.34051 C -0.22361 0.35208 -0.21181 0.36713 -0.20399 0.37477 C -0.20035 0.38241 -0.2 0.39005 -0.1974 0.39815 C -0.19445 0.40787 -0.1908 0.41713 -0.18785 0.42685 C -0.18524 0.45092 -0.18542 0.47407 -0.20538 0.48102 C -0.21111 0.48657 -0.21754 0.49074 -0.22431 0.49352 C -0.2342 0.49305 -0.24427 0.49398 -0.25399 0.4919 C -0.25625 0.49143 -0.25747 0.48773 -0.25955 0.48634 C -0.26337 0.4838 -0.26788 0.48333 -0.2717 0.48102 C -0.275 0.47917 -0.27778 0.47569 -0.28108 0.47384 C -0.29705 0.46481 -0.31545 0.45856 -0.33247 0.45393 C -0.34705 0.44444 -0.3625 0.44305 -0.37847 0.44305 E">
                                      <p:cBhvr>
                                        <p:cTn id="178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72000" y="4221000"/>
            <a:ext cx="2484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ап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708360" y="260280"/>
            <a:ext cx="1513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7021440" y="5877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5"/>
          <p:cNvGraphicFramePr/>
          <p:nvPr/>
        </p:nvGraphicFramePr>
        <p:xfrm>
          <a:off x="7885080" y="5867280"/>
          <a:ext cx="911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85080" y="5867280"/>
                    <a:ext cx="911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5003640" y="765000"/>
            <a:ext cx="1924200" cy="1314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7"/>
          <p:cNvSpPr/>
          <p:nvPr/>
        </p:nvSpPr>
        <p:spPr>
          <a:xfrm>
            <a:off x="0" y="3716280"/>
            <a:ext cx="15127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0.00451 0.01759 -0.00243 -0.00973 0.0026 0.01273 C 0.00347 0.01643 0.00538 0.02337 0.00538 0.02337 C 0.00486 0.03912 0.00573 0.05486 0.00399 0.07037 C 0.0026 0.08171 -0.01389 0.09699 -0.02031 0.10277 C -0.02448 0.11111 -0.03524 0.11643 -0.04184 0.12083 C -0.0559 0.13032 -0.06962 0.13796 -0.08524 0.1405 C -0.09271 0.14398 -0.10035 0.14606 -0.10816 0.14768 C -0.12465 0.15532 -0.14219 0.15555 -0.15955 0.15671 C -0.16875 0.15856 -0.17726 0.16203 -0.18646 0.16388 C -0.19236 0.16921 -0.19844 0.17268 -0.20538 0.17476 C -0.2099 0.17615 -0.21893 0.17847 -0.21893 0.17847 C -0.22465 0.18333 -0.22986 0.18564 -0.23646 0.1875 C -0.24306 0.19189 -0.24931 0.19814 -0.25538 0.2037 C -0.26406 0.22592 -0.26077 0.23055 -0.25816 0.26666 C -0.25799 0.26944 -0.25278 0.28217 -0.25139 0.28472 C -0.24896 0.28865 -0.24323 0.2956 -0.24323 0.2956 C -0.24063 0.30879 -0.23073 0.31597 -0.22292 0.3243 C -0.21997 0.32754 -0.21667 0.33032 -0.21354 0.33333 C -0.21181 0.33518 -0.20816 0.33865 -0.20816 0.33865 C -0.2033 0.3493 -0.1967 0.35601 -0.18924 0.36388 C -0.18715 0.37245 -0.18368 0.38032 -0.17969 0.3875 C -0.17465 0.40925 -0.17448 0.40833 -0.17847 0.44513 C -0.17865 0.44722 -0.18125 0.44722 -0.18247 0.44861 C -0.18837 0.45532 -0.19219 0.46064 -0.2 0.46296 C -0.20938 0.47152 -0.20504 0.46898 -0.21215 0.47199 C -0.23577 0.49305 -0.26927 0.46712 -0.28924 0.44861 C -0.29236 0.44236 -0.29531 0.43842 -0.3 0.43425 C -0.30452 0.42569 -0.30903 0.42199 -0.31632 0.4199 C -0.32986 0.40717 -0.35434 0.41666 -0.37031 0.41805 C -0.39045 0.42152 -0.37743 0.4199 -0.40955 0.4199 E">
                                      <p:cBhvr>
                                        <p:cTn id="184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372000" y="4221000"/>
            <a:ext cx="2484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ап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3708360" y="260280"/>
            <a:ext cx="1513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7021440" y="5877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5"/>
          <p:cNvGraphicFramePr/>
          <p:nvPr/>
        </p:nvGraphicFramePr>
        <p:xfrm>
          <a:off x="7885080" y="5867280"/>
          <a:ext cx="911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85080" y="5867280"/>
                    <a:ext cx="911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6"/>
          <p:cNvSpPr/>
          <p:nvPr/>
        </p:nvSpPr>
        <p:spPr>
          <a:xfrm>
            <a:off x="0" y="3716280"/>
            <a:ext cx="15127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5"/>
          <a:stretch/>
        </p:blipFill>
        <p:spPr>
          <a:xfrm>
            <a:off x="5076720" y="836640"/>
            <a:ext cx="187164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0093 C 0.02013 0.01273 0.02066 0.02014 0.02569 0.02963 C 0.02864 0.06088 0.03871 0.10069 0.02031 0.12523 C 0.01805 0.1338 0.01215 0.13657 0.00677 0.14143 C 0.00138 0.15185 0.00746 0.14259 -0.00139 0.14861 C -0.01146 0.15555 -0.01077 0.15856 -0.02292 0.16134 C -0.03473 0.16898 -0.04219 0.17315 -0.05539 0.17569 C -0.07535 0.18495 -0.10348 0.18194 -0.12292 0.18287 C -0.13924 0.18449 -0.15521 0.18796 -0.17153 0.19005 C -0.17848 0.1919 -0.18559 0.19236 -0.19184 0.19722 C -0.19462 0.19954 -0.2 0.2044 -0.2 0.20463 C -0.20313 0.21667 -0.20764 0.22569 -0.20938 0.23843 C -0.2073 0.26088 -0.20869 0.26505 -0.20139 0.28009 C -0.20087 0.28264 -0.20105 0.28542 -0.2 0.2875 C -0.19879 0.28981 -0.18889 0.29954 -0.18646 0.30185 C -0.18073 0.31343 -0.18785 0.30023 -0.17709 0.31435 C -0.17101 0.32245 -0.175 0.32153 -0.16754 0.32893 C -0.16389 0.33264 -0.15938 0.33472 -0.15539 0.33773 C -0.154 0.34028 -0.15296 0.34305 -0.15139 0.34514 C -0.15018 0.34676 -0.1474 0.34653 -0.14723 0.34861 C -0.14636 0.36829 -0.14046 0.40625 -0.15678 0.42083 C -0.16303 0.43333 -0.17136 0.44282 -0.18247 0.44768 C -0.25816 0.44699 -0.40938 0.44583 -0.40938 0.44606 E">
                                      <p:cBhvr>
                                        <p:cTn id="190" dur="5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обро пожаловать в трети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669080" y="6237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j0291984"/>
          <p:cNvPicPr/>
          <p:nvPr/>
        </p:nvPicPr>
        <p:blipFill>
          <a:blip r:embed="rId2"/>
          <a:stretch/>
        </p:blipFill>
        <p:spPr>
          <a:xfrm>
            <a:off x="2268360" y="2924280"/>
            <a:ext cx="396108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4" descr=""/>
          <p:cNvPicPr/>
          <p:nvPr/>
        </p:nvPicPr>
        <p:blipFill>
          <a:blip r:embed="rId1"/>
          <a:stretch/>
        </p:blipFill>
        <p:spPr>
          <a:xfrm>
            <a:off x="0" y="0"/>
            <a:ext cx="4853160" cy="48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68360" y="1341360"/>
          <a:ext cx="7993080" cy="4427640"/>
        </p:xfrm>
        <a:graphic>
          <a:graphicData uri="http://schemas.openxmlformats.org/drawingml/2006/table">
            <a:tbl>
              <a:tblPr/>
              <a:tblGrid>
                <a:gridCol w="2957400"/>
                <a:gridCol w="2487600"/>
                <a:gridCol w="2548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0&lt;a&lt;1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&gt;1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ласть определения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0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;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0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;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ласть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R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тность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нечетность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Функция не является ни четной , ни нечет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у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У=0 при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x=1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=0 при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x=1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межуток знакопостоян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Y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&gt;0 при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є (0;1),  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y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&lt;0 при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є (1; 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Y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&gt;0 при 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є (1; ∞), 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y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&lt;0 при 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є (0;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межутки моното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Функция убывает при     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є (0;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Функция возрастает            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є (0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;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кстрему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н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ик функции проходит через точк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1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;0)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1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;0)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симпт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X=0</a:t>
                      </a: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X=0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9"/>
          <p:cNvSpPr/>
          <p:nvPr/>
        </p:nvSpPr>
        <p:spPr>
          <a:xfrm>
            <a:off x="324000" y="5985000"/>
            <a:ext cx="67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"/>
              </a:rPr>
              <a:t>Замечание. Логарифмическая и показательная функции с одним и тем ж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60000"/>
                </a:solidFill>
                <a:latin typeface="Arial"/>
              </a:rPr>
              <a:t>основанием а являются взаимно обратными функциями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3"/>
          <p:cNvSpPr txBox="1"/>
          <p:nvPr/>
        </p:nvSpPr>
        <p:spPr>
          <a:xfrm>
            <a:off x="1403280" y="46080"/>
            <a:ext cx="6650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70ea6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войства логарифмической функции.</a:t>
            </a:r>
            <a:endParaRPr b="0" lang="en-US" sz="1800" spc="1" strike="noStrike">
              <a:ln w="9360">
                <a:solidFill>
                  <a:srgbClr val="770ea6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6" name="AutoShape 57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бро пожаловать в трети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7669080" y="6237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j0291984"/>
          <p:cNvPicPr/>
          <p:nvPr/>
        </p:nvPicPr>
        <p:blipFill>
          <a:blip r:embed="rId2"/>
          <a:stretch/>
        </p:blipFill>
        <p:spPr>
          <a:xfrm>
            <a:off x="2268360" y="2924280"/>
            <a:ext cx="396108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Добро пожаловать в трети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669080" y="6237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j0291984"/>
          <p:cNvPicPr/>
          <p:nvPr/>
        </p:nvPicPr>
        <p:blipFill>
          <a:blip r:embed="rId2"/>
          <a:stretch/>
        </p:blipFill>
        <p:spPr>
          <a:xfrm>
            <a:off x="2268360" y="2924280"/>
            <a:ext cx="396108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ИТЬ И ОПРЕДЕЛИТЬ ТОЧКУ ПЕРЕСЕЧЕНИЯ ГРАФ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1652760"/>
            <a:ext cx="8163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|x-3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1476360" y="5850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А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3924360" y="5850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А(0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6804000" y="5850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 А(3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3059280" y="544500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6156360" y="544500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0" y="1700280"/>
            <a:ext cx="95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0" y="4076640"/>
            <a:ext cx="961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ИТЬ И ОПРЕДЕЛИТЬ ТОЧКУ ПЕРЕСЕЧЕНИЯ ГРАФ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5000" y="1652760"/>
            <a:ext cx="8163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|x-1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1476360" y="5850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А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3924360" y="5850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А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-2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804000" y="5850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) А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-2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3059280" y="544500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6156360" y="544500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0" y="1700280"/>
            <a:ext cx="95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0" y="4076640"/>
            <a:ext cx="961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ИТЬ И ОПРЕДЕЛИТЬ ТОЧКУ ПЕРЕСЕЧЕНИЯ ГРАФ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52760"/>
            <a:ext cx="8163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|x-4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476360" y="5850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А(1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3924360" y="5850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А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804000" y="5850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) А(1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059280" y="544500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6156360" y="544500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0"/>
          <p:cNvSpPr/>
          <p:nvPr/>
        </p:nvSpPr>
        <p:spPr>
          <a:xfrm>
            <a:off x="0" y="1700280"/>
            <a:ext cx="95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>
            <a:off x="0" y="4076640"/>
            <a:ext cx="961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и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95880" cy="35337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7237440" y="6165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3276720" y="3357720"/>
            <a:ext cx="187164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и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95880" cy="3533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7237440" y="6165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j0212957"/>
          <p:cNvPicPr/>
          <p:nvPr/>
        </p:nvPicPr>
        <p:blipFill>
          <a:blip r:embed="rId3"/>
          <a:stretch/>
        </p:blipFill>
        <p:spPr>
          <a:xfrm>
            <a:off x="3564000" y="33577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и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95880" cy="353376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5"/>
          <p:cNvSpPr/>
          <p:nvPr/>
        </p:nvSpPr>
        <p:spPr>
          <a:xfrm>
            <a:off x="7237440" y="6165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3"/>
          <a:stretch/>
        </p:blipFill>
        <p:spPr>
          <a:xfrm>
            <a:off x="3492360" y="3284640"/>
            <a:ext cx="192420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онец  иг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>
            <a:hlinkClick r:id="rId1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2"/>
          <p:cNvSpPr txBox="1"/>
          <p:nvPr/>
        </p:nvSpPr>
        <p:spPr>
          <a:xfrm>
            <a:off x="1116000" y="333360"/>
            <a:ext cx="698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2700000"/>
                </a:gradFill>
                <a:latin typeface="Arial"/>
              </a:rPr>
              <a:t>графики функций и их свойст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98" name="Text Box 3">
            <a:hlinkClick r:id="rId1" action="ppaction://hlinksldjump"/>
          </p:cNvPr>
          <p:cNvSpPr/>
          <p:nvPr/>
        </p:nvSpPr>
        <p:spPr>
          <a:xfrm>
            <a:off x="900000" y="50068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вые как траектория движения т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>
            <a:hlinkClick r:id="rId2" action="ppaction://hlinksldjump"/>
          </p:cNvPr>
          <p:cNvSpPr/>
          <p:nvPr/>
        </p:nvSpPr>
        <p:spPr>
          <a:xfrm>
            <a:off x="900000" y="54388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Математическ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Jac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>
            <a:hlinkClick r:id="rId3" action="ppaction://hlinksldjump"/>
          </p:cNvPr>
          <p:cNvSpPr/>
          <p:nvPr/>
        </p:nvSpPr>
        <p:spPr>
          <a:xfrm>
            <a:off x="900000" y="21985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и их свойства 7-8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>
            <a:hlinkClick r:id="rId4" action="ppaction://hlinksldjump"/>
          </p:cNvPr>
          <p:cNvSpPr/>
          <p:nvPr/>
        </p:nvSpPr>
        <p:spPr>
          <a:xfrm>
            <a:off x="900000" y="256536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IX’S GRAPHIC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>
            <a:hlinkClick r:id="rId5" action="ppaction://hlinksldjump"/>
          </p:cNvPr>
          <p:cNvSpPr/>
          <p:nvPr/>
        </p:nvSpPr>
        <p:spPr>
          <a:xfrm>
            <a:off x="900000" y="31352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и их свойства 9-10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>
            <a:hlinkClick r:id="rId6" action="ppaction://hlinksldjump"/>
          </p:cNvPr>
          <p:cNvSpPr/>
          <p:nvPr/>
        </p:nvSpPr>
        <p:spPr>
          <a:xfrm>
            <a:off x="900000" y="40705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и их свойства 11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>
            <a:hlinkClick r:id="rId7" action="ppaction://hlinksldjump"/>
          </p:cNvPr>
          <p:cNvSpPr/>
          <p:nvPr/>
        </p:nvSpPr>
        <p:spPr>
          <a:xfrm>
            <a:off x="900000" y="350208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Игра график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>
            <a:hlinkClick r:id="rId8" action="ppaction://hlinksldjump"/>
          </p:cNvPr>
          <p:cNvSpPr/>
          <p:nvPr/>
        </p:nvSpPr>
        <p:spPr>
          <a:xfrm>
            <a:off x="900000" y="45021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Математическая гонка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>
            <a:hlinkClick r:id="rId9" action="ppaction://hlinksldjump"/>
          </p:cNvPr>
          <p:cNvSpPr/>
          <p:nvPr/>
        </p:nvSpPr>
        <p:spPr>
          <a:xfrm>
            <a:off x="900000" y="16956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>
            <a:hlinkClick r:id="rId10" action="ppaction://hlinksldjump"/>
          </p:cNvPr>
          <p:cNvSpPr/>
          <p:nvPr/>
        </p:nvSpPr>
        <p:spPr>
          <a:xfrm>
            <a:off x="900000" y="59421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Показательная функция                                           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 Y</a:t>
            </a: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i="1" lang="en-US" sz="4000" spc="-1" strike="noStrike" baseline="30000">
                <a:solidFill>
                  <a:srgbClr val="993300"/>
                </a:solidFill>
                <a:latin typeface="Arial"/>
              </a:rPr>
              <a:t>x</a:t>
            </a: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, где 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a&gt;0, a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≠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920000" cy="4534200"/>
          </a:xfrm>
          <a:prstGeom prst="rect">
            <a:avLst/>
          </a:prstGeom>
          <a:ln w="0">
            <a:noFill/>
          </a:ln>
        </p:spPr>
      </p:pic>
      <p:sp>
        <p:nvSpPr>
          <p:cNvPr id="70" name="Freeform 8"/>
          <p:cNvSpPr/>
          <p:nvPr/>
        </p:nvSpPr>
        <p:spPr>
          <a:xfrm>
            <a:off x="2903400" y="3189240"/>
            <a:ext cx="3252960" cy="2327400"/>
          </a:xfrm>
          <a:custGeom>
            <a:avLst/>
            <a:gdLst/>
            <a:ahLst/>
            <a:rect l="l" t="t" r="r" b="b"/>
            <a:pathLst>
              <a:path w="2049" h="1466">
                <a:moveTo>
                  <a:pt x="2049" y="1466"/>
                </a:moveTo>
                <a:cubicBezTo>
                  <a:pt x="1659" y="1405"/>
                  <a:pt x="1270" y="1345"/>
                  <a:pt x="1051" y="1285"/>
                </a:cubicBezTo>
                <a:cubicBezTo>
                  <a:pt x="832" y="1225"/>
                  <a:pt x="846" y="1202"/>
                  <a:pt x="733" y="1104"/>
                </a:cubicBezTo>
                <a:cubicBezTo>
                  <a:pt x="620" y="1006"/>
                  <a:pt x="484" y="861"/>
                  <a:pt x="371" y="695"/>
                </a:cubicBezTo>
                <a:cubicBezTo>
                  <a:pt x="258" y="529"/>
                  <a:pt x="106" y="212"/>
                  <a:pt x="53" y="106"/>
                </a:cubicBezTo>
                <a:cubicBezTo>
                  <a:pt x="0" y="0"/>
                  <a:pt x="26" y="30"/>
                  <a:pt x="53" y="6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9"/>
          <p:cNvSpPr/>
          <p:nvPr/>
        </p:nvSpPr>
        <p:spPr>
          <a:xfrm>
            <a:off x="2700360" y="3021120"/>
            <a:ext cx="3540240" cy="2495520"/>
          </a:xfrm>
          <a:custGeom>
            <a:avLst/>
            <a:gdLst/>
            <a:ahLst/>
            <a:rect l="l" t="t" r="r" b="b"/>
            <a:pathLst>
              <a:path w="2230" h="1572">
                <a:moveTo>
                  <a:pt x="0" y="1572"/>
                </a:moveTo>
                <a:cubicBezTo>
                  <a:pt x="457" y="1545"/>
                  <a:pt x="914" y="1519"/>
                  <a:pt x="1224" y="1391"/>
                </a:cubicBezTo>
                <a:cubicBezTo>
                  <a:pt x="1534" y="1263"/>
                  <a:pt x="1700" y="1013"/>
                  <a:pt x="1859" y="801"/>
                </a:cubicBezTo>
                <a:cubicBezTo>
                  <a:pt x="2018" y="589"/>
                  <a:pt x="2124" y="242"/>
                  <a:pt x="2177" y="121"/>
                </a:cubicBezTo>
                <a:cubicBezTo>
                  <a:pt x="2230" y="0"/>
                  <a:pt x="2203" y="38"/>
                  <a:pt x="2177" y="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ривые как траектории движения т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250920" y="364500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ивые с древних времён привлекали к себе внимание учёных и использовались ими для описания различных природных явлений – от траектории брошенного камня до орбит космическ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5">
            <a:hlinkClick r:id="rId1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95280" y="1341360"/>
            <a:ext cx="84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ьном курсе математики из всего многообразия кривых рассматриваются только графики функций. При этом основное внимание уделяется их аналитическим свойствам, возрастанию, убыванию и т.п. Геометрические же свойства остаются в стороне даже для таких известных,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парабо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ербола и д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накомство с кривыми, изучение их свойств позволит расширить геометрическое представления, углубить знания, повысить интерес к геометрии, создаст содержательную основу для дальнейшего изучения математики, физики и других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урсе математики рассмотрены некоторые кривые, определяемые как геометрические места точек. Среди них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рабо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гипербол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предлагаем материал о кривых, которые не рассматриваются при проведении такого ку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">
            <a:hlinkClick r:id="rId1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50920" y="1125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смотрим кинематический способ образования кривых, при котором кривая получается как траектория движения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усть окружность радиус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катится по прямой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; С-точка, закреплённая на окружности, в начальный момент времени находящаяся в положени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79280" y="5300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вая которую описывает точка, закреплённая на окружности, катящейся без скольжения по прямой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ои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Безымянный"/>
          <p:cNvPicPr/>
          <p:nvPr/>
        </p:nvPicPr>
        <p:blipFill>
          <a:blip r:embed="rId1"/>
          <a:stretch/>
        </p:blipFill>
        <p:spPr>
          <a:xfrm>
            <a:off x="142920" y="1268280"/>
            <a:ext cx="9001080" cy="68868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5"/>
          <p:cNvSpPr txBox="1"/>
          <p:nvPr/>
        </p:nvSpPr>
        <p:spPr>
          <a:xfrm>
            <a:off x="1692360" y="26028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иклои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7" name="AutoShape 7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250920" y="314172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ображения циклоиды отложим  на прям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езок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вной длине  окружности, т.е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Разделим этот отрезок на 8 равных частей точка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1, А2, …,А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, что когда окружность, катясь но прям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сделаем один оборот, т.е. повернётся на 36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она займёт положение (8), а точ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местится из полож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ож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окружность сделает половину полного оборота, т.е. повернётся на 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на займёт положение (4), а точ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местится в самое верхнее по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С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окружность повернётся на угол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кружность переместится в положение (1), а точ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местится в по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С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Безымянный"/>
          <p:cNvPicPr/>
          <p:nvPr/>
        </p:nvPicPr>
        <p:blipFill>
          <a:blip r:embed="rId1"/>
          <a:stretch/>
        </p:blipFill>
        <p:spPr>
          <a:xfrm>
            <a:off x="0" y="-1467000"/>
            <a:ext cx="9001080" cy="688680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5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395280" y="350028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показаны также другие точки циклоиды, соответствующие  оставшимся углам поворота окружности, кратным 45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яя плавной кривой построенные точки, получим участо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оид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ответствующий оному полному обороту окружности. При следующих оборотах будут получаться такие же участки, т.е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ои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т состоять из периодически повторяющихся участков ,называемы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ками циклои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Безымянный"/>
          <p:cNvPicPr/>
          <p:nvPr/>
        </p:nvPicPr>
        <p:blipFill>
          <a:blip r:embed="rId1"/>
          <a:stretch/>
        </p:blipFill>
        <p:spPr>
          <a:xfrm>
            <a:off x="142920" y="-1108080"/>
            <a:ext cx="9001080" cy="688644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5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16000" y="260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им внимание на положение касательной 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ои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3495600" cy="22669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4"/>
          <p:cNvSpPr/>
          <p:nvPr/>
        </p:nvSpPr>
        <p:spPr>
          <a:xfrm>
            <a:off x="539640" y="414972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елосипедист едет по мокрой дороге, то оторвавшиеся от колёса капли будут лететь по касательной (оранж.) к циклоиде и при отсутствии щитков могут забрызгивать спину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осипед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м, кто стал изучать циклоиду Галилео Галилей (1564-1642). Он же придумал и наз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оида обладает целым рядом замечательных свойств. Упомянем о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6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324000" y="18900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ойство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дяная гора). В1696 году И.Бернулли поставил задачу о нахождении кривой наискорейшего спуска, или, иначе говоря, задачу о том, какова должна быть форма ледяной горки, чтобы, скатываясь по ней, совершить путь из начальной точ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онечную точк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кратчайше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3686040" cy="24764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4"/>
          <p:cNvSpPr/>
          <p:nvPr/>
        </p:nvSpPr>
        <p:spPr>
          <a:xfrm>
            <a:off x="395280" y="3141720"/>
            <a:ext cx="36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ую кривую назвали «брахистохроной», т.е. кривой кратчайше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, что кратчайшим путём из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точк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ется отрезок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при таком прямолинейном движении скорость набирается медленно и затраченное на спуск время оказывается большим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3790800" cy="2686320"/>
          </a:xfrm>
          <a:prstGeom prst="rect">
            <a:avLst/>
          </a:prstGeom>
          <a:ln w="0">
            <a:noFill/>
          </a:ln>
        </p:spPr>
      </p:pic>
      <p:sp>
        <p:nvSpPr>
          <p:cNvPr id="432" name="AutoShape 7">
            <a:hlinkClick r:id="rId3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86040" cy="24764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3"/>
          <p:cNvSpPr/>
          <p:nvPr/>
        </p:nvSpPr>
        <p:spPr>
          <a:xfrm>
            <a:off x="684360" y="3500280"/>
            <a:ext cx="7775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набирается тем быстрей, чем круче спуск. Однако при крутом спуске удлиняется путь по кривой и тем самым увеличивается время его прох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математиков, решавших эту задачу, были: Г. Лейбниц, И.Ньютон, Г. Лопиталь и Я. Бернулли. Они доказали, что искомой прямой является перевернутая циклоида. Методы, развитые этими учеными при решении задачи брахистохроне, положили начало новому направлению математики- вариационному исчис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468360" y="26028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ойство2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ы с маятником). Часы с обычным маятником не могут идти точно, поскольку период колебаний  маятника зависит от его амплитуды: чем больше амплитуда, тем больше период. Голландский ученый Христиан Гюйген (1629-1695) задался вопросом, по какой кривой должен двигаться шарик на нитке маятника, чтобы период его колебаний не зависел от амплитуды. Заметим, что в обычном  маятнике кривой. По которой движется шарик, является окруж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13440" cy="38163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611280" y="981000"/>
            <a:ext cx="79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омой прямой оказалась перевернутая циклоида. Если, например, изготовить желоб в форме перевернутой циклоиды и пустить по нему шарик, то период движения шарика под действием силы тяжести не будет зависеть от начального его положения и от амплитуды. За это свойство циклоиду называют также «таутохрона» - кривая равных вре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1116000" y="3716280"/>
            <a:ext cx="6794640" cy="257976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5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4722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993300"/>
                </a:solidFill>
                <a:latin typeface="Arial"/>
              </a:rPr>
              <a:t>Свойства показательной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31640" y="6092280"/>
            <a:ext cx="72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60000"/>
                </a:solidFill>
                <a:latin typeface="Arial"/>
              </a:rPr>
              <a:t>При а =1 функция </a:t>
            </a:r>
            <a:r>
              <a:rPr b="1" lang="en-US" sz="1800" spc="-1" strike="noStrike">
                <a:solidFill>
                  <a:srgbClr val="76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76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76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76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76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60000"/>
                </a:solidFill>
                <a:latin typeface="Arial"/>
              </a:rPr>
              <a:t>является постоянной: 1</a:t>
            </a:r>
            <a:r>
              <a:rPr b="1" lang="en-US" sz="1800" spc="-1" strike="noStrike" baseline="30000">
                <a:solidFill>
                  <a:srgbClr val="76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760000"/>
                </a:solidFill>
                <a:latin typeface="Arial"/>
              </a:rPr>
              <a:t>=1</a:t>
            </a:r>
            <a:r>
              <a:rPr b="1" lang="ru-RU" sz="1800" spc="-1" strike="noStrike">
                <a:solidFill>
                  <a:srgbClr val="760000"/>
                </a:solidFill>
                <a:latin typeface="Arial"/>
              </a:rPr>
              <a:t> при </a:t>
            </a:r>
            <a:r>
              <a:rPr b="1" lang="en-US" sz="1800" spc="-1" strike="noStrike">
                <a:solidFill>
                  <a:srgbClr val="76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760000"/>
                </a:solidFill>
                <a:latin typeface="Arial"/>
              </a:rPr>
              <a:t>є </a:t>
            </a:r>
            <a:r>
              <a:rPr b="1" lang="en-US" sz="1800" spc="-1" strike="noStrike">
                <a:solidFill>
                  <a:srgbClr val="76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76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4000" y="1413000"/>
          <a:ext cx="8569080" cy="44719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бласть определения: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бласть значений                                                  (0;∞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Четность, нечетность:                                   Функция не является ни четной, ни нече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улей                                                                        н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межуток знакопостоянства :                           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0 при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межутки моното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 0&lt; а&lt;1  функция убывает при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.                                                                        при а&gt;1 функция возрастает при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Экстремумов                                                         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рафик функции проходит через точку                  (0;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симптота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y=0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Line 4"/>
          <p:cNvSpPr/>
          <p:nvPr/>
        </p:nvSpPr>
        <p:spPr>
          <a:xfrm>
            <a:off x="4356000" y="1341360"/>
            <a:ext cx="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3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468360" y="3573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468360" y="4149720"/>
            <a:ext cx="806436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сам шарик будет двигаться по перевернутой циклоиде и, таким образом, период его колебаний не будет зависеть от амплиту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этого свойства циклоиды, в частности, следует, что независимо от того, с какого места ледяной горки в форме перевернутой циклоиды мы начнем спуск, на весь путь до конечной точки мы затратим одно и тож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794280" cy="2579400"/>
          </a:xfrm>
          <a:prstGeom prst="rect">
            <a:avLst/>
          </a:prstGeom>
          <a:ln w="0">
            <a:noFill/>
          </a:ln>
        </p:spPr>
      </p:pic>
      <p:sp>
        <p:nvSpPr>
          <p:cNvPr id="445" name="AutoShape 6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187280" y="1259640"/>
            <a:ext cx="668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  <a:ea typeface="Times New Roman"/>
              </a:rPr>
              <a:t>усть </a:t>
            </a:r>
            <a:r>
              <a:rPr b="1" i="1" lang="ru-RU" sz="2000" spc="-1" strike="noStrike">
                <a:solidFill>
                  <a:srgbClr val="000000"/>
                </a:solidFill>
                <a:latin typeface="Sylfae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  <a:ea typeface="Times New Roman"/>
              </a:rPr>
              <a:t>-точка, закреплённая на окружности, в начальный момент времени находится в положении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Sylfae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695920" cy="447696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684360" y="57340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м неподвижную окружность на 8 равных частей точка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1,А2,…,А8=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5"/>
          <p:cNvSpPr txBox="1"/>
          <p:nvPr/>
        </p:nvSpPr>
        <p:spPr>
          <a:xfrm>
            <a:off x="1476360" y="189000"/>
            <a:ext cx="612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рдиои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0" name="AutoShape 7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5695920" cy="44766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"/>
          <p:cNvSpPr/>
          <p:nvPr/>
        </p:nvSpPr>
        <p:spPr>
          <a:xfrm>
            <a:off x="4067280" y="260280"/>
            <a:ext cx="489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, что когда окружность сделает один оборот, т.е.повернётся на 360о, она займёт исходное положение, и точ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местится в исходное по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окружность сделает половину полного оборота, т.е. повернётся на 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на займет положение (4), а точ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местится в полож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окружность повернётся на угол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кружность переместится в положение (1), а точ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местится в полож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468360" y="443700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показаны также другие точки кардиоиды, соответствующие оставшимся углам поворота окружности, кратным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яя плавной кривой посторонние точки, получим кривую, соответствующую одному полному обороту окружности. При следующих оборотах окружности точ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описывать ту же самую кри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539640" y="765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ны траектории движения точек в случаях, когда отношение радиусов катящейся и неподвижной окружн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1 : 2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1 : 3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1 :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333520" cy="36576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"/>
          <p:cNvPicPr/>
          <p:nvPr/>
        </p:nvPicPr>
        <p:blipFill>
          <a:blip r:embed="rId2"/>
          <a:stretch/>
        </p:blipFill>
        <p:spPr>
          <a:xfrm>
            <a:off x="3203640" y="3357720"/>
            <a:ext cx="2819160" cy="2543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3"/>
          <a:stretch/>
        </p:blipFill>
        <p:spPr>
          <a:xfrm>
            <a:off x="6372360" y="3284640"/>
            <a:ext cx="2219040" cy="249552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6">
            <a:hlinkClick r:id="rId4" action="ppaction://hlinksldjump"/>
          </p:cNvPr>
          <p:cNvSpPr/>
          <p:nvPr/>
        </p:nvSpPr>
        <p:spPr>
          <a:xfrm>
            <a:off x="7236000" y="6021360"/>
            <a:ext cx="863280" cy="647640"/>
          </a:xfrm>
          <a:custGeom>
            <a:avLst/>
            <a:gdLst>
              <a:gd name="textAreaLeft" fmla="*/ 115560 w 863280"/>
              <a:gd name="textAreaRight" fmla="*/ 747720 w 863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8">
            <a:hlinkClick r:id="rId5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литка Паск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324000" y="148428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теперь кривую, называемую улиткой Паскаля в честь знаменитого французского физика и математика Блеза Паскаля. Ее используют для решения трудных геометрических задач. Для того, чтобы получить улитку Паскаля поступим следующим образом. Возьмем окружность радиус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ней некоторую точк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2987640" y="3284640"/>
            <a:ext cx="3076560" cy="277164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395280" y="422100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круг точ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м вращать луч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усть его вторая  точка пересечения с окружностью будет точ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 обе стороны от точ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м откладывать на луче один и тот же отрезо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Геометрическое место концов этих отрезко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будет улиткой Паска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3076560" cy="2772000"/>
          </a:xfrm>
          <a:prstGeom prst="rect">
            <a:avLst/>
          </a:prstGeom>
          <a:ln w="0">
            <a:noFill/>
          </a:ln>
        </p:spPr>
      </p:pic>
      <p:sp>
        <p:nvSpPr>
          <p:cNvPr id="467" name="AutoShape 5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50920" y="189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м уравнение улитки Паскаля. Для этого возьмем систему координат и построим окружность радиуса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 центром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0). Точк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центр вращения расположим в начале координат. Пусть концами отрез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оженного от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будут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ни будут текущими точками улитки Паскаля. Обозначим координаты текущей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969080" cy="4127400"/>
          </a:xfrm>
          <a:prstGeom prst="rect">
            <a:avLst/>
          </a:prstGeom>
          <a:ln w="0">
            <a:noFill/>
          </a:ln>
        </p:spPr>
      </p:pic>
      <p:sp>
        <p:nvSpPr>
          <p:cNvPr id="470" name="AutoShape 5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324000" y="333360"/>
            <a:ext cx="83516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вывести уравнение улитки, надо алгебраически записать через координаты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кущей ее точки то свойство, которое ее опреде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треугольники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M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 =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AN = x, AC = 2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 = AM – BM = AM – b =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юда можем запис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бождаясь от знаменателя, наход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избавиться от знака радикала, возводим обе части уравнения в квадрат. Наход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и есть уравнение улитки Паска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1979640" y="1844640"/>
                <a:ext cx="1008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4284720" y="2133720"/>
                <a:ext cx="1008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9"/>
              <p:cNvSpPr txBox="1"/>
              <p:nvPr/>
            </p:nvSpPr>
            <p:spPr>
              <a:xfrm>
                <a:off x="2484360" y="4365720"/>
                <a:ext cx="1008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3851280" y="4653000"/>
                <a:ext cx="1008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050920" y="3068640"/>
                <a:ext cx="2808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1" name="AutoShape 13">
            <a:hlinkClick r:id="rId1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324000" y="1197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. 1, 2, 3 построены три улитки Паскаля, согласно трем возможным случа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gt;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0" y="-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-324000" y="2565360"/>
            <a:ext cx="3600720" cy="3311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"/>
          <p:cNvPicPr/>
          <p:nvPr/>
        </p:nvPicPr>
        <p:blipFill>
          <a:blip r:embed="rId2"/>
          <a:stretch/>
        </p:blipFill>
        <p:spPr>
          <a:xfrm>
            <a:off x="3059280" y="2637000"/>
            <a:ext cx="2957400" cy="3240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"/>
          <p:cNvPicPr/>
          <p:nvPr/>
        </p:nvPicPr>
        <p:blipFill>
          <a:blip r:embed="rId3"/>
          <a:stretch/>
        </p:blipFill>
        <p:spPr>
          <a:xfrm>
            <a:off x="6019920" y="2708280"/>
            <a:ext cx="3124080" cy="303048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8">
            <a:hlinkClick r:id="rId4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250920" y="268200"/>
            <a:ext cx="30258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м улитку Паскаля, заданную уравнением 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лярных координатах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ρ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ьмём, наприме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равнение улитки и ее образа (гиперболы) при инверсии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1] буд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ρ =1+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ρ=1/(1+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ем уравнение гиперболы, вводя декартову прямоугольную систему координат, в которой осью Ох является полярная ось. Тогда име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-2/3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1/9-у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1/3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32000" y="333360"/>
            <a:ext cx="6012000" cy="616572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>
            <a:hlinkClick r:id="rId5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9669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89237a"/>
                </a:solidFill>
                <a:latin typeface="Arial"/>
              </a:rPr>
              <a:t>Свойства степенной               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1628640"/>
          <a:ext cx="8064360" cy="4818240"/>
        </p:xfrm>
        <a:graphic>
          <a:graphicData uri="http://schemas.openxmlformats.org/drawingml/2006/table">
            <a:tbl>
              <a:tblPr/>
              <a:tblGrid>
                <a:gridCol w="2814480"/>
                <a:gridCol w="2743200"/>
                <a:gridCol w="25066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а&gt;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а&lt;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[0</a:t>
                      </a:r>
                      <a:r>
                        <a:rPr b="0" lang="en-US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ласть значений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[0</a:t>
                      </a:r>
                      <a:r>
                        <a:rPr b="0" lang="en-US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тность, нечетнос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Функция не является ни четной, ни нечет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ули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Y=0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ри </a:t>
                      </a:r>
                      <a:r>
                        <a:rPr b="0" lang="en-US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=0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улей 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межуток знакопостоянства 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и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x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є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межутки моното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функция возрастает при </a:t>
                      </a:r>
                      <a:r>
                        <a:rPr b="0" lang="en-US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є [0;∞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функция убывает при    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є (0;∞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кстрему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ик функции проходит через точк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(0</a:t>
                      </a:r>
                      <a:r>
                        <a:rPr b="0" lang="en-US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;0), (1;1)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1;1)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симпт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X=0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y=0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50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16286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5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324000" y="33336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гипербола, центр которой (2/3,0), а полуоси а=1/3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/       .Т.к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а =        , то асимптоты гиперболы наклонены к оси Ох под углом ±π/3. При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±2π/3 в уравнении улит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ρ =1+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диус-векто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щается в нуль. Поэтому асимптоты гиперболы параллельны касательным к петле улитки в начале координ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7667640" y="33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6"/>
              <p:cNvSpPr txBox="1"/>
              <p:nvPr/>
            </p:nvSpPr>
            <p:spPr>
              <a:xfrm>
                <a:off x="971640" y="549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6" name="Text Box 7"/>
          <p:cNvSpPr/>
          <p:nvPr/>
        </p:nvSpPr>
        <p:spPr>
          <a:xfrm>
            <a:off x="468360" y="1844640"/>
            <a:ext cx="4319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итка, гипербола и окружн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версии делят плоскость на 14 областей. Улитка и  гипербола пересекаются в семи точках, три из них лежат и на окружности инверсии; четыре осталь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’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’ не лежат на окружности инверсии и соответствуют друг другу при  инверсии относительно окружн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ямые ОРР’ и 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’ можно разбить обл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’ , которые будут соответствовать друг другу при рассматриваемой инверсии. Эти же прямые делят област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’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’ каждую на две части,  друг другу соответствующие при инверсии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22920" y="2205000"/>
            <a:ext cx="4321080" cy="378792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10">
            <a:hlinkClick r:id="rId3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250920" y="26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м кардиоиду ρ = 1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φ уравнение которой задано в полярных координатах. При инверс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O, 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О – полюс полярной системы координат, образом этой кардиоиды является парабола, уравнение которой в той же полярной системе координат  имеет ви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3851280" y="1413000"/>
                <a:ext cx="934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Text Box 4"/>
          <p:cNvSpPr/>
          <p:nvPr/>
        </p:nvSpPr>
        <p:spPr>
          <a:xfrm>
            <a:off x="334800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95280" y="2133720"/>
            <a:ext cx="24480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вести декартову прямоугольную систему координат, принимая полярную ось за ос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днее уравнение примет в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- 2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ходя из этого уравнения построена параб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444920" cy="443376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8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324000" y="33336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диоида ρ = 1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φ, парабо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- 2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окруж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рсии делят плоскости на шесть областей. Соответствие этих областей при инверсии относительно окруж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ано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5580000" y="1916280"/>
            <a:ext cx="327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1’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3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3’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связны  и инвариантны при инверсии относительно окруж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(D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’, D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3’ 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бл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2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ая частью кардиоиды и дугой параболы, переходит в обл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2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разованную точками, лежащими и вне кардиоиды и вне параболы. Обратно, при рассматриваемой инверсии обл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2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ходит в об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4445280" cy="443376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6">
            <a:hlinkClick r:id="rId2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WordArt 2"/>
          <p:cNvSpPr txBox="1"/>
          <p:nvPr/>
        </p:nvSpPr>
        <p:spPr>
          <a:xfrm>
            <a:off x="1116000" y="333360"/>
            <a:ext cx="698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2700000"/>
                </a:gradFill>
                <a:latin typeface="Arial"/>
              </a:rPr>
              <a:t>графики функций и их свойст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10" name="Text Box 3">
            <a:hlinkClick r:id="rId1" action="ppaction://hlinksldjump"/>
          </p:cNvPr>
          <p:cNvSpPr/>
          <p:nvPr/>
        </p:nvSpPr>
        <p:spPr>
          <a:xfrm>
            <a:off x="900000" y="50068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вые как траектория движения т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>
            <a:hlinkClick r:id="rId2" action="ppaction://hlinksldjump"/>
          </p:cNvPr>
          <p:cNvSpPr/>
          <p:nvPr/>
        </p:nvSpPr>
        <p:spPr>
          <a:xfrm>
            <a:off x="900000" y="54388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Математическ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Jac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>
            <a:hlinkClick r:id="rId3" action="ppaction://hlinksldjump"/>
          </p:cNvPr>
          <p:cNvSpPr/>
          <p:nvPr/>
        </p:nvSpPr>
        <p:spPr>
          <a:xfrm>
            <a:off x="900000" y="21985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и их свойства 7-8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">
            <a:hlinkClick r:id="rId4" action="ppaction://hlinksldjump"/>
          </p:cNvPr>
          <p:cNvSpPr/>
          <p:nvPr/>
        </p:nvSpPr>
        <p:spPr>
          <a:xfrm>
            <a:off x="900000" y="256536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IX’S GRAPHIC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>
            <a:hlinkClick r:id="rId5" action="ppaction://hlinksldjump"/>
          </p:cNvPr>
          <p:cNvSpPr/>
          <p:nvPr/>
        </p:nvSpPr>
        <p:spPr>
          <a:xfrm>
            <a:off x="900000" y="31352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и их свойства 9-10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900000" y="40705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и их свойства 11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900000" y="350208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Игра график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900000" y="45021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 – игра « Математическая гонка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900000" y="16956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900000" y="59421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611280" y="1628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атематическ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Jac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395280" y="2349360"/>
            <a:ext cx="82072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к должен набрать наибольшее количество очков до 21. Отвечая на вопросы игрок зарабатывает очки. Каждому вопросу соответствует определенное количество очков. Наверху карты указано количество очков за правильный ответ, внизу – за неправильный. В игре принимают участие два ученика. Данная игра предпологает присутствие крупье (учитель или другой ученик), ведущего подсчет о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WordArt 5"/>
          <p:cNvSpPr txBox="1"/>
          <p:nvPr/>
        </p:nvSpPr>
        <p:spPr>
          <a:xfrm>
            <a:off x="826920" y="5229360"/>
            <a:ext cx="295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Игрок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4" name="WordArt 6"/>
          <p:cNvSpPr txBox="1"/>
          <p:nvPr/>
        </p:nvSpPr>
        <p:spPr>
          <a:xfrm>
            <a:off x="5219640" y="5229360"/>
            <a:ext cx="295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Игрок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5" name="AutoShape 9"/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2"/>
          <p:cNvSpPr/>
          <p:nvPr/>
        </p:nvSpPr>
        <p:spPr>
          <a:xfrm>
            <a:off x="250920" y="1773360"/>
            <a:ext cx="1944720" cy="3240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"/>
          <p:cNvSpPr/>
          <p:nvPr/>
        </p:nvSpPr>
        <p:spPr>
          <a:xfrm>
            <a:off x="2484360" y="1773360"/>
            <a:ext cx="1944720" cy="3240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716360" y="1773360"/>
            <a:ext cx="1944720" cy="3240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6948360" y="1773360"/>
            <a:ext cx="1944720" cy="3240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6"/>
          <p:cNvSpPr txBox="1"/>
          <p:nvPr/>
        </p:nvSpPr>
        <p:spPr>
          <a:xfrm>
            <a:off x="395280" y="1916280"/>
            <a:ext cx="503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1" name="WordArt 7"/>
          <p:cNvSpPr txBox="1"/>
          <p:nvPr/>
        </p:nvSpPr>
        <p:spPr>
          <a:xfrm>
            <a:off x="1476360" y="400536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2" name="WordArt 8"/>
          <p:cNvSpPr txBox="1"/>
          <p:nvPr/>
        </p:nvSpPr>
        <p:spPr>
          <a:xfrm>
            <a:off x="2627280" y="1916280"/>
            <a:ext cx="50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3" name="WordArt 9"/>
          <p:cNvSpPr txBox="1"/>
          <p:nvPr/>
        </p:nvSpPr>
        <p:spPr>
          <a:xfrm>
            <a:off x="3924360" y="4076640"/>
            <a:ext cx="358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ерите кар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11"/>
          <p:cNvSpPr txBox="1"/>
          <p:nvPr/>
        </p:nvSpPr>
        <p:spPr>
          <a:xfrm>
            <a:off x="4859280" y="1916280"/>
            <a:ext cx="55584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" name="WordArt 12"/>
          <p:cNvSpPr txBox="1"/>
          <p:nvPr/>
        </p:nvSpPr>
        <p:spPr>
          <a:xfrm>
            <a:off x="5940360" y="407664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WordArt 13"/>
          <p:cNvSpPr txBox="1"/>
          <p:nvPr/>
        </p:nvSpPr>
        <p:spPr>
          <a:xfrm>
            <a:off x="7093080" y="1844640"/>
            <a:ext cx="574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WordArt 14"/>
          <p:cNvSpPr txBox="1"/>
          <p:nvPr/>
        </p:nvSpPr>
        <p:spPr>
          <a:xfrm>
            <a:off x="8244000" y="4149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Line 15"/>
          <p:cNvSpPr/>
          <p:nvPr/>
        </p:nvSpPr>
        <p:spPr>
          <a:xfrm flipH="1">
            <a:off x="324000" y="1844640"/>
            <a:ext cx="180000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6"/>
          <p:cNvSpPr/>
          <p:nvPr/>
        </p:nvSpPr>
        <p:spPr>
          <a:xfrm flipH="1">
            <a:off x="2556000" y="1844640"/>
            <a:ext cx="180000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7"/>
          <p:cNvSpPr/>
          <p:nvPr/>
        </p:nvSpPr>
        <p:spPr>
          <a:xfrm flipH="1">
            <a:off x="4788000" y="1844640"/>
            <a:ext cx="180000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8"/>
          <p:cNvSpPr/>
          <p:nvPr/>
        </p:nvSpPr>
        <p:spPr>
          <a:xfrm flipH="1">
            <a:off x="7020000" y="1844640"/>
            <a:ext cx="180000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9"/>
          <p:cNvSpPr/>
          <p:nvPr/>
        </p:nvSpPr>
        <p:spPr>
          <a:xfrm>
            <a:off x="7596360" y="5516640"/>
            <a:ext cx="863280" cy="1008000"/>
          </a:xfrm>
          <a:custGeom>
            <a:avLst/>
            <a:gdLst>
              <a:gd name="textAreaLeft" fmla="*/ 115560 w 863280"/>
              <a:gd name="textAreaRight" fmla="*/ 747720 w 86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539640" y="6165720"/>
            <a:ext cx="8636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611280" y="98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ьзуясь графиком определить название крив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4500360" cy="32637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"/>
          <p:cNvSpPr/>
          <p:nvPr/>
        </p:nvSpPr>
        <p:spPr>
          <a:xfrm>
            <a:off x="755640" y="537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икл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755640" y="458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рди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755640" y="3789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итка Паска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2"/>
          <p:cNvSpPr txBox="1"/>
          <p:nvPr/>
        </p:nvSpPr>
        <p:spPr>
          <a:xfrm>
            <a:off x="1116000" y="2060640"/>
            <a:ext cx="6840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7596360" y="5516640"/>
            <a:ext cx="863280" cy="1008000"/>
          </a:xfrm>
          <a:custGeom>
            <a:avLst/>
            <a:gdLst>
              <a:gd name="textAreaLeft" fmla="*/ 115560 w 863280"/>
              <a:gd name="textAreaRight" fmla="*/ 747720 w 86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2"/>
          <p:cNvSpPr txBox="1"/>
          <p:nvPr/>
        </p:nvSpPr>
        <p:spPr>
          <a:xfrm>
            <a:off x="1187280" y="2276640"/>
            <a:ext cx="6605640" cy="24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ый отв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3" name="AutoShape 3"/>
          <p:cNvSpPr/>
          <p:nvPr/>
        </p:nvSpPr>
        <p:spPr>
          <a:xfrm>
            <a:off x="7596360" y="5516640"/>
            <a:ext cx="863280" cy="1008000"/>
          </a:xfrm>
          <a:custGeom>
            <a:avLst/>
            <a:gdLst>
              <a:gd name="textAreaLeft" fmla="*/ 115560 w 863280"/>
              <a:gd name="textAreaRight" fmla="*/ 747720 w 86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611280" y="105264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график функции заданной в полярных координатах формулой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= a(1 – Cos φ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"/>
          <p:cNvSpPr/>
          <p:nvPr/>
        </p:nvSpPr>
        <p:spPr>
          <a:xfrm>
            <a:off x="3564000" y="479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"/>
          <p:cNvSpPr/>
          <p:nvPr/>
        </p:nvSpPr>
        <p:spPr>
          <a:xfrm>
            <a:off x="3564000" y="3716280"/>
            <a:ext cx="1981080" cy="2183040"/>
          </a:xfrm>
          <a:custGeom>
            <a:avLst/>
            <a:gdLst/>
            <a:ahLst/>
            <a:rect l="l" t="t" r="r" b="b"/>
            <a:pathLst>
              <a:path w="1248" h="1375">
                <a:moveTo>
                  <a:pt x="1081" y="706"/>
                </a:moveTo>
                <a:cubicBezTo>
                  <a:pt x="1081" y="729"/>
                  <a:pt x="1162" y="745"/>
                  <a:pt x="1189" y="782"/>
                </a:cubicBezTo>
                <a:cubicBezTo>
                  <a:pt x="1216" y="819"/>
                  <a:pt x="1234" y="883"/>
                  <a:pt x="1241" y="928"/>
                </a:cubicBezTo>
                <a:cubicBezTo>
                  <a:pt x="1248" y="973"/>
                  <a:pt x="1243" y="1018"/>
                  <a:pt x="1234" y="1055"/>
                </a:cubicBezTo>
                <a:cubicBezTo>
                  <a:pt x="1225" y="1092"/>
                  <a:pt x="1210" y="1120"/>
                  <a:pt x="1189" y="1150"/>
                </a:cubicBezTo>
                <a:cubicBezTo>
                  <a:pt x="1168" y="1180"/>
                  <a:pt x="1136" y="1213"/>
                  <a:pt x="1108" y="1238"/>
                </a:cubicBezTo>
                <a:cubicBezTo>
                  <a:pt x="1080" y="1263"/>
                  <a:pt x="1053" y="1282"/>
                  <a:pt x="1021" y="1301"/>
                </a:cubicBezTo>
                <a:cubicBezTo>
                  <a:pt x="989" y="1320"/>
                  <a:pt x="955" y="1342"/>
                  <a:pt x="915" y="1354"/>
                </a:cubicBezTo>
                <a:cubicBezTo>
                  <a:pt x="875" y="1366"/>
                  <a:pt x="826" y="1369"/>
                  <a:pt x="781" y="1372"/>
                </a:cubicBezTo>
                <a:cubicBezTo>
                  <a:pt x="736" y="1375"/>
                  <a:pt x="680" y="1374"/>
                  <a:pt x="645" y="1372"/>
                </a:cubicBezTo>
                <a:cubicBezTo>
                  <a:pt x="610" y="1370"/>
                  <a:pt x="598" y="1367"/>
                  <a:pt x="569" y="1363"/>
                </a:cubicBezTo>
                <a:cubicBezTo>
                  <a:pt x="540" y="1359"/>
                  <a:pt x="522" y="1361"/>
                  <a:pt x="472" y="1345"/>
                </a:cubicBezTo>
                <a:cubicBezTo>
                  <a:pt x="422" y="1329"/>
                  <a:pt x="305" y="1282"/>
                  <a:pt x="266" y="1264"/>
                </a:cubicBezTo>
                <a:cubicBezTo>
                  <a:pt x="227" y="1246"/>
                  <a:pt x="252" y="1250"/>
                  <a:pt x="240" y="1238"/>
                </a:cubicBezTo>
                <a:cubicBezTo>
                  <a:pt x="228" y="1226"/>
                  <a:pt x="214" y="1221"/>
                  <a:pt x="191" y="1191"/>
                </a:cubicBezTo>
                <a:cubicBezTo>
                  <a:pt x="168" y="1161"/>
                  <a:pt x="123" y="1093"/>
                  <a:pt x="100" y="1055"/>
                </a:cubicBezTo>
                <a:cubicBezTo>
                  <a:pt x="77" y="1017"/>
                  <a:pt x="70" y="1002"/>
                  <a:pt x="55" y="964"/>
                </a:cubicBezTo>
                <a:cubicBezTo>
                  <a:pt x="40" y="926"/>
                  <a:pt x="19" y="875"/>
                  <a:pt x="10" y="828"/>
                </a:cubicBezTo>
                <a:cubicBezTo>
                  <a:pt x="1" y="781"/>
                  <a:pt x="0" y="725"/>
                  <a:pt x="0" y="680"/>
                </a:cubicBezTo>
                <a:cubicBezTo>
                  <a:pt x="0" y="635"/>
                  <a:pt x="1" y="599"/>
                  <a:pt x="10" y="556"/>
                </a:cubicBezTo>
                <a:cubicBezTo>
                  <a:pt x="19" y="513"/>
                  <a:pt x="43" y="454"/>
                  <a:pt x="55" y="420"/>
                </a:cubicBezTo>
                <a:cubicBezTo>
                  <a:pt x="67" y="386"/>
                  <a:pt x="65" y="382"/>
                  <a:pt x="80" y="352"/>
                </a:cubicBezTo>
                <a:cubicBezTo>
                  <a:pt x="95" y="322"/>
                  <a:pt x="122" y="269"/>
                  <a:pt x="146" y="238"/>
                </a:cubicBezTo>
                <a:cubicBezTo>
                  <a:pt x="170" y="207"/>
                  <a:pt x="188" y="193"/>
                  <a:pt x="223" y="166"/>
                </a:cubicBezTo>
                <a:cubicBezTo>
                  <a:pt x="258" y="139"/>
                  <a:pt x="313" y="100"/>
                  <a:pt x="356" y="78"/>
                </a:cubicBezTo>
                <a:cubicBezTo>
                  <a:pt x="399" y="56"/>
                  <a:pt x="432" y="44"/>
                  <a:pt x="480" y="33"/>
                </a:cubicBezTo>
                <a:cubicBezTo>
                  <a:pt x="528" y="22"/>
                  <a:pt x="595" y="15"/>
                  <a:pt x="645" y="11"/>
                </a:cubicBezTo>
                <a:cubicBezTo>
                  <a:pt x="695" y="7"/>
                  <a:pt x="726" y="0"/>
                  <a:pt x="781" y="11"/>
                </a:cubicBezTo>
                <a:cubicBezTo>
                  <a:pt x="836" y="22"/>
                  <a:pt x="921" y="47"/>
                  <a:pt x="975" y="77"/>
                </a:cubicBezTo>
                <a:cubicBezTo>
                  <a:pt x="1029" y="107"/>
                  <a:pt x="1072" y="150"/>
                  <a:pt x="1108" y="192"/>
                </a:cubicBezTo>
                <a:cubicBezTo>
                  <a:pt x="1144" y="234"/>
                  <a:pt x="1168" y="286"/>
                  <a:pt x="1189" y="329"/>
                </a:cubicBezTo>
                <a:cubicBezTo>
                  <a:pt x="1210" y="372"/>
                  <a:pt x="1225" y="411"/>
                  <a:pt x="1232" y="449"/>
                </a:cubicBezTo>
                <a:cubicBezTo>
                  <a:pt x="1239" y="487"/>
                  <a:pt x="1241" y="523"/>
                  <a:pt x="1234" y="556"/>
                </a:cubicBezTo>
                <a:cubicBezTo>
                  <a:pt x="1227" y="589"/>
                  <a:pt x="1215" y="621"/>
                  <a:pt x="1189" y="646"/>
                </a:cubicBezTo>
                <a:cubicBezTo>
                  <a:pt x="1163" y="671"/>
                  <a:pt x="1081" y="683"/>
                  <a:pt x="1081" y="706"/>
                </a:cubicBez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5"/>
          <p:cNvSpPr/>
          <p:nvPr/>
        </p:nvSpPr>
        <p:spPr>
          <a:xfrm>
            <a:off x="3637080" y="4365720"/>
            <a:ext cx="79200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6"/>
          <p:cNvSpPr/>
          <p:nvPr/>
        </p:nvSpPr>
        <p:spPr>
          <a:xfrm>
            <a:off x="4429080" y="4365720"/>
            <a:ext cx="7905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92436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471636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5148360" y="47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5653080" y="43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"/>
          <p:cNvSpPr/>
          <p:nvPr/>
        </p:nvSpPr>
        <p:spPr>
          <a:xfrm>
            <a:off x="7093080" y="48704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2"/>
          <p:cNvSpPr/>
          <p:nvPr/>
        </p:nvSpPr>
        <p:spPr>
          <a:xfrm>
            <a:off x="7102440" y="3862440"/>
            <a:ext cx="1108080" cy="1055520"/>
          </a:xfrm>
          <a:custGeom>
            <a:avLst/>
            <a:gdLst/>
            <a:ahLst/>
            <a:rect l="l" t="t" r="r" b="b"/>
            <a:pathLst>
              <a:path w="698" h="665">
                <a:moveTo>
                  <a:pt x="40" y="635"/>
                </a:moveTo>
                <a:cubicBezTo>
                  <a:pt x="0" y="600"/>
                  <a:pt x="43" y="472"/>
                  <a:pt x="73" y="381"/>
                </a:cubicBezTo>
                <a:cubicBezTo>
                  <a:pt x="103" y="290"/>
                  <a:pt x="151" y="153"/>
                  <a:pt x="221" y="90"/>
                </a:cubicBezTo>
                <a:cubicBezTo>
                  <a:pt x="291" y="27"/>
                  <a:pt x="417" y="0"/>
                  <a:pt x="493" y="0"/>
                </a:cubicBezTo>
                <a:cubicBezTo>
                  <a:pt x="569" y="0"/>
                  <a:pt x="652" y="29"/>
                  <a:pt x="675" y="90"/>
                </a:cubicBezTo>
                <a:cubicBezTo>
                  <a:pt x="698" y="151"/>
                  <a:pt x="690" y="280"/>
                  <a:pt x="630" y="363"/>
                </a:cubicBezTo>
                <a:cubicBezTo>
                  <a:pt x="570" y="446"/>
                  <a:pt x="410" y="544"/>
                  <a:pt x="312" y="589"/>
                </a:cubicBezTo>
                <a:cubicBezTo>
                  <a:pt x="214" y="634"/>
                  <a:pt x="78" y="665"/>
                  <a:pt x="40" y="635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3"/>
          <p:cNvSpPr/>
          <p:nvPr/>
        </p:nvSpPr>
        <p:spPr>
          <a:xfrm rot="5245800">
            <a:off x="7066800" y="4823640"/>
            <a:ext cx="1108080" cy="1055520"/>
          </a:xfrm>
          <a:custGeom>
            <a:avLst/>
            <a:gdLst/>
            <a:ahLst/>
            <a:rect l="l" t="t" r="r" b="b"/>
            <a:pathLst>
              <a:path w="698" h="665">
                <a:moveTo>
                  <a:pt x="40" y="635"/>
                </a:moveTo>
                <a:cubicBezTo>
                  <a:pt x="0" y="600"/>
                  <a:pt x="43" y="472"/>
                  <a:pt x="73" y="381"/>
                </a:cubicBezTo>
                <a:cubicBezTo>
                  <a:pt x="103" y="290"/>
                  <a:pt x="151" y="153"/>
                  <a:pt x="221" y="90"/>
                </a:cubicBezTo>
                <a:cubicBezTo>
                  <a:pt x="291" y="27"/>
                  <a:pt x="417" y="0"/>
                  <a:pt x="493" y="0"/>
                </a:cubicBezTo>
                <a:cubicBezTo>
                  <a:pt x="569" y="0"/>
                  <a:pt x="652" y="29"/>
                  <a:pt x="675" y="90"/>
                </a:cubicBezTo>
                <a:cubicBezTo>
                  <a:pt x="698" y="151"/>
                  <a:pt x="690" y="280"/>
                  <a:pt x="630" y="363"/>
                </a:cubicBezTo>
                <a:cubicBezTo>
                  <a:pt x="570" y="446"/>
                  <a:pt x="410" y="544"/>
                  <a:pt x="312" y="589"/>
                </a:cubicBezTo>
                <a:cubicBezTo>
                  <a:pt x="214" y="634"/>
                  <a:pt x="78" y="665"/>
                  <a:pt x="40" y="635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4"/>
          <p:cNvSpPr/>
          <p:nvPr/>
        </p:nvSpPr>
        <p:spPr>
          <a:xfrm rot="16426800">
            <a:off x="6131520" y="3815280"/>
            <a:ext cx="1108080" cy="1055880"/>
          </a:xfrm>
          <a:custGeom>
            <a:avLst/>
            <a:gdLst/>
            <a:ahLst/>
            <a:rect l="l" t="t" r="r" b="b"/>
            <a:pathLst>
              <a:path w="698" h="665">
                <a:moveTo>
                  <a:pt x="40" y="635"/>
                </a:moveTo>
                <a:cubicBezTo>
                  <a:pt x="0" y="600"/>
                  <a:pt x="43" y="472"/>
                  <a:pt x="73" y="381"/>
                </a:cubicBezTo>
                <a:cubicBezTo>
                  <a:pt x="103" y="290"/>
                  <a:pt x="151" y="153"/>
                  <a:pt x="221" y="90"/>
                </a:cubicBezTo>
                <a:cubicBezTo>
                  <a:pt x="291" y="27"/>
                  <a:pt x="417" y="0"/>
                  <a:pt x="493" y="0"/>
                </a:cubicBezTo>
                <a:cubicBezTo>
                  <a:pt x="569" y="0"/>
                  <a:pt x="652" y="29"/>
                  <a:pt x="675" y="90"/>
                </a:cubicBezTo>
                <a:cubicBezTo>
                  <a:pt x="698" y="151"/>
                  <a:pt x="690" y="280"/>
                  <a:pt x="630" y="363"/>
                </a:cubicBezTo>
                <a:cubicBezTo>
                  <a:pt x="570" y="446"/>
                  <a:pt x="410" y="544"/>
                  <a:pt x="312" y="589"/>
                </a:cubicBezTo>
                <a:cubicBezTo>
                  <a:pt x="214" y="634"/>
                  <a:pt x="78" y="665"/>
                  <a:pt x="40" y="635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5"/>
          <p:cNvSpPr/>
          <p:nvPr/>
        </p:nvSpPr>
        <p:spPr>
          <a:xfrm rot="10800000">
            <a:off x="6157800" y="4870440"/>
            <a:ext cx="1008000" cy="1008000"/>
          </a:xfrm>
          <a:custGeom>
            <a:avLst/>
            <a:gdLst/>
            <a:ahLst/>
            <a:rect l="l" t="t" r="r" b="b"/>
            <a:pathLst>
              <a:path w="698" h="665">
                <a:moveTo>
                  <a:pt x="40" y="635"/>
                </a:moveTo>
                <a:cubicBezTo>
                  <a:pt x="0" y="600"/>
                  <a:pt x="43" y="472"/>
                  <a:pt x="73" y="381"/>
                </a:cubicBezTo>
                <a:cubicBezTo>
                  <a:pt x="103" y="290"/>
                  <a:pt x="151" y="153"/>
                  <a:pt x="221" y="90"/>
                </a:cubicBezTo>
                <a:cubicBezTo>
                  <a:pt x="291" y="27"/>
                  <a:pt x="417" y="0"/>
                  <a:pt x="493" y="0"/>
                </a:cubicBezTo>
                <a:cubicBezTo>
                  <a:pt x="569" y="0"/>
                  <a:pt x="652" y="29"/>
                  <a:pt x="675" y="90"/>
                </a:cubicBezTo>
                <a:cubicBezTo>
                  <a:pt x="698" y="151"/>
                  <a:pt x="690" y="280"/>
                  <a:pt x="630" y="363"/>
                </a:cubicBezTo>
                <a:cubicBezTo>
                  <a:pt x="570" y="446"/>
                  <a:pt x="410" y="544"/>
                  <a:pt x="312" y="589"/>
                </a:cubicBezTo>
                <a:cubicBezTo>
                  <a:pt x="214" y="634"/>
                  <a:pt x="78" y="665"/>
                  <a:pt x="40" y="635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6"/>
          <p:cNvSpPr/>
          <p:nvPr/>
        </p:nvSpPr>
        <p:spPr>
          <a:xfrm flipV="1">
            <a:off x="7165800" y="393372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738180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67341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8318520" y="451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0"/>
          <p:cNvSpPr/>
          <p:nvPr/>
        </p:nvSpPr>
        <p:spPr>
          <a:xfrm>
            <a:off x="380880" y="475920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1"/>
          <p:cNvSpPr/>
          <p:nvPr/>
        </p:nvSpPr>
        <p:spPr>
          <a:xfrm>
            <a:off x="1619280" y="3933720"/>
            <a:ext cx="1301760" cy="804960"/>
          </a:xfrm>
          <a:custGeom>
            <a:avLst/>
            <a:gdLst/>
            <a:ahLst/>
            <a:rect l="l" t="t" r="r" b="b"/>
            <a:pathLst>
              <a:path w="820" h="507">
                <a:moveTo>
                  <a:pt x="42" y="507"/>
                </a:moveTo>
                <a:cubicBezTo>
                  <a:pt x="0" y="498"/>
                  <a:pt x="47" y="439"/>
                  <a:pt x="62" y="409"/>
                </a:cubicBezTo>
                <a:cubicBezTo>
                  <a:pt x="77" y="379"/>
                  <a:pt x="98" y="363"/>
                  <a:pt x="133" y="326"/>
                </a:cubicBezTo>
                <a:cubicBezTo>
                  <a:pt x="168" y="289"/>
                  <a:pt x="216" y="235"/>
                  <a:pt x="269" y="190"/>
                </a:cubicBezTo>
                <a:cubicBezTo>
                  <a:pt x="322" y="145"/>
                  <a:pt x="391" y="84"/>
                  <a:pt x="451" y="54"/>
                </a:cubicBezTo>
                <a:cubicBezTo>
                  <a:pt x="511" y="24"/>
                  <a:pt x="587" y="16"/>
                  <a:pt x="632" y="8"/>
                </a:cubicBezTo>
                <a:cubicBezTo>
                  <a:pt x="677" y="0"/>
                  <a:pt x="693" y="0"/>
                  <a:pt x="723" y="8"/>
                </a:cubicBezTo>
                <a:cubicBezTo>
                  <a:pt x="753" y="16"/>
                  <a:pt x="806" y="24"/>
                  <a:pt x="813" y="54"/>
                </a:cubicBezTo>
                <a:cubicBezTo>
                  <a:pt x="820" y="84"/>
                  <a:pt x="787" y="153"/>
                  <a:pt x="768" y="190"/>
                </a:cubicBezTo>
                <a:cubicBezTo>
                  <a:pt x="749" y="227"/>
                  <a:pt x="732" y="244"/>
                  <a:pt x="700" y="276"/>
                </a:cubicBezTo>
                <a:cubicBezTo>
                  <a:pt x="668" y="308"/>
                  <a:pt x="639" y="351"/>
                  <a:pt x="576" y="382"/>
                </a:cubicBezTo>
                <a:cubicBezTo>
                  <a:pt x="513" y="413"/>
                  <a:pt x="408" y="441"/>
                  <a:pt x="319" y="462"/>
                </a:cubicBezTo>
                <a:cubicBezTo>
                  <a:pt x="230" y="483"/>
                  <a:pt x="100" y="498"/>
                  <a:pt x="42" y="507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2"/>
          <p:cNvSpPr/>
          <p:nvPr/>
        </p:nvSpPr>
        <p:spPr>
          <a:xfrm>
            <a:off x="1332000" y="4724280"/>
            <a:ext cx="561960" cy="1484280"/>
          </a:xfrm>
          <a:custGeom>
            <a:avLst/>
            <a:gdLst/>
            <a:ahLst/>
            <a:rect l="l" t="t" r="r" b="b"/>
            <a:pathLst>
              <a:path w="354" h="935">
                <a:moveTo>
                  <a:pt x="171" y="32"/>
                </a:moveTo>
                <a:cubicBezTo>
                  <a:pt x="201" y="0"/>
                  <a:pt x="227" y="71"/>
                  <a:pt x="245" y="99"/>
                </a:cubicBezTo>
                <a:cubicBezTo>
                  <a:pt x="263" y="128"/>
                  <a:pt x="266" y="154"/>
                  <a:pt x="280" y="203"/>
                </a:cubicBezTo>
                <a:cubicBezTo>
                  <a:pt x="293" y="252"/>
                  <a:pt x="315" y="321"/>
                  <a:pt x="326" y="390"/>
                </a:cubicBezTo>
                <a:cubicBezTo>
                  <a:pt x="337" y="458"/>
                  <a:pt x="354" y="549"/>
                  <a:pt x="349" y="616"/>
                </a:cubicBezTo>
                <a:cubicBezTo>
                  <a:pt x="344" y="683"/>
                  <a:pt x="311" y="752"/>
                  <a:pt x="295" y="795"/>
                </a:cubicBezTo>
                <a:cubicBezTo>
                  <a:pt x="279" y="837"/>
                  <a:pt x="270" y="851"/>
                  <a:pt x="248" y="873"/>
                </a:cubicBezTo>
                <a:cubicBezTo>
                  <a:pt x="226" y="894"/>
                  <a:pt x="192" y="935"/>
                  <a:pt x="162" y="926"/>
                </a:cubicBezTo>
                <a:cubicBezTo>
                  <a:pt x="133" y="916"/>
                  <a:pt x="91" y="853"/>
                  <a:pt x="69" y="817"/>
                </a:cubicBezTo>
                <a:cubicBezTo>
                  <a:pt x="47" y="782"/>
                  <a:pt x="41" y="759"/>
                  <a:pt x="30" y="715"/>
                </a:cubicBezTo>
                <a:cubicBezTo>
                  <a:pt x="19" y="671"/>
                  <a:pt x="0" y="628"/>
                  <a:pt x="3" y="554"/>
                </a:cubicBezTo>
                <a:cubicBezTo>
                  <a:pt x="6" y="480"/>
                  <a:pt x="23" y="356"/>
                  <a:pt x="51" y="269"/>
                </a:cubicBezTo>
                <a:cubicBezTo>
                  <a:pt x="79" y="182"/>
                  <a:pt x="146" y="81"/>
                  <a:pt x="171" y="32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23"/>
          <p:cNvSpPr/>
          <p:nvPr/>
        </p:nvSpPr>
        <p:spPr>
          <a:xfrm rot="14445600">
            <a:off x="348480" y="3999600"/>
            <a:ext cx="1301760" cy="804960"/>
          </a:xfrm>
          <a:custGeom>
            <a:avLst/>
            <a:gdLst/>
            <a:ahLst/>
            <a:rect l="l" t="t" r="r" b="b"/>
            <a:pathLst>
              <a:path w="820" h="507">
                <a:moveTo>
                  <a:pt x="42" y="507"/>
                </a:moveTo>
                <a:cubicBezTo>
                  <a:pt x="0" y="498"/>
                  <a:pt x="47" y="439"/>
                  <a:pt x="62" y="409"/>
                </a:cubicBezTo>
                <a:cubicBezTo>
                  <a:pt x="77" y="379"/>
                  <a:pt x="98" y="363"/>
                  <a:pt x="133" y="326"/>
                </a:cubicBezTo>
                <a:cubicBezTo>
                  <a:pt x="168" y="289"/>
                  <a:pt x="216" y="235"/>
                  <a:pt x="269" y="190"/>
                </a:cubicBezTo>
                <a:cubicBezTo>
                  <a:pt x="322" y="145"/>
                  <a:pt x="391" y="84"/>
                  <a:pt x="451" y="54"/>
                </a:cubicBezTo>
                <a:cubicBezTo>
                  <a:pt x="511" y="24"/>
                  <a:pt x="587" y="16"/>
                  <a:pt x="632" y="8"/>
                </a:cubicBezTo>
                <a:cubicBezTo>
                  <a:pt x="677" y="0"/>
                  <a:pt x="693" y="0"/>
                  <a:pt x="723" y="8"/>
                </a:cubicBezTo>
                <a:cubicBezTo>
                  <a:pt x="753" y="16"/>
                  <a:pt x="806" y="24"/>
                  <a:pt x="813" y="54"/>
                </a:cubicBezTo>
                <a:cubicBezTo>
                  <a:pt x="820" y="84"/>
                  <a:pt x="787" y="153"/>
                  <a:pt x="768" y="190"/>
                </a:cubicBezTo>
                <a:cubicBezTo>
                  <a:pt x="749" y="227"/>
                  <a:pt x="732" y="244"/>
                  <a:pt x="700" y="276"/>
                </a:cubicBezTo>
                <a:cubicBezTo>
                  <a:pt x="668" y="308"/>
                  <a:pt x="639" y="351"/>
                  <a:pt x="576" y="382"/>
                </a:cubicBezTo>
                <a:cubicBezTo>
                  <a:pt x="513" y="413"/>
                  <a:pt x="408" y="441"/>
                  <a:pt x="319" y="462"/>
                </a:cubicBezTo>
                <a:cubicBezTo>
                  <a:pt x="230" y="483"/>
                  <a:pt x="100" y="498"/>
                  <a:pt x="42" y="507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4"/>
          <p:cNvSpPr/>
          <p:nvPr/>
        </p:nvSpPr>
        <p:spPr>
          <a:xfrm>
            <a:off x="380880" y="396720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5"/>
          <p:cNvSpPr/>
          <p:nvPr/>
        </p:nvSpPr>
        <p:spPr>
          <a:xfrm flipV="1">
            <a:off x="1604880" y="4039920"/>
            <a:ext cx="1295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6"/>
          <p:cNvSpPr/>
          <p:nvPr/>
        </p:nvSpPr>
        <p:spPr>
          <a:xfrm>
            <a:off x="1604880" y="47592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7"/>
          <p:cNvSpPr/>
          <p:nvPr/>
        </p:nvSpPr>
        <p:spPr>
          <a:xfrm>
            <a:off x="1604880" y="5479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8"/>
          <p:cNvSpPr/>
          <p:nvPr/>
        </p:nvSpPr>
        <p:spPr>
          <a:xfrm>
            <a:off x="2181240" y="4327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9"/>
          <p:cNvSpPr/>
          <p:nvPr/>
        </p:nvSpPr>
        <p:spPr>
          <a:xfrm>
            <a:off x="668160" y="41832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0"/>
          <p:cNvSpPr/>
          <p:nvPr/>
        </p:nvSpPr>
        <p:spPr>
          <a:xfrm>
            <a:off x="2541600" y="4759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60000"/>
                </a:solidFill>
                <a:latin typeface="Arial"/>
              </a:rPr>
              <a:t>Пример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30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Y=|log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(|x-2|)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ро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y=log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y=log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имметрия относительно ос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y=log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(|x-2|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араллельный перено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 2 ед. в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y=|log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(|x-2|)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имметрия относительно ос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596360" y="3068640"/>
            <a:ext cx="53964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596360" y="3645000"/>
            <a:ext cx="539640" cy="179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32720" y="4292640"/>
            <a:ext cx="539640" cy="179280"/>
          </a:xfrm>
          <a:prstGeom prst="rect">
            <a:avLst/>
          </a:prstGeom>
          <a:solidFill>
            <a:srgbClr val="e94d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7632720" y="4869000"/>
            <a:ext cx="539640" cy="179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>
            <a:hlinkClick r:id="rId1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611280" y="1413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роить на отдельных листах кривую заданную в полярной системе координат формулой: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Cos 2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2411280" y="3284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ь результат  по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413080" y="486900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"/>
          <p:cNvSpPr/>
          <p:nvPr/>
        </p:nvSpPr>
        <p:spPr>
          <a:xfrm rot="21350400">
            <a:off x="4284720" y="4149360"/>
            <a:ext cx="1895400" cy="1403280"/>
          </a:xfrm>
          <a:custGeom>
            <a:avLst/>
            <a:gdLst/>
            <a:ahLst/>
            <a:rect l="l" t="t" r="r" b="b"/>
            <a:pathLst>
              <a:path w="1194" h="884">
                <a:moveTo>
                  <a:pt x="15" y="416"/>
                </a:moveTo>
                <a:cubicBezTo>
                  <a:pt x="0" y="356"/>
                  <a:pt x="83" y="333"/>
                  <a:pt x="151" y="280"/>
                </a:cubicBezTo>
                <a:cubicBezTo>
                  <a:pt x="219" y="227"/>
                  <a:pt x="332" y="143"/>
                  <a:pt x="423" y="98"/>
                </a:cubicBezTo>
                <a:cubicBezTo>
                  <a:pt x="514" y="53"/>
                  <a:pt x="605" y="16"/>
                  <a:pt x="696" y="8"/>
                </a:cubicBezTo>
                <a:cubicBezTo>
                  <a:pt x="787" y="0"/>
                  <a:pt x="892" y="15"/>
                  <a:pt x="968" y="53"/>
                </a:cubicBezTo>
                <a:cubicBezTo>
                  <a:pt x="1044" y="91"/>
                  <a:pt x="1111" y="174"/>
                  <a:pt x="1149" y="234"/>
                </a:cubicBezTo>
                <a:cubicBezTo>
                  <a:pt x="1187" y="294"/>
                  <a:pt x="1194" y="348"/>
                  <a:pt x="1194" y="416"/>
                </a:cubicBezTo>
                <a:cubicBezTo>
                  <a:pt x="1194" y="484"/>
                  <a:pt x="1179" y="583"/>
                  <a:pt x="1149" y="643"/>
                </a:cubicBezTo>
                <a:cubicBezTo>
                  <a:pt x="1119" y="703"/>
                  <a:pt x="1066" y="741"/>
                  <a:pt x="1013" y="779"/>
                </a:cubicBezTo>
                <a:cubicBezTo>
                  <a:pt x="960" y="817"/>
                  <a:pt x="892" y="854"/>
                  <a:pt x="832" y="869"/>
                </a:cubicBezTo>
                <a:cubicBezTo>
                  <a:pt x="772" y="884"/>
                  <a:pt x="718" y="884"/>
                  <a:pt x="650" y="869"/>
                </a:cubicBezTo>
                <a:cubicBezTo>
                  <a:pt x="582" y="854"/>
                  <a:pt x="491" y="817"/>
                  <a:pt x="423" y="779"/>
                </a:cubicBezTo>
                <a:cubicBezTo>
                  <a:pt x="355" y="741"/>
                  <a:pt x="310" y="696"/>
                  <a:pt x="242" y="643"/>
                </a:cubicBezTo>
                <a:cubicBezTo>
                  <a:pt x="174" y="590"/>
                  <a:pt x="30" y="476"/>
                  <a:pt x="15" y="416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6"/>
          <p:cNvSpPr/>
          <p:nvPr/>
        </p:nvSpPr>
        <p:spPr>
          <a:xfrm rot="10644600">
            <a:off x="2412360" y="4149360"/>
            <a:ext cx="1895400" cy="1403280"/>
          </a:xfrm>
          <a:custGeom>
            <a:avLst/>
            <a:gdLst/>
            <a:ahLst/>
            <a:rect l="l" t="t" r="r" b="b"/>
            <a:pathLst>
              <a:path w="1194" h="884">
                <a:moveTo>
                  <a:pt x="15" y="416"/>
                </a:moveTo>
                <a:cubicBezTo>
                  <a:pt x="0" y="356"/>
                  <a:pt x="83" y="333"/>
                  <a:pt x="151" y="280"/>
                </a:cubicBezTo>
                <a:cubicBezTo>
                  <a:pt x="219" y="227"/>
                  <a:pt x="332" y="143"/>
                  <a:pt x="423" y="98"/>
                </a:cubicBezTo>
                <a:cubicBezTo>
                  <a:pt x="514" y="53"/>
                  <a:pt x="605" y="16"/>
                  <a:pt x="696" y="8"/>
                </a:cubicBezTo>
                <a:cubicBezTo>
                  <a:pt x="787" y="0"/>
                  <a:pt x="892" y="15"/>
                  <a:pt x="968" y="53"/>
                </a:cubicBezTo>
                <a:cubicBezTo>
                  <a:pt x="1044" y="91"/>
                  <a:pt x="1111" y="174"/>
                  <a:pt x="1149" y="234"/>
                </a:cubicBezTo>
                <a:cubicBezTo>
                  <a:pt x="1187" y="294"/>
                  <a:pt x="1194" y="348"/>
                  <a:pt x="1194" y="416"/>
                </a:cubicBezTo>
                <a:cubicBezTo>
                  <a:pt x="1194" y="484"/>
                  <a:pt x="1179" y="583"/>
                  <a:pt x="1149" y="643"/>
                </a:cubicBezTo>
                <a:cubicBezTo>
                  <a:pt x="1119" y="703"/>
                  <a:pt x="1066" y="741"/>
                  <a:pt x="1013" y="779"/>
                </a:cubicBezTo>
                <a:cubicBezTo>
                  <a:pt x="960" y="817"/>
                  <a:pt x="892" y="854"/>
                  <a:pt x="832" y="869"/>
                </a:cubicBezTo>
                <a:cubicBezTo>
                  <a:pt x="772" y="884"/>
                  <a:pt x="718" y="884"/>
                  <a:pt x="650" y="869"/>
                </a:cubicBezTo>
                <a:cubicBezTo>
                  <a:pt x="582" y="854"/>
                  <a:pt x="491" y="817"/>
                  <a:pt x="423" y="779"/>
                </a:cubicBezTo>
                <a:cubicBezTo>
                  <a:pt x="355" y="741"/>
                  <a:pt x="310" y="696"/>
                  <a:pt x="242" y="643"/>
                </a:cubicBezTo>
                <a:cubicBezTo>
                  <a:pt x="174" y="590"/>
                  <a:pt x="30" y="476"/>
                  <a:pt x="15" y="416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>
            <a:off x="3492360" y="4005360"/>
            <a:ext cx="1584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8"/>
          <p:cNvSpPr/>
          <p:nvPr/>
        </p:nvSpPr>
        <p:spPr>
          <a:xfrm flipV="1">
            <a:off x="3492360" y="4005000"/>
            <a:ext cx="16560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9"/>
          <p:cNvSpPr/>
          <p:nvPr/>
        </p:nvSpPr>
        <p:spPr>
          <a:xfrm>
            <a:off x="4284720" y="4869000"/>
            <a:ext cx="1871640" cy="215640"/>
          </a:xfrm>
          <a:custGeom>
            <a:avLst/>
            <a:gdLst/>
            <a:ahLst/>
            <a:rect l="l" t="t" r="r" b="b"/>
            <a:pathLst>
              <a:path w="1134" h="91">
                <a:moveTo>
                  <a:pt x="0" y="0"/>
                </a:moveTo>
                <a:cubicBezTo>
                  <a:pt x="200" y="45"/>
                  <a:pt x="401" y="91"/>
                  <a:pt x="590" y="91"/>
                </a:cubicBezTo>
                <a:cubicBezTo>
                  <a:pt x="779" y="91"/>
                  <a:pt x="1021" y="7"/>
                  <a:pt x="11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221440" y="5013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6300720" y="4869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4068720" y="429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3"/>
          <p:cNvSpPr/>
          <p:nvPr/>
        </p:nvSpPr>
        <p:spPr>
          <a:xfrm>
            <a:off x="7596360" y="5516640"/>
            <a:ext cx="863280" cy="1008000"/>
          </a:xfrm>
          <a:custGeom>
            <a:avLst/>
            <a:gdLst>
              <a:gd name="textAreaLeft" fmla="*/ 115560 w 863280"/>
              <a:gd name="textAreaRight" fmla="*/ 747720 w 86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755640" y="1484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я функция является парабол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1258920" y="2637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3x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1332000" y="371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1332000" y="472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Cos 3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/>
          <p:cNvSpPr/>
          <p:nvPr/>
        </p:nvSpPr>
        <p:spPr>
          <a:xfrm>
            <a:off x="250920" y="1773360"/>
            <a:ext cx="1944720" cy="324000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3"/>
          <p:cNvSpPr/>
          <p:nvPr/>
        </p:nvSpPr>
        <p:spPr>
          <a:xfrm>
            <a:off x="2484360" y="1773360"/>
            <a:ext cx="1944720" cy="324000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/>
          <p:cNvSpPr/>
          <p:nvPr/>
        </p:nvSpPr>
        <p:spPr>
          <a:xfrm>
            <a:off x="4716360" y="1773360"/>
            <a:ext cx="1944720" cy="324000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6948360" y="1773360"/>
            <a:ext cx="1944720" cy="324000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WordArt 6"/>
          <p:cNvSpPr txBox="1"/>
          <p:nvPr/>
        </p:nvSpPr>
        <p:spPr>
          <a:xfrm>
            <a:off x="395280" y="1916280"/>
            <a:ext cx="503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4" name="WordArt 7"/>
          <p:cNvSpPr txBox="1"/>
          <p:nvPr/>
        </p:nvSpPr>
        <p:spPr>
          <a:xfrm>
            <a:off x="3780000" y="4005360"/>
            <a:ext cx="502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5" name="WordArt 8"/>
          <p:cNvSpPr txBox="1"/>
          <p:nvPr/>
        </p:nvSpPr>
        <p:spPr>
          <a:xfrm>
            <a:off x="2627280" y="1916280"/>
            <a:ext cx="50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6" name="WordArt 9"/>
          <p:cNvSpPr txBox="1"/>
          <p:nvPr/>
        </p:nvSpPr>
        <p:spPr>
          <a:xfrm>
            <a:off x="1547640" y="4005360"/>
            <a:ext cx="35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ерите кар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11"/>
          <p:cNvSpPr txBox="1"/>
          <p:nvPr/>
        </p:nvSpPr>
        <p:spPr>
          <a:xfrm>
            <a:off x="7093080" y="1916280"/>
            <a:ext cx="55548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9" name="WordArt 12"/>
          <p:cNvSpPr txBox="1"/>
          <p:nvPr/>
        </p:nvSpPr>
        <p:spPr>
          <a:xfrm>
            <a:off x="8172360" y="407664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WordArt 13"/>
          <p:cNvSpPr txBox="1"/>
          <p:nvPr/>
        </p:nvSpPr>
        <p:spPr>
          <a:xfrm>
            <a:off x="4788000" y="1844640"/>
            <a:ext cx="574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WordArt 14"/>
          <p:cNvSpPr txBox="1"/>
          <p:nvPr/>
        </p:nvSpPr>
        <p:spPr>
          <a:xfrm>
            <a:off x="6012000" y="4149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324000" y="1844640"/>
            <a:ext cx="180000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 flipH="1">
            <a:off x="2556000" y="1844640"/>
            <a:ext cx="180000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 flipH="1">
            <a:off x="4788000" y="1844640"/>
            <a:ext cx="180000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8"/>
          <p:cNvSpPr/>
          <p:nvPr/>
        </p:nvSpPr>
        <p:spPr>
          <a:xfrm flipH="1">
            <a:off x="7020000" y="1844640"/>
            <a:ext cx="180000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9"/>
          <p:cNvSpPr/>
          <p:nvPr/>
        </p:nvSpPr>
        <p:spPr>
          <a:xfrm>
            <a:off x="7596360" y="5516640"/>
            <a:ext cx="863280" cy="1008000"/>
          </a:xfrm>
          <a:custGeom>
            <a:avLst/>
            <a:gdLst>
              <a:gd name="textAreaLeft" fmla="*/ 115560 w 863280"/>
              <a:gd name="textAreaRight" fmla="*/ 747720 w 86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1"/>
          <p:cNvSpPr/>
          <p:nvPr/>
        </p:nvSpPr>
        <p:spPr>
          <a:xfrm>
            <a:off x="539640" y="6165720"/>
            <a:ext cx="8636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2"/>
          <p:cNvSpPr txBox="1"/>
          <p:nvPr/>
        </p:nvSpPr>
        <p:spPr>
          <a:xfrm>
            <a:off x="1116000" y="2060640"/>
            <a:ext cx="6840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7596360" y="5516640"/>
            <a:ext cx="863280" cy="1008000"/>
          </a:xfrm>
          <a:custGeom>
            <a:avLst/>
            <a:gdLst>
              <a:gd name="textAreaLeft" fmla="*/ 115560 w 863280"/>
              <a:gd name="textAreaRight" fmla="*/ 747720 w 86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187280" y="2276640"/>
            <a:ext cx="6605640" cy="24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ый отв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7596360" y="5516640"/>
            <a:ext cx="863280" cy="1008000"/>
          </a:xfrm>
          <a:custGeom>
            <a:avLst/>
            <a:gdLst>
              <a:gd name="textAreaLeft" fmla="*/ 115560 w 863280"/>
              <a:gd name="textAreaRight" fmla="*/ 747720 w 86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611280" y="1413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роить на отдельных листах кривую заданную в полярной системе координат формулой: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2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"/>
          <p:cNvSpPr/>
          <p:nvPr/>
        </p:nvSpPr>
        <p:spPr>
          <a:xfrm>
            <a:off x="3564000" y="479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"/>
          <p:cNvSpPr/>
          <p:nvPr/>
        </p:nvSpPr>
        <p:spPr>
          <a:xfrm>
            <a:off x="3564000" y="3716280"/>
            <a:ext cx="1981080" cy="2183040"/>
          </a:xfrm>
          <a:custGeom>
            <a:avLst/>
            <a:gdLst/>
            <a:ahLst/>
            <a:rect l="l" t="t" r="r" b="b"/>
            <a:pathLst>
              <a:path w="1248" h="1375">
                <a:moveTo>
                  <a:pt x="1081" y="706"/>
                </a:moveTo>
                <a:cubicBezTo>
                  <a:pt x="1081" y="729"/>
                  <a:pt x="1162" y="745"/>
                  <a:pt x="1189" y="782"/>
                </a:cubicBezTo>
                <a:cubicBezTo>
                  <a:pt x="1216" y="819"/>
                  <a:pt x="1234" y="883"/>
                  <a:pt x="1241" y="928"/>
                </a:cubicBezTo>
                <a:cubicBezTo>
                  <a:pt x="1248" y="973"/>
                  <a:pt x="1243" y="1018"/>
                  <a:pt x="1234" y="1055"/>
                </a:cubicBezTo>
                <a:cubicBezTo>
                  <a:pt x="1225" y="1092"/>
                  <a:pt x="1210" y="1120"/>
                  <a:pt x="1189" y="1150"/>
                </a:cubicBezTo>
                <a:cubicBezTo>
                  <a:pt x="1168" y="1180"/>
                  <a:pt x="1136" y="1213"/>
                  <a:pt x="1108" y="1238"/>
                </a:cubicBezTo>
                <a:cubicBezTo>
                  <a:pt x="1080" y="1263"/>
                  <a:pt x="1053" y="1282"/>
                  <a:pt x="1021" y="1301"/>
                </a:cubicBezTo>
                <a:cubicBezTo>
                  <a:pt x="989" y="1320"/>
                  <a:pt x="955" y="1342"/>
                  <a:pt x="915" y="1354"/>
                </a:cubicBezTo>
                <a:cubicBezTo>
                  <a:pt x="875" y="1366"/>
                  <a:pt x="826" y="1369"/>
                  <a:pt x="781" y="1372"/>
                </a:cubicBezTo>
                <a:cubicBezTo>
                  <a:pt x="736" y="1375"/>
                  <a:pt x="680" y="1374"/>
                  <a:pt x="645" y="1372"/>
                </a:cubicBezTo>
                <a:cubicBezTo>
                  <a:pt x="610" y="1370"/>
                  <a:pt x="598" y="1367"/>
                  <a:pt x="569" y="1363"/>
                </a:cubicBezTo>
                <a:cubicBezTo>
                  <a:pt x="540" y="1359"/>
                  <a:pt x="522" y="1361"/>
                  <a:pt x="472" y="1345"/>
                </a:cubicBezTo>
                <a:cubicBezTo>
                  <a:pt x="422" y="1329"/>
                  <a:pt x="305" y="1282"/>
                  <a:pt x="266" y="1264"/>
                </a:cubicBezTo>
                <a:cubicBezTo>
                  <a:pt x="227" y="1246"/>
                  <a:pt x="252" y="1250"/>
                  <a:pt x="240" y="1238"/>
                </a:cubicBezTo>
                <a:cubicBezTo>
                  <a:pt x="228" y="1226"/>
                  <a:pt x="214" y="1221"/>
                  <a:pt x="191" y="1191"/>
                </a:cubicBezTo>
                <a:cubicBezTo>
                  <a:pt x="168" y="1161"/>
                  <a:pt x="123" y="1093"/>
                  <a:pt x="100" y="1055"/>
                </a:cubicBezTo>
                <a:cubicBezTo>
                  <a:pt x="77" y="1017"/>
                  <a:pt x="70" y="1002"/>
                  <a:pt x="55" y="964"/>
                </a:cubicBezTo>
                <a:cubicBezTo>
                  <a:pt x="40" y="926"/>
                  <a:pt x="19" y="875"/>
                  <a:pt x="10" y="828"/>
                </a:cubicBezTo>
                <a:cubicBezTo>
                  <a:pt x="1" y="781"/>
                  <a:pt x="0" y="725"/>
                  <a:pt x="0" y="680"/>
                </a:cubicBezTo>
                <a:cubicBezTo>
                  <a:pt x="0" y="635"/>
                  <a:pt x="1" y="599"/>
                  <a:pt x="10" y="556"/>
                </a:cubicBezTo>
                <a:cubicBezTo>
                  <a:pt x="19" y="513"/>
                  <a:pt x="43" y="454"/>
                  <a:pt x="55" y="420"/>
                </a:cubicBezTo>
                <a:cubicBezTo>
                  <a:pt x="67" y="386"/>
                  <a:pt x="65" y="382"/>
                  <a:pt x="80" y="352"/>
                </a:cubicBezTo>
                <a:cubicBezTo>
                  <a:pt x="95" y="322"/>
                  <a:pt x="122" y="269"/>
                  <a:pt x="146" y="238"/>
                </a:cubicBezTo>
                <a:cubicBezTo>
                  <a:pt x="170" y="207"/>
                  <a:pt x="188" y="193"/>
                  <a:pt x="223" y="166"/>
                </a:cubicBezTo>
                <a:cubicBezTo>
                  <a:pt x="258" y="139"/>
                  <a:pt x="313" y="100"/>
                  <a:pt x="356" y="78"/>
                </a:cubicBezTo>
                <a:cubicBezTo>
                  <a:pt x="399" y="56"/>
                  <a:pt x="432" y="44"/>
                  <a:pt x="480" y="33"/>
                </a:cubicBezTo>
                <a:cubicBezTo>
                  <a:pt x="528" y="22"/>
                  <a:pt x="595" y="15"/>
                  <a:pt x="645" y="11"/>
                </a:cubicBezTo>
                <a:cubicBezTo>
                  <a:pt x="695" y="7"/>
                  <a:pt x="726" y="0"/>
                  <a:pt x="781" y="11"/>
                </a:cubicBezTo>
                <a:cubicBezTo>
                  <a:pt x="836" y="22"/>
                  <a:pt x="921" y="47"/>
                  <a:pt x="975" y="77"/>
                </a:cubicBezTo>
                <a:cubicBezTo>
                  <a:pt x="1029" y="107"/>
                  <a:pt x="1072" y="150"/>
                  <a:pt x="1108" y="192"/>
                </a:cubicBezTo>
                <a:cubicBezTo>
                  <a:pt x="1144" y="234"/>
                  <a:pt x="1168" y="286"/>
                  <a:pt x="1189" y="329"/>
                </a:cubicBezTo>
                <a:cubicBezTo>
                  <a:pt x="1210" y="372"/>
                  <a:pt x="1225" y="411"/>
                  <a:pt x="1232" y="449"/>
                </a:cubicBezTo>
                <a:cubicBezTo>
                  <a:pt x="1239" y="487"/>
                  <a:pt x="1241" y="523"/>
                  <a:pt x="1234" y="556"/>
                </a:cubicBezTo>
                <a:cubicBezTo>
                  <a:pt x="1227" y="589"/>
                  <a:pt x="1215" y="621"/>
                  <a:pt x="1189" y="646"/>
                </a:cubicBezTo>
                <a:cubicBezTo>
                  <a:pt x="1163" y="671"/>
                  <a:pt x="1081" y="683"/>
                  <a:pt x="1081" y="706"/>
                </a:cubicBez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5"/>
          <p:cNvSpPr/>
          <p:nvPr/>
        </p:nvSpPr>
        <p:spPr>
          <a:xfrm>
            <a:off x="3564000" y="4365720"/>
            <a:ext cx="8650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6"/>
          <p:cNvSpPr/>
          <p:nvPr/>
        </p:nvSpPr>
        <p:spPr>
          <a:xfrm>
            <a:off x="4427640" y="4365720"/>
            <a:ext cx="863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392436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471636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5148360" y="47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0"/>
          <p:cNvSpPr/>
          <p:nvPr/>
        </p:nvSpPr>
        <p:spPr>
          <a:xfrm>
            <a:off x="7596360" y="5516640"/>
            <a:ext cx="863280" cy="1008000"/>
          </a:xfrm>
          <a:custGeom>
            <a:avLst/>
            <a:gdLst>
              <a:gd name="textAreaLeft" fmla="*/ 115560 w 863280"/>
              <a:gd name="textAreaRight" fmla="*/ 747720 w 86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2484360" y="2924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ь результат  по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Точечный рисунок (7)"/>
          <p:cNvPicPr/>
          <p:nvPr/>
        </p:nvPicPr>
        <p:blipFill>
          <a:blip r:embed="rId1"/>
          <a:stretch/>
        </p:blipFill>
        <p:spPr>
          <a:xfrm>
            <a:off x="3530520" y="134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3"/>
          <p:cNvSpPr/>
          <p:nvPr/>
        </p:nvSpPr>
        <p:spPr>
          <a:xfrm>
            <a:off x="1403280" y="836640"/>
            <a:ext cx="61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а кардиоида, каково отношение радиуса катящейся окружности к радиусу неподвижн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1332000" y="28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1332000" y="38606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1332000" y="4869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826920" y="62064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чего зависит период колебаний часового маят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900000" y="2205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скорости колеб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900000" y="5300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длины нити мая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900000" y="371628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амплиту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755640" y="1484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я функция является гипербол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1258920" y="2637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2/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1258920" y="378936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5x 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332000" y="4941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Arial"/>
              </a:rPr>
              <a:t>Y=log</a:t>
            </a:r>
            <a:r>
              <a:rPr b="0" lang="en-US" sz="4400" spc="-1" strike="noStrike" baseline="-25000">
                <a:solidFill>
                  <a:srgbClr val="76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76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364000" y="476280"/>
            <a:ext cx="2664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60000"/>
                </a:solidFill>
                <a:latin typeface="Arial"/>
              </a:rPr>
              <a:t>Y=log</a:t>
            </a:r>
            <a:r>
              <a:rPr b="1" lang="en-US" sz="4400" spc="-1" strike="noStrike" baseline="-25000">
                <a:solidFill>
                  <a:srgbClr val="76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760000"/>
                </a:solidFill>
                <a:latin typeface="Arial"/>
              </a:rPr>
              <a:t>|x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032360" cy="3737160"/>
          </a:xfrm>
          <a:prstGeom prst="rect">
            <a:avLst/>
          </a:prstGeom>
          <a:ln w="0">
            <a:noFill/>
          </a:ln>
        </p:spPr>
      </p:pic>
      <p:sp>
        <p:nvSpPr>
          <p:cNvPr id="93" name="Freeform 8"/>
          <p:cNvSpPr/>
          <p:nvPr/>
        </p:nvSpPr>
        <p:spPr>
          <a:xfrm>
            <a:off x="2484360" y="2781360"/>
            <a:ext cx="1511280" cy="1079280"/>
          </a:xfrm>
          <a:custGeom>
            <a:avLst/>
            <a:gdLst/>
            <a:ahLst/>
            <a:rect l="l" t="t" r="r" b="b"/>
            <a:pathLst>
              <a:path w="952" h="680">
                <a:moveTo>
                  <a:pt x="0" y="680"/>
                </a:moveTo>
                <a:cubicBezTo>
                  <a:pt x="7" y="619"/>
                  <a:pt x="15" y="559"/>
                  <a:pt x="45" y="499"/>
                </a:cubicBezTo>
                <a:cubicBezTo>
                  <a:pt x="75" y="439"/>
                  <a:pt x="128" y="362"/>
                  <a:pt x="181" y="317"/>
                </a:cubicBezTo>
                <a:cubicBezTo>
                  <a:pt x="234" y="272"/>
                  <a:pt x="234" y="280"/>
                  <a:pt x="362" y="227"/>
                </a:cubicBezTo>
                <a:cubicBezTo>
                  <a:pt x="490" y="174"/>
                  <a:pt x="854" y="38"/>
                  <a:pt x="9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887640" cy="3743280"/>
          </a:xfrm>
          <a:prstGeom prst="rect">
            <a:avLst/>
          </a:prstGeom>
          <a:ln w="0">
            <a:noFill/>
          </a:ln>
        </p:spPr>
      </p:pic>
      <p:sp>
        <p:nvSpPr>
          <p:cNvPr id="95" name="Freeform 10"/>
          <p:cNvSpPr/>
          <p:nvPr/>
        </p:nvSpPr>
        <p:spPr>
          <a:xfrm>
            <a:off x="6732720" y="2852640"/>
            <a:ext cx="1511280" cy="1079640"/>
          </a:xfrm>
          <a:custGeom>
            <a:avLst/>
            <a:gdLst/>
            <a:ahLst/>
            <a:rect l="l" t="t" r="r" b="b"/>
            <a:pathLst>
              <a:path w="952" h="680">
                <a:moveTo>
                  <a:pt x="0" y="680"/>
                </a:moveTo>
                <a:cubicBezTo>
                  <a:pt x="7" y="619"/>
                  <a:pt x="15" y="559"/>
                  <a:pt x="45" y="499"/>
                </a:cubicBezTo>
                <a:cubicBezTo>
                  <a:pt x="75" y="439"/>
                  <a:pt x="128" y="362"/>
                  <a:pt x="181" y="317"/>
                </a:cubicBezTo>
                <a:cubicBezTo>
                  <a:pt x="234" y="272"/>
                  <a:pt x="234" y="280"/>
                  <a:pt x="362" y="227"/>
                </a:cubicBezTo>
                <a:cubicBezTo>
                  <a:pt x="490" y="174"/>
                  <a:pt x="854" y="38"/>
                  <a:pt x="952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5148360" y="2781360"/>
            <a:ext cx="1511280" cy="1224000"/>
          </a:xfrm>
          <a:custGeom>
            <a:avLst/>
            <a:gdLst/>
            <a:ahLst/>
            <a:rect l="l" t="t" r="r" b="b"/>
            <a:pathLst>
              <a:path w="952" h="771">
                <a:moveTo>
                  <a:pt x="0" y="0"/>
                </a:moveTo>
                <a:cubicBezTo>
                  <a:pt x="94" y="38"/>
                  <a:pt x="189" y="76"/>
                  <a:pt x="317" y="136"/>
                </a:cubicBezTo>
                <a:cubicBezTo>
                  <a:pt x="445" y="196"/>
                  <a:pt x="665" y="257"/>
                  <a:pt x="771" y="363"/>
                </a:cubicBezTo>
                <a:cubicBezTo>
                  <a:pt x="877" y="469"/>
                  <a:pt x="914" y="620"/>
                  <a:pt x="952" y="77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4">
            <a:hlinkClick r:id="rId3" action="ppaction://hlinksldjump"/>
          </p:cNvPr>
          <p:cNvSpPr/>
          <p:nvPr/>
        </p:nvSpPr>
        <p:spPr>
          <a:xfrm>
            <a:off x="8567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1:22:09Z</dcterms:created>
  <dc:creator>Comp12</dc:creator>
  <dc:description/>
  <dc:language>en-US</dc:language>
  <cp:lastModifiedBy>user</cp:lastModifiedBy>
  <dcterms:modified xsi:type="dcterms:W3CDTF">2012-01-28T11:04:35Z</dcterms:modified>
  <cp:revision>23</cp:revision>
  <dc:subject/>
  <dc:title>Слайд 1</dc:title>
</cp:coreProperties>
</file>