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44C-CFDF-4042-9BB0-8509DE40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D50-A463-4462-9006-225EFF36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2B4C3-92C6-4196-948C-5696BB28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53385-748E-4F79-93F0-3400204E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52F26-2F8C-4236-BC02-43EA2A6B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50AB5-B4C9-42D4-8477-874D07D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7E6AC-B55E-4D66-8C12-F1D930A1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ADFFB-549D-4F86-8458-0DA885E2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270CD-E246-4E29-8879-2E201D4D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68FD7-99AE-4666-8D5B-E40E5ABE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5840D-29AC-4C80-95DB-C79BD81A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948-188E-45DF-8BD5-72FB439E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2CA-3B81-4C5C-9894-5F5F0AAF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293E-C9B5-4208-A7AA-6B568AF3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2613-D046-4F9C-9B36-38DCF916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FDB4-7ABE-44CE-8F93-DE10D2C7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10A4-C621-4A78-AB65-FD67283E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68ED-B9BC-42B8-91FF-BA51F8F5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45BD-0E1B-45D0-A37A-0C8022E3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46EC-9BD7-41AA-8568-13443B7E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6F1-0547-4FE1-A0CD-02BDEA6B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47C2-E52A-44C4-92A1-C35422C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99F7-DA57-42DF-A277-F53BC9FE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EC18-5537-4A42-B7AF-4B02124A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A5C4-E422-47AA-A741-3C991A72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7BF6-43F1-4E7D-92BE-C6AEEFAA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5380-C8FE-41A5-973F-51CEBE62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A74C-63BF-4A05-8290-272E344A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52E5-06BC-4B53-93CF-0C1588D7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4502-58C5-4595-96EA-1B21162F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4652-056B-4EB8-823C-BFCDF45D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5FA-AC4C-494D-8FFF-0F62F2C6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01C1-56C9-48C8-8171-8BFAD919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62D8-3170-45B8-8329-D48E9895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4CFB-D06C-45DB-A30F-ECDC994D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6CBE-E3C9-42EC-993D-77CD64F7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B8BE-805A-4913-9AB9-02456CD1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FDDF-21A5-4EA5-8B8D-932EB15F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6BAE-59C1-41B9-AAD0-0B00A2BB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632A5-65D4-47FF-A34F-3AC339A7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0ACD-6B63-4A82-A903-90234C7D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0841-37C6-4752-A733-30555BFF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3F3-0AF5-40CD-84F9-E8141A03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D7E6-F793-42A2-A711-096F8F4E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074D-59CE-4DF5-B8D3-87FD7102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9C312-7066-4BAD-A907-EF4B5C2D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0C48-A68C-460B-86B6-0F6D99E0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7823-D074-45B4-9A74-0DB4726A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88CB-D2F5-4232-A323-95147448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66286-5C13-441D-86E6-B4CF751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626E-C49C-41F3-BDC2-4E3D1A45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3DA3E-0BA6-4985-B7A0-6220E50E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D4AD-A630-43A4-89E2-8E426318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44E-2F7F-49C9-A4CC-0F577BEE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CE934-7DD5-42A5-8FB0-44792B94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38D24-80AE-4B2B-812E-05B2B58A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12539-E71A-49FE-83FE-57596494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1F066-0067-489F-9586-53799BBE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D6410-11E6-4E9C-8A0F-EBA5DE31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06E2D-CC5F-48AE-B6D8-B8263EC7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1C27D-7F55-42C1-95E5-607DB9A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AE62-4463-443A-8716-BB4A725A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58C8-0A2A-45C8-8805-B1E57231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33798-BA07-4EB4-ABD5-1B956134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2C7-62F9-4A2B-91B3-533A20D9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84B0-69E9-4054-B41E-54791540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B2541-4E89-4C64-93A7-EE999A6A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2C394-5640-4301-9AA8-1B73D7AF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B8BDE-50B6-403D-A41D-CDBECC68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D670A-65F4-4F66-AB4F-C620DD98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79EC-ED38-473A-A80A-A2632374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CEFAE-46AA-4D1E-BCCD-03068899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91487-209D-4FFB-85EE-30504BA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AC0AF-3C6C-4326-A908-F0C169D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A2FE0-6F14-45B9-ADA1-E6283B2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B98-F51C-4506-A456-98FDF75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3E03-4367-4965-9FB5-C0387598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653B-B8B2-468C-8FA7-2BFBAEA0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FC273-F3E7-41BF-98E0-B9646498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D0C55-8076-49F8-9C8B-D6A0EA45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AB552-E635-4184-92A7-B917DB4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B5413-866F-49A8-9D58-E0BE9A8C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9940E-3DF0-4E20-829F-02A28AD3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3086C-A664-4B2B-B0E3-E1AD0D23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51149-247A-47AC-AFA3-C4E2341A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7267E-E3ED-4335-8AE8-7BFE4794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AF6-8C16-4D54-9AB3-09FB0697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72B7B-F46F-40F8-813C-6312256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E20B3-53E9-4BEC-BD90-0520828B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B0F2E-8628-45F1-84DC-45077A50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5DAB-4A1E-4517-9114-6AAABE79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30759-6C31-437A-B0E0-5A3AA657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868DB-0931-4F00-B59B-C96E7C66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027BC-A33F-4B25-882A-036F2FC2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6980D-DF46-4B14-869C-88DCE984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4E225-D057-4103-B8EF-68F91B56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F7366-1DEE-4306-9AB2-2507BE0F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BCD-CB57-4294-BBC9-BA4AD24E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45B49-7A2C-4A3B-8095-664E31CB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FA3D7-83AD-46DA-A1AF-39DEC38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2DB91-3D72-469B-9E4F-F6F5FEB7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89EBD-E891-40A8-B87C-34002594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0EAE7-3546-4B84-B63B-2E4EB33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E328-5DF3-405F-A192-3D3221FE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27C39-03D4-4272-87EB-0410F116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3DE9F-A6C8-4A48-BE6B-F48ADFA3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23A5D-150C-4A45-9C25-045B3F16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4C255-3D89-4EE6-B842-17002BAA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677-DCC4-42AD-BC71-695D7516A2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7C3D-EDC0-4657-9236-FA7F0EFA3FB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77D5-6A90-4AE0-B5EE-E62C079E487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8DFC-1EF7-4441-88EC-3D74E43D93F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12E5-7AAA-4C49-B137-87AF2ADF34D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7622-6078-4C69-809C-A246B9434D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0DCF-B58B-4549-98FA-1217A86422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CF42-140E-4B8C-911A-9F606FB7484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EA20-E6DB-4018-BDC9-42CCC3CCE82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www.babysmart.ru/" TargetMode="External"/><Relationship Id="rId3" Type="http://schemas.openxmlformats.org/officeDocument/2006/relationships/hyperlink" Target="http://www.raskraska.com/raskraski/237/5.html" TargetMode="External"/><Relationship Id="rId4" Type="http://schemas.openxmlformats.org/officeDocument/2006/relationships/hyperlink" Target="http://www.liveinternet.ru/users/red-rous/post174489333/" TargetMode="External"/><Relationship Id="rId5" Type="http://schemas.openxmlformats.org/officeDocument/2006/relationships/hyperlink" Target="http://mag---charodey.diary.ru/p76688732.htm" TargetMode="External"/><Relationship Id="rId6" Type="http://schemas.openxmlformats.org/officeDocument/2006/relationships/hyperlink" Target="http://www.xrest.ru/preview/168935/" TargetMode="External"/><Relationship Id="rId7" Type="http://schemas.openxmlformats.org/officeDocument/2006/relationships/hyperlink" Target="http://images.yandex.ru/yandsearch?rpt=image&amp;text=&#1082;&#1088;&#1072;&#1089;&#1085;&#1072;&#1103;%20&#1096;&#1072;&#1087;&#1086;&#1095;&#1082;&#1072;&amp;like=img1.liveinternet.ru/images/attach/c/1/61/869/61869107_image.png" TargetMode="External"/><Relationship Id="rId8" Type="http://schemas.openxmlformats.org/officeDocument/2006/relationships/hyperlink" Target="http://clubs.ya.ru/4611686018427432697/replies.xml?item_no=37494" TargetMode="External"/><Relationship Id="rId9" Type="http://schemas.openxmlformats.org/officeDocument/2006/relationships/hyperlink" Target="http://www.flylady.su/blog/Svechka/2874.html" TargetMode="External"/><Relationship Id="rId10" Type="http://schemas.openxmlformats.org/officeDocument/2006/relationships/hyperlink" Target="http://pirozhki.spb.ru/service/menu.php" TargetMode="External"/><Relationship Id="rId11" Type="http://schemas.openxmlformats.org/officeDocument/2006/relationships/hyperlink" Target="http://fazenda.by/katalog/katalog-tovarov/sadovye-formy/skvorechniki" TargetMode="External"/><Relationship Id="rId12" Type="http://schemas.openxmlformats.org/officeDocument/2006/relationships/hyperlink" Target="http://fotki.yandex.ru/users/mm6860/view/397380/" TargetMode="External"/><Relationship Id="rId13" Type="http://schemas.openxmlformats.org/officeDocument/2006/relationships/hyperlink" Target="http://900igr.net/kartinki/nasekomye-i-ptitsy/Ptitsy-lesa-2.files/019-U-obyknovennogo-skvortsa-operenie-plotnoe-chernoe-s-fioletovym.html" TargetMode="External"/><Relationship Id="rId14" Type="http://schemas.openxmlformats.org/officeDocument/2006/relationships/hyperlink" Target="http://phocs.ru/viewtopic.php?id=1495&amp;p=3" TargetMode="External"/><Relationship Id="rId1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Булдакова Наталья Владимировн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учитель начальных классов МОУ «СОШ № 73» г. Сарат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-36360" y="244440"/>
            <a:ext cx="9034200" cy="1717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Выполните одно задание на выбор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1. Выполните упражнение № 439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2. Составьте кроссворд по теме «Слова с безударной гласной в корне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3. Мини-сочинение «Как Петя подружился с безударной гласной в корне слова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4. Составить памятку «Как я проверяю слова с безударной гласной в корне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Мозаика по сюжету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сказки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"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Маша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и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Медведь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"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www.babysmart.ru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Гуси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лебеди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ww.raskraska.com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kolobok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ww.liveinternet.ru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Золушка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" 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mag---charodey.diary.ru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Красная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шапочка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:   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www.xrest.ru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похожие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Русская народная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сказка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ГУСИ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ЛЕБЕДИ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clubs.ya.ru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"Лето,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речка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, лес.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www.flylady.su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Пирожок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pirozhki.spb.ru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Скворечник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.  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1"/>
              </a:rPr>
              <a:t>fazenda.by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Скворчата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2"/>
              </a:rPr>
              <a:t>fotki.yandex.ru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Обыкновенный </a:t>
            </a: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скворец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...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3"/>
              </a:rPr>
              <a:t>900igr.net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Яблоня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4"/>
              </a:rPr>
              <a:t>phocs.ru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похожие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Пони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 www.fabrikaglamura.ru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Дорога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mnogobaz.ru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Помидор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съедобный. 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zabotaokrasote.ru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7175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Users\user\Pictures\Урок\i.jpg"/>
          <p:cNvPicPr/>
          <p:nvPr/>
        </p:nvPicPr>
        <p:blipFill>
          <a:blip r:embed="rId2"/>
          <a:stretch/>
        </p:blipFill>
        <p:spPr>
          <a:xfrm>
            <a:off x="785880" y="2143080"/>
            <a:ext cx="1966680" cy="142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Users\user\Pictures\Урок\i.jpg 2.jpg"/>
          <p:cNvPicPr/>
          <p:nvPr/>
        </p:nvPicPr>
        <p:blipFill>
          <a:blip r:embed="rId3"/>
          <a:stretch/>
        </p:blipFill>
        <p:spPr>
          <a:xfrm>
            <a:off x="3786120" y="2071800"/>
            <a:ext cx="2143080" cy="1700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Users\user\Pictures\Урок\i.jpg1.jpg"/>
          <p:cNvPicPr/>
          <p:nvPr/>
        </p:nvPicPr>
        <p:blipFill>
          <a:blip r:embed="rId4"/>
          <a:stretch/>
        </p:blipFill>
        <p:spPr>
          <a:xfrm>
            <a:off x="6500880" y="2357280"/>
            <a:ext cx="2381040" cy="1571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user\Pictures\Урок\i.jpg3.jpg"/>
          <p:cNvPicPr/>
          <p:nvPr/>
        </p:nvPicPr>
        <p:blipFill>
          <a:blip r:embed="rId5"/>
          <a:stretch/>
        </p:blipFill>
        <p:spPr>
          <a:xfrm>
            <a:off x="5857920" y="450072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C:\Users\user\Pictures\Урок\i.jpg4.jpg"/>
          <p:cNvPicPr/>
          <p:nvPr/>
        </p:nvPicPr>
        <p:blipFill>
          <a:blip r:embed="rId6"/>
          <a:stretch/>
        </p:blipFill>
        <p:spPr>
          <a:xfrm>
            <a:off x="928800" y="4429080"/>
            <a:ext cx="1193760" cy="1643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C:\Users\user\Pictures\Урок\i.jpg5.jpg"/>
          <p:cNvPicPr/>
          <p:nvPr/>
        </p:nvPicPr>
        <p:blipFill>
          <a:blip r:embed="rId7"/>
          <a:stretch/>
        </p:blipFill>
        <p:spPr>
          <a:xfrm>
            <a:off x="3357720" y="4429080"/>
            <a:ext cx="171432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55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C:\Users\user\Pictures\Урок\i.jpg6.jpg"/>
          <p:cNvPicPr/>
          <p:nvPr/>
        </p:nvPicPr>
        <p:blipFill>
          <a:blip r:embed="rId2"/>
          <a:stretch/>
        </p:blipFill>
        <p:spPr>
          <a:xfrm>
            <a:off x="2462040" y="2335320"/>
            <a:ext cx="4280040" cy="60703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5"/>
          <p:cNvSpPr/>
          <p:nvPr/>
        </p:nvSpPr>
        <p:spPr>
          <a:xfrm rot="5965200">
            <a:off x="5715360" y="44294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TextBox 6"/>
          <p:cNvSpPr/>
          <p:nvPr/>
        </p:nvSpPr>
        <p:spPr>
          <a:xfrm rot="15993600">
            <a:off x="3912840" y="419400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TextBox 7"/>
          <p:cNvSpPr/>
          <p:nvPr/>
        </p:nvSpPr>
        <p:spPr>
          <a:xfrm rot="7036800">
            <a:off x="2842560" y="3939840"/>
            <a:ext cx="9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20" descr=""/>
          <p:cNvPicPr/>
          <p:nvPr/>
        </p:nvPicPr>
        <p:blipFill>
          <a:blip r:embed="rId1"/>
          <a:stretch/>
        </p:blipFill>
        <p:spPr>
          <a:xfrm>
            <a:off x="42840" y="378000"/>
            <a:ext cx="8955000" cy="13651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3040"/>
            <a:ext cx="86868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, дв   рец, ш   сте, а,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в   рце,  во, п   вец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2" descr="C:\Users\user\Pictures\Урок\7.jpg"/>
          <p:cNvPicPr/>
          <p:nvPr/>
        </p:nvPicPr>
        <p:blipFill>
          <a:blip r:embed="rId2"/>
          <a:stretch/>
        </p:blipFill>
        <p:spPr>
          <a:xfrm>
            <a:off x="2658960" y="2013120"/>
            <a:ext cx="452520" cy="560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user\Pictures\Урок\7.jpg"/>
          <p:cNvPicPr/>
          <p:nvPr/>
        </p:nvPicPr>
        <p:blipFill>
          <a:blip r:embed="rId3"/>
          <a:stretch/>
        </p:blipFill>
        <p:spPr>
          <a:xfrm>
            <a:off x="5286240" y="1928880"/>
            <a:ext cx="481320" cy="596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user\Pictures\Урок\7.jpg"/>
          <p:cNvPicPr/>
          <p:nvPr/>
        </p:nvPicPr>
        <p:blipFill>
          <a:blip r:embed="rId4"/>
          <a:stretch/>
        </p:blipFill>
        <p:spPr>
          <a:xfrm>
            <a:off x="1384200" y="4164120"/>
            <a:ext cx="493920" cy="612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user\Pictures\Урок\7.jpg"/>
          <p:cNvPicPr/>
          <p:nvPr/>
        </p:nvPicPr>
        <p:blipFill>
          <a:blip r:embed="rId5"/>
          <a:stretch/>
        </p:blipFill>
        <p:spPr>
          <a:xfrm>
            <a:off x="5143680" y="4143240"/>
            <a:ext cx="488880" cy="60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717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Users\user\Pictures\Урок\i.jpg8.jpg"/>
          <p:cNvPicPr/>
          <p:nvPr/>
        </p:nvPicPr>
        <p:blipFill>
          <a:blip r:embed="rId2"/>
          <a:stretch/>
        </p:blipFill>
        <p:spPr>
          <a:xfrm>
            <a:off x="6215040" y="1857240"/>
            <a:ext cx="942840" cy="1071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user\Pictures\Урок\i.jpg9.jpg"/>
          <p:cNvPicPr/>
          <p:nvPr/>
        </p:nvPicPr>
        <p:blipFill>
          <a:blip r:embed="rId3"/>
          <a:stretch/>
        </p:blipFill>
        <p:spPr>
          <a:xfrm>
            <a:off x="5643720" y="3214800"/>
            <a:ext cx="811080" cy="1116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Users\user\Pictures\Урок\i.jpg10.jpg"/>
          <p:cNvPicPr/>
          <p:nvPr/>
        </p:nvPicPr>
        <p:blipFill>
          <a:blip r:embed="rId4"/>
          <a:stretch/>
        </p:blipFill>
        <p:spPr>
          <a:xfrm>
            <a:off x="6143760" y="5143680"/>
            <a:ext cx="1143000" cy="853920"/>
          </a:xfrm>
          <a:prstGeom prst="rect">
            <a:avLst/>
          </a:prstGeom>
          <a:ln w="0">
            <a:noFill/>
          </a:ln>
        </p:spPr>
      </p:pic>
      <p:sp>
        <p:nvSpPr>
          <p:cNvPr id="423" name="TextBox 9"/>
          <p:cNvSpPr/>
          <p:nvPr/>
        </p:nvSpPr>
        <p:spPr>
          <a:xfrm>
            <a:off x="691920" y="2000160"/>
            <a:ext cx="541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бята см.стерили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TextBox 10"/>
          <p:cNvSpPr/>
          <p:nvPr/>
        </p:nvSpPr>
        <p:spPr>
          <a:xfrm>
            <a:off x="7358040" y="192888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14240" y="3286080"/>
            <a:ext cx="499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пос.лились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TextBox 12"/>
          <p:cNvSpPr/>
          <p:nvPr/>
        </p:nvSpPr>
        <p:spPr>
          <a:xfrm>
            <a:off x="6500880" y="3357720"/>
            <a:ext cx="6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951840" y="5214960"/>
            <a:ext cx="49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х по.вились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TextBox 14"/>
          <p:cNvSpPr/>
          <p:nvPr/>
        </p:nvSpPr>
        <p:spPr>
          <a:xfrm>
            <a:off x="7500960" y="51436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95120" y="347760"/>
            <a:ext cx="8955360" cy="13651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C:\Users\user\Pictures\Урок\i.jpg11.jpg"/>
          <p:cNvPicPr/>
          <p:nvPr/>
        </p:nvPicPr>
        <p:blipFill>
          <a:blip r:embed="rId2"/>
          <a:stretch/>
        </p:blipFill>
        <p:spPr>
          <a:xfrm>
            <a:off x="2817720" y="1554120"/>
            <a:ext cx="3660840" cy="4525920"/>
          </a:xfrm>
          <a:prstGeom prst="rect">
            <a:avLst/>
          </a:prstGeom>
          <a:ln w="0">
            <a:noFill/>
          </a:ln>
        </p:spPr>
      </p:pic>
      <p:sp>
        <p:nvSpPr>
          <p:cNvPr id="431" name="TextBox 6"/>
          <p:cNvSpPr/>
          <p:nvPr/>
        </p:nvSpPr>
        <p:spPr>
          <a:xfrm>
            <a:off x="4357800" y="20001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TextBox 7"/>
          <p:cNvSpPr/>
          <p:nvPr/>
        </p:nvSpPr>
        <p:spPr>
          <a:xfrm>
            <a:off x="3357720" y="25002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4286160" y="30718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3714840" y="4000680"/>
            <a:ext cx="4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TextBox 11"/>
          <p:cNvSpPr/>
          <p:nvPr/>
        </p:nvSpPr>
        <p:spPr>
          <a:xfrm>
            <a:off x="5429160" y="357192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TextBox 12"/>
          <p:cNvSpPr/>
          <p:nvPr/>
        </p:nvSpPr>
        <p:spPr>
          <a:xfrm>
            <a:off x="4500720" y="3929040"/>
            <a:ext cx="5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3143160" y="335772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5357880" y="2714760"/>
            <a:ext cx="5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4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9400" cy="1712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Users\user\Pictures\Урок\i.jpg13.jpg"/>
          <p:cNvPicPr/>
          <p:nvPr/>
        </p:nvPicPr>
        <p:blipFill>
          <a:blip r:embed="rId2"/>
          <a:stretch/>
        </p:blipFill>
        <p:spPr>
          <a:xfrm>
            <a:off x="968400" y="2863800"/>
            <a:ext cx="2174760" cy="32623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Users\user\Pictures\Урок\i.jpg14.jpg"/>
          <p:cNvPicPr/>
          <p:nvPr/>
        </p:nvPicPr>
        <p:blipFill>
          <a:blip r:embed="rId3"/>
          <a:stretch/>
        </p:blipFill>
        <p:spPr>
          <a:xfrm>
            <a:off x="5000760" y="3571920"/>
            <a:ext cx="2857320" cy="2133720"/>
          </a:xfrm>
          <a:prstGeom prst="rect">
            <a:avLst/>
          </a:prstGeom>
          <a:ln w="0">
            <a:noFill/>
          </a:ln>
        </p:spPr>
      </p:pic>
      <p:sp>
        <p:nvSpPr>
          <p:cNvPr id="442" name="TextBox 6"/>
          <p:cNvSpPr/>
          <p:nvPr/>
        </p:nvSpPr>
        <p:spPr>
          <a:xfrm>
            <a:off x="1143000" y="20001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Прямая соединительная линия 8"/>
          <p:cNvSpPr/>
          <p:nvPr/>
        </p:nvSpPr>
        <p:spPr>
          <a:xfrm flipH="1">
            <a:off x="1071720" y="2000160"/>
            <a:ext cx="714240" cy="785880"/>
          </a:xfrm>
          <a:prstGeom prst="line">
            <a:avLst/>
          </a:prstGeom>
          <a:ln w="10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TextBox 10"/>
          <p:cNvSpPr/>
          <p:nvPr/>
        </p:nvSpPr>
        <p:spPr>
          <a:xfrm flipH="1">
            <a:off x="1397880" y="142884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TextBox 14"/>
          <p:cNvSpPr/>
          <p:nvPr/>
        </p:nvSpPr>
        <p:spPr>
          <a:xfrm flipV="1" rot="10800000">
            <a:off x="7571880" y="2677680"/>
            <a:ext cx="7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,,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-36360" y="244440"/>
            <a:ext cx="9034200" cy="1717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C:\Users\user\Pictures\Урок\i.jpg15.jpg"/>
          <p:cNvPicPr/>
          <p:nvPr/>
        </p:nvPicPr>
        <p:blipFill>
          <a:blip r:embed="rId2"/>
          <a:stretch/>
        </p:blipFill>
        <p:spPr>
          <a:xfrm>
            <a:off x="285840" y="1454040"/>
            <a:ext cx="4143240" cy="42865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4572000" y="1428840"/>
            <a:ext cx="4000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ка (разг.)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чик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ина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ный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овый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-36360" y="244440"/>
            <a:ext cx="9034200" cy="17175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)   на грядк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</a:t>
            </a:r>
            <a:r>
              <a:rPr b="0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бятк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)  помидо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09:30:48Z</dcterms:created>
  <dc:creator>user</dc:creator>
  <dc:description/>
  <dc:language>en-US</dc:language>
  <cp:lastModifiedBy>user</cp:lastModifiedBy>
  <dcterms:modified xsi:type="dcterms:W3CDTF">2012-01-09T14:10:19Z</dcterms:modified>
  <cp:revision>16</cp:revision>
  <dc:subject/>
  <dc:title>Слайд 1</dc:title>
</cp:coreProperties>
</file>