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0.png" ContentType="image/png"/>
  <Override PartName="/ppt/media/image27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CA5-B61B-4F8D-97E0-97F07DCD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7EC-344E-466B-9C6C-CB2E452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0A8-8B68-4208-A866-6FFEB708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BAD-E1E3-49A9-9817-B153C387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187-1D17-4083-A9E7-B3162B1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308-1F17-4DDA-AADE-F847D12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E61-F232-48BB-8ED5-F3FCB79C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F87-4858-4DA0-B987-B117196C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7CB-3292-42D5-A1D5-C68E2E79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14E-12AA-4724-984C-3E4FE4F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5EB-F1D5-4BAE-8EB7-0052C82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A56-CFF5-4B5B-9425-DD76EF2A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AADF-70F9-4B9F-ADFA-2029C319D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" Target="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533520"/>
            <a:ext cx="7315200" cy="27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табличное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множение и деле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еделах 100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9"/>
          <a:stretch/>
        </p:blipFill>
        <p:spPr>
          <a:xfrm>
            <a:off x="2438280" y="4038480"/>
            <a:ext cx="4048200" cy="212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609120"/>
            <a:ext cx="8381880" cy="247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 пределах,   деление,    с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множение,    и,   внетабличное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3520" y="914400"/>
            <a:ext cx="8229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 !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265560"/>
            <a:ext cx="3505320" cy="278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44792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2860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9343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304920" y="152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4114800" y="457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4114800" cy="362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3733920" cy="279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57800" y="1447920"/>
            <a:ext cx="3255840" cy="39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19999" t="0" r="21251" b="0"/>
          <a:stretch/>
        </p:blipFill>
        <p:spPr>
          <a:xfrm>
            <a:off x="5105520" y="1143000"/>
            <a:ext cx="3581280" cy="457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438280" y="3581280"/>
            <a:ext cx="23986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09480" y="152280"/>
            <a:ext cx="4038840" cy="33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28600" y="3581280"/>
            <a:ext cx="200664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666880" y="0"/>
            <a:ext cx="3353040" cy="6857640"/>
            <a:chOff x="2666880" y="0"/>
            <a:chExt cx="3353040" cy="6857640"/>
          </a:xfrm>
        </p:grpSpPr>
        <p:sp>
          <p:nvSpPr>
            <p:cNvPr id="52" name=""/>
            <p:cNvSpPr/>
            <p:nvPr/>
          </p:nvSpPr>
          <p:spPr>
            <a:xfrm>
              <a:off x="5562720" y="398520"/>
              <a:ext cx="3301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2880" y="1594440"/>
              <a:ext cx="38124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19720" y="2392200"/>
              <a:ext cx="3808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6200" y="1594440"/>
              <a:ext cx="33012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98520"/>
              <a:ext cx="3556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3200" y="0"/>
              <a:ext cx="38088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66880" y="2847240"/>
              <a:ext cx="559080" cy="40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84680" y="204624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25960" y="244692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66880" y="441720"/>
              <a:ext cx="5590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66880" y="841680"/>
              <a:ext cx="55908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6880" y="1244160"/>
              <a:ext cx="5590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66880" y="1644480"/>
              <a:ext cx="5590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6880" y="2046240"/>
              <a:ext cx="55908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2446920"/>
              <a:ext cx="55908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60840" y="2847240"/>
              <a:ext cx="559080" cy="40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02120" y="2847240"/>
              <a:ext cx="558720" cy="40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43400" y="2847240"/>
              <a:ext cx="558720" cy="40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84680" y="2847240"/>
              <a:ext cx="558720" cy="40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25960" y="2847240"/>
              <a:ext cx="558720" cy="40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3400" y="5254560"/>
              <a:ext cx="5587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25960" y="1644480"/>
              <a:ext cx="55872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25960" y="204624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25960" y="1244160"/>
              <a:ext cx="5587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25960" y="841680"/>
              <a:ext cx="5587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25960" y="324936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84680" y="244692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4680" y="324936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84680" y="364968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4680" y="4050360"/>
              <a:ext cx="55872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4452120"/>
              <a:ext cx="5587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43400" y="324936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43400" y="364968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43400" y="4050360"/>
              <a:ext cx="55872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3400" y="4852440"/>
              <a:ext cx="5587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4452120"/>
              <a:ext cx="5587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02120" y="244692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02120" y="204624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02120" y="324936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02120" y="364968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02120" y="4050360"/>
              <a:ext cx="55872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02120" y="4452120"/>
              <a:ext cx="5587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2120" y="4852440"/>
              <a:ext cx="5587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02120" y="565488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02120" y="5254560"/>
              <a:ext cx="5587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2120" y="645732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02120" y="6055200"/>
              <a:ext cx="55872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3400" y="6055200"/>
              <a:ext cx="55872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3400" y="5654880"/>
              <a:ext cx="55872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60840" y="4050360"/>
              <a:ext cx="5590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60840" y="3649680"/>
              <a:ext cx="55908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60840" y="3249360"/>
              <a:ext cx="55908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60840" y="841680"/>
              <a:ext cx="55908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60840" y="1244160"/>
              <a:ext cx="5590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60840" y="1644480"/>
              <a:ext cx="5590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0840" y="2046240"/>
              <a:ext cx="55908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60840" y="2446920"/>
              <a:ext cx="55908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 rot="5400000">
            <a:off x="1595160" y="1681200"/>
            <a:ext cx="2666880" cy="371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2133360" y="205740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5400000">
            <a:off x="2742840" y="327672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2890080" y="4424400"/>
            <a:ext cx="3505320" cy="447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ножит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2814480" y="4271760"/>
            <a:ext cx="4800600" cy="371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3995640" y="2481120"/>
            <a:ext cx="3505320" cy="371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вен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3533760"/>
            <a:ext cx="4954680" cy="3116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152280"/>
            <a:ext cx="2406600" cy="3429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0880" y="3619440"/>
            <a:ext cx="27910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>
            <a:off x="4038480" y="533520"/>
            <a:ext cx="42195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11 год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д космонавт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657600" y="152280"/>
            <a:ext cx="4952880" cy="3302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876920" y="152280"/>
            <a:ext cx="4267080" cy="3505320"/>
            <a:chOff x="4876920" y="152280"/>
            <a:chExt cx="4267080" cy="3505320"/>
          </a:xfrm>
        </p:grpSpPr>
        <p:sp>
          <p:nvSpPr>
            <p:cNvPr id="122" name=""/>
            <p:cNvSpPr/>
            <p:nvPr/>
          </p:nvSpPr>
          <p:spPr>
            <a:xfrm>
              <a:off x="4876920" y="152280"/>
              <a:ext cx="4267080" cy="350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733560" cy="30625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3772080" cy="2841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4419360" cy="288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126" name=""/>
          <p:cNvGrpSpPr/>
          <p:nvPr/>
        </p:nvGrpSpPr>
        <p:grpSpPr>
          <a:xfrm>
            <a:off x="152280" y="152280"/>
            <a:ext cx="4648320" cy="3505320"/>
            <a:chOff x="152280" y="152280"/>
            <a:chExt cx="4648320" cy="3505320"/>
          </a:xfrm>
        </p:grpSpPr>
        <p:sp>
          <p:nvSpPr>
            <p:cNvPr id="127" name=""/>
            <p:cNvSpPr/>
            <p:nvPr/>
          </p:nvSpPr>
          <p:spPr>
            <a:xfrm>
              <a:off x="152280" y="152280"/>
              <a:ext cx="4648320" cy="350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380880" y="380880"/>
              <a:ext cx="4114800" cy="3083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297320" y="152280"/>
            <a:ext cx="4572000" cy="5105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443720" y="3962520"/>
            <a:ext cx="155412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3840120" cy="5639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1851120" cy="260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1480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228600"/>
            <a:ext cx="36576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981160" cy="563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191120" y="838080"/>
            <a:ext cx="4394160" cy="487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04920" y="533520"/>
          <a:ext cx="8534160" cy="3429000"/>
        </p:xfrm>
        <a:graphic>
          <a:graphicData uri="http://schemas.openxmlformats.org/drawingml/2006/table">
            <a:tbl>
              <a:tblPr/>
              <a:tblGrid>
                <a:gridCol w="2590560"/>
                <a:gridCol w="3124440"/>
                <a:gridCol w="28191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ткани на                1 костю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стюм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 тка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861147600" y="39144564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853786320" y="-385278480"/>
            <a:ext cx="34272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9070760" y="39094884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на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9090200" y="3909488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59090200" y="390948840"/>
          <a:ext cx="3840120" cy="1187280"/>
        </p:xfrm>
        <a:graphic>
          <a:graphicData uri="http://schemas.openxmlformats.org/drawingml/2006/table">
            <a:tbl>
              <a:tblPr/>
              <a:tblGrid>
                <a:gridCol w="1325520"/>
                <a:gridCol w="1371600"/>
                <a:gridCol w="1143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остю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стю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ка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861147600" y="39144564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3853786320" y="-385278480"/>
            <a:ext cx="34272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9070760" y="39094884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на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9090200" y="3909488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59090200" y="390948840"/>
          <a:ext cx="3840120" cy="1187280"/>
        </p:xfrm>
        <a:graphic>
          <a:graphicData uri="http://schemas.openxmlformats.org/drawingml/2006/table">
            <a:tbl>
              <a:tblPr/>
              <a:tblGrid>
                <a:gridCol w="1325520"/>
                <a:gridCol w="1371600"/>
                <a:gridCol w="1143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остю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стю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ка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04920" y="533520"/>
          <a:ext cx="8534160" cy="3429000"/>
        </p:xfrm>
        <a:graphic>
          <a:graphicData uri="http://schemas.openxmlformats.org/drawingml/2006/table">
            <a:tbl>
              <a:tblPr/>
              <a:tblGrid>
                <a:gridCol w="2590560"/>
                <a:gridCol w="3124080"/>
                <a:gridCol w="281952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ткани на                1 костю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стюм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 тка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62520" y="2438280"/>
            <a:ext cx="609480" cy="1143000"/>
          </a:xfrm>
          <a:custGeom>
            <a:avLst/>
            <a:gdLst>
              <a:gd name="textAreaLeft" fmla="*/ 0 w 609480"/>
              <a:gd name="textAreaRight" fmla="*/ 219960 w 609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3080" y="4113000"/>
            <a:ext cx="1590480" cy="256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)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) 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) 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2514600"/>
            <a:ext cx="4572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14400" y="60948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на уроке  я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2286000"/>
            <a:ext cx="7696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на урок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е было трудно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62120" y="4648320"/>
            <a:ext cx="7696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на урок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е было легко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8T16:28:3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