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gif" ContentType="image/gif"/>
  <Override PartName="/ppt/media/image32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26.gif" ContentType="image/gif"/>
  <Override PartName="/ppt/media/image18.jpeg" ContentType="image/jpeg"/>
  <Override PartName="/ppt/media/image17.jpeg" ContentType="image/jpeg"/>
  <Override PartName="/ppt/media/image16.gif" ContentType="image/gif"/>
  <Override PartName="/ppt/media/image15.jpeg" ContentType="image/jpeg"/>
  <Override PartName="/ppt/media/image14.gif" ContentType="image/gif"/>
  <Override PartName="/ppt/media/image31.jpeg" ContentType="image/jpeg"/>
  <Override PartName="/ppt/media/image29.jpeg" ContentType="image/jpeg"/>
  <Override PartName="/ppt/media/image7.gif" ContentType="image/gif"/>
  <Override PartName="/ppt/media/image52.jpeg" ContentType="image/jpeg"/>
  <Override PartName="/ppt/media/image25.gif" ContentType="image/gif"/>
  <Override PartName="/ppt/media/image2.gif" ContentType="image/gif"/>
  <Override PartName="/ppt/media/image19.jpeg" ContentType="image/jpeg"/>
  <Override PartName="/ppt/media/image11.png" ContentType="image/png"/>
  <Override PartName="/ppt/media/image9.jpeg" ContentType="image/jpeg"/>
  <Override PartName="/ppt/media/image48.png" ContentType="image/png"/>
  <Override PartName="/ppt/media/image3.gif" ContentType="image/gif"/>
  <Override PartName="/ppt/media/image30.jpeg" ContentType="image/jpeg"/>
  <Override PartName="/ppt/media/image37.jpeg" ContentType="image/jpeg"/>
  <Override PartName="/ppt/media/image50.png" ContentType="image/png"/>
  <Override PartName="/ppt/media/image10.gif" ContentType="image/gif"/>
  <Override PartName="/ppt/media/image13.png" ContentType="image/png"/>
  <Override PartName="/ppt/media/image39.gif" ContentType="image/gif"/>
  <Override PartName="/ppt/media/image45.jpeg" ContentType="image/jpeg"/>
  <Override PartName="/ppt/media/image36.jpeg" ContentType="image/jpeg"/>
  <Override PartName="/ppt/media/image40.gif" ContentType="image/gif"/>
  <Override PartName="/ppt/media/image44.jpeg" ContentType="image/jpeg"/>
  <Override PartName="/ppt/media/image12.jpeg" ContentType="image/jpeg"/>
  <Override PartName="/ppt/media/image41.gif" ContentType="image/gif"/>
  <Override PartName="/ppt/media/image34.png" ContentType="image/png"/>
  <Override PartName="/ppt/media/image46.png" ContentType="image/png"/>
  <Override PartName="/ppt/media/image49.jpeg" ContentType="image/jpeg"/>
  <Override PartName="/ppt/media/image35.png" ContentType="image/png"/>
  <Override PartName="/ppt/media/image42.gif" ContentType="image/gif"/>
  <Override PartName="/ppt/media/image43.jpeg" ContentType="image/jpeg"/>
  <Override PartName="/ppt/media/image38.jpeg" ContentType="image/jpeg"/>
  <Override PartName="/ppt/media/image5.gif" ContentType="image/gif"/>
  <Override PartName="/ppt/media/image8.png" ContentType="image/png"/>
  <Override PartName="/ppt/media/image28.gif" ContentType="image/gif"/>
  <Override PartName="/ppt/media/image33.jpeg" ContentType="image/jpeg"/>
  <Override PartName="/ppt/media/image4.gif" ContentType="image/gif"/>
  <Override PartName="/ppt/media/image47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5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DB9F-16E8-4AC2-8924-9BF97A5A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4BA5-04DE-4AE1-89CD-60D27285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A8F-3B06-44AB-A4DC-90C9308F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3BCE-86AF-46BB-AFF8-1B2EAEC0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909-0275-4B9D-946E-6883DDF4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235-FB28-4F84-826C-C7CC1672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1A97-1A89-4915-9CC8-725EE478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D1F2-A034-4792-9DB2-54AF0B1F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B2C-8654-45E1-9FFD-52FBB855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2BC1-6D0B-4E08-90A2-EF393DB9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4EC-93CB-48B6-9535-A6F7FD3E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7E65-47CC-47E8-BFE8-024E173A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f97"/>
            </a:gs>
            <a:gs pos="50000">
              <a:srgbClr val="abff81"/>
            </a:gs>
            <a:gs pos="100000">
              <a:srgbClr val="dcff9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5C7B-AFB7-44B2-A50B-DC30DFDF7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3.jpeg"/><Relationship Id="rId5" Type="http://schemas.openxmlformats.org/officeDocument/2006/relationships/image" Target="../media/image36.jpe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8.png"/><Relationship Id="rId4" Type="http://schemas.openxmlformats.org/officeDocument/2006/relationships/image" Target="../media/image14.gif"/><Relationship Id="rId5" Type="http://schemas.openxmlformats.org/officeDocument/2006/relationships/image" Target="../media/image39.gif"/><Relationship Id="rId6" Type="http://schemas.openxmlformats.org/officeDocument/2006/relationships/image" Target="../media/image39.gif"/><Relationship Id="rId7" Type="http://schemas.openxmlformats.org/officeDocument/2006/relationships/image" Target="../media/image39.gif"/><Relationship Id="rId8" Type="http://schemas.openxmlformats.org/officeDocument/2006/relationships/image" Target="../media/image40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5.gif"/><Relationship Id="rId12" Type="http://schemas.openxmlformats.org/officeDocument/2006/relationships/image" Target="../media/image41.gif"/><Relationship Id="rId13" Type="http://schemas.openxmlformats.org/officeDocument/2006/relationships/image" Target="../media/image42.gi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image" Target="../media/image50.png"/><Relationship Id="rId7" Type="http://schemas.openxmlformats.org/officeDocument/2006/relationships/image" Target="../media/image51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gif"/><Relationship Id="rId3" Type="http://schemas.openxmlformats.org/officeDocument/2006/relationships/image" Target="../media/image10.gi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6.gif"/><Relationship Id="rId8" Type="http://schemas.openxmlformats.org/officeDocument/2006/relationships/image" Target="../media/image27.gif"/><Relationship Id="rId9" Type="http://schemas.openxmlformats.org/officeDocument/2006/relationships/image" Target="../media/image28.gif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анимашки дети"/>
          <p:cNvPicPr/>
          <p:nvPr/>
        </p:nvPicPr>
        <p:blipFill>
          <a:blip r:embed="rId2"/>
          <a:stretch/>
        </p:blipFill>
        <p:spPr>
          <a:xfrm>
            <a:off x="6012000" y="3357720"/>
            <a:ext cx="2701800" cy="3241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260440" y="476280"/>
            <a:ext cx="717840" cy="792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222720" y="476280"/>
            <a:ext cx="669960" cy="79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4218120" y="476280"/>
            <a:ext cx="739800" cy="792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148360" y="476280"/>
            <a:ext cx="863640" cy="774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6156360" y="476280"/>
            <a:ext cx="792000" cy="774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f97"/>
            </a:gs>
            <a:gs pos="50000">
              <a:srgbClr val="abff81"/>
            </a:gs>
            <a:gs pos="100000">
              <a:srgbClr val="dcff9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812b"/>
                </a:solidFill>
                <a:latin typeface="Comic Sans MS"/>
              </a:rPr>
              <a:t>Дере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>
            <a:lum bright="12000"/>
          </a:blip>
          <a:srcRect l="17332" t="48064" r="49933" b="10079"/>
          <a:stretch/>
        </p:blipFill>
        <p:spPr>
          <a:xfrm>
            <a:off x="1332000" y="404640"/>
            <a:ext cx="2030400" cy="3095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724360" y="476280"/>
            <a:ext cx="2319480" cy="309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020000" y="3645000"/>
            <a:ext cx="1865160" cy="2998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>
            <a:lum bright="12000"/>
          </a:blip>
          <a:srcRect l="0" t="52717" r="82674" b="776"/>
          <a:stretch/>
        </p:blipFill>
        <p:spPr>
          <a:xfrm>
            <a:off x="303120" y="3240000"/>
            <a:ext cx="102888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image002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635280" y="3860640"/>
            <a:ext cx="1800360" cy="2305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анимашки дети"/>
          <p:cNvPicPr/>
          <p:nvPr/>
        </p:nvPicPr>
        <p:blipFill>
          <a:blip r:embed="rId6"/>
          <a:stretch/>
        </p:blipFill>
        <p:spPr>
          <a:xfrm>
            <a:off x="8191440" y="18900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f97"/>
            </a:gs>
            <a:gs pos="50000">
              <a:srgbClr val="abff81"/>
            </a:gs>
            <a:gs pos="100000">
              <a:srgbClr val="dcff9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79280" y="1268280"/>
            <a:ext cx="4437000" cy="5327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572000" y="1270080"/>
            <a:ext cx="4425840" cy="5327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Весна в ле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анимашки дети"/>
          <p:cNvPicPr/>
          <p:nvPr/>
        </p:nvPicPr>
        <p:blipFill>
          <a:blip r:embed="rId4"/>
          <a:stretch/>
        </p:blipFill>
        <p:spPr>
          <a:xfrm>
            <a:off x="819144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020000" y="765000"/>
            <a:ext cx="218880" cy="152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659640" y="476280"/>
            <a:ext cx="218880" cy="152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7524720" y="404640"/>
            <a:ext cx="219240" cy="152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5796000" y="5516640"/>
            <a:ext cx="666720" cy="733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2987640" y="494172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>
            <a:lum contrast="18000"/>
          </a:blip>
          <a:stretch/>
        </p:blipFill>
        <p:spPr>
          <a:xfrm>
            <a:off x="611280" y="4941720"/>
            <a:ext cx="718920" cy="503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1">
            <a:lum contrast="18000"/>
          </a:blip>
          <a:stretch/>
        </p:blipFill>
        <p:spPr>
          <a:xfrm>
            <a:off x="7667640" y="515772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1332000" y="148428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3"/>
          <a:stretch/>
        </p:blipFill>
        <p:spPr>
          <a:xfrm>
            <a:off x="1116000" y="549360"/>
            <a:ext cx="863640" cy="630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f97"/>
            </a:gs>
            <a:gs pos="50000">
              <a:srgbClr val="abff81"/>
            </a:gs>
            <a:gs pos="100000">
              <a:srgbClr val="dcff9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bright="12000"/>
          </a:blip>
          <a:srcRect l="0" t="54508" r="43436" b="1518"/>
          <a:stretch/>
        </p:blipFill>
        <p:spPr>
          <a:xfrm>
            <a:off x="5076720" y="189000"/>
            <a:ext cx="3598920" cy="3598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>
            <a:lum bright="6000"/>
          </a:blip>
          <a:srcRect l="0" t="0" r="521" b="53080"/>
          <a:stretch/>
        </p:blipFill>
        <p:spPr>
          <a:xfrm>
            <a:off x="4213080" y="3933720"/>
            <a:ext cx="4535640" cy="2751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>
            <a:lum bright="12000"/>
          </a:blip>
          <a:srcRect l="50463" t="-869" r="0" b="1374"/>
          <a:stretch/>
        </p:blipFill>
        <p:spPr>
          <a:xfrm>
            <a:off x="395280" y="981000"/>
            <a:ext cx="3254400" cy="4464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2736720" cy="207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227640" y="260280"/>
            <a:ext cx="2700360" cy="1971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300720" y="2708280"/>
            <a:ext cx="2521080" cy="1854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2916360" y="2708280"/>
            <a:ext cx="2735280" cy="1849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500720" y="4941720"/>
            <a:ext cx="2554200" cy="1686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79280" y="4508640"/>
            <a:ext cx="1903680" cy="2349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835280" y="3141360"/>
            <a:ext cx="6400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Ломовцева Оксан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логопед МДОУ д/с №3 «Ивуш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ельцо -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836640"/>
            <a:ext cx="6400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Автор презен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2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840"/>
                            </p:stCondLst>
                            <p:childTnLst>
                              <p:par>
                                <p:cTn id="3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840"/>
                            </p:stCondLst>
                            <p:childTnLst>
                              <p:par>
                                <p:cTn id="3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f97"/>
            </a:gs>
            <a:gs pos="50000">
              <a:srgbClr val="abff81"/>
            </a:gs>
            <a:gs pos="100000">
              <a:srgbClr val="dcff9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2556000" cy="338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84360" cy="2208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2536" t="6733" r="59423" b="3452"/>
          <a:stretch/>
        </p:blipFill>
        <p:spPr>
          <a:xfrm>
            <a:off x="2916360" y="907920"/>
            <a:ext cx="3611520" cy="3252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6588000" y="2349360"/>
            <a:ext cx="2556000" cy="3745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анимашки дети"/>
          <p:cNvPicPr/>
          <p:nvPr/>
        </p:nvPicPr>
        <p:blipFill>
          <a:blip r:embed="rId5"/>
          <a:stretch/>
        </p:blipFill>
        <p:spPr>
          <a:xfrm>
            <a:off x="7583400" y="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f97"/>
            </a:gs>
            <a:gs pos="50000">
              <a:srgbClr val="abff81"/>
            </a:gs>
            <a:gs pos="100000">
              <a:srgbClr val="dcff9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562880" cy="630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анимашки дети"/>
          <p:cNvPicPr/>
          <p:nvPr/>
        </p:nvPicPr>
        <p:blipFill>
          <a:blip r:embed="rId2"/>
          <a:stretch/>
        </p:blipFill>
        <p:spPr>
          <a:xfrm>
            <a:off x="8191440" y="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f97"/>
            </a:gs>
            <a:gs pos="50000">
              <a:srgbClr val="abff81"/>
            </a:gs>
            <a:gs pos="100000">
              <a:srgbClr val="dcff9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979640" y="216000"/>
            <a:ext cx="4968720" cy="6308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анимашки дети"/>
          <p:cNvPicPr/>
          <p:nvPr/>
        </p:nvPicPr>
        <p:blipFill>
          <a:blip r:embed="rId2"/>
          <a:stretch/>
        </p:blipFill>
        <p:spPr>
          <a:xfrm>
            <a:off x="7620120" y="260280"/>
            <a:ext cx="1199880" cy="1440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f97"/>
            </a:gs>
            <a:gs pos="50000">
              <a:srgbClr val="abff81"/>
            </a:gs>
            <a:gs pos="100000">
              <a:srgbClr val="dcff9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12000"/>
          </a:blip>
          <a:srcRect l="1749" t="37795" r="53234" b="28401"/>
          <a:stretch/>
        </p:blipFill>
        <p:spPr>
          <a:xfrm>
            <a:off x="2054160" y="476280"/>
            <a:ext cx="5686560" cy="5759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анимашки дети"/>
          <p:cNvPicPr/>
          <p:nvPr/>
        </p:nvPicPr>
        <p:blipFill>
          <a:blip r:embed="rId2"/>
          <a:stretch/>
        </p:blipFill>
        <p:spPr>
          <a:xfrm>
            <a:off x="7908840" y="115920"/>
            <a:ext cx="1200240" cy="144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84360" cy="2208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f97"/>
            </a:gs>
            <a:gs pos="50000">
              <a:srgbClr val="abff81"/>
            </a:gs>
            <a:gs pos="100000">
              <a:srgbClr val="dcff9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12000"/>
          </a:blip>
          <a:srcRect l="53071" t="37795" r="0" b="28746"/>
          <a:stretch/>
        </p:blipFill>
        <p:spPr>
          <a:xfrm>
            <a:off x="1476360" y="1125360"/>
            <a:ext cx="6558120" cy="4803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анимашки дети"/>
          <p:cNvPicPr/>
          <p:nvPr/>
        </p:nvPicPr>
        <p:blipFill>
          <a:blip r:embed="rId2"/>
          <a:stretch/>
        </p:blipFill>
        <p:spPr>
          <a:xfrm>
            <a:off x="7943760" y="0"/>
            <a:ext cx="1200240" cy="1440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35280" cy="1630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f97"/>
            </a:gs>
            <a:gs pos="50000">
              <a:srgbClr val="abff81"/>
            </a:gs>
            <a:gs pos="100000">
              <a:srgbClr val="dcff9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268360" y="333360"/>
            <a:ext cx="4213440" cy="604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анимашки дети"/>
          <p:cNvPicPr/>
          <p:nvPr/>
        </p:nvPicPr>
        <p:blipFill>
          <a:blip r:embed="rId2"/>
          <a:stretch/>
        </p:blipFill>
        <p:spPr>
          <a:xfrm>
            <a:off x="7667640" y="260280"/>
            <a:ext cx="1200240" cy="144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89080" y="285840"/>
            <a:ext cx="1834920" cy="1630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443640" y="3600360"/>
            <a:ext cx="2111400" cy="2781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f97"/>
            </a:gs>
            <a:gs pos="50000">
              <a:srgbClr val="abff81"/>
            </a:gs>
            <a:gs pos="100000">
              <a:srgbClr val="dcff9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14480" y="1844640"/>
            <a:ext cx="2512800" cy="381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218040" y="3573360"/>
            <a:ext cx="2724120" cy="328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372360" y="2205000"/>
            <a:ext cx="2674800" cy="3311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3228840" y="0"/>
            <a:ext cx="281484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826920" y="56610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7308720" y="5877000"/>
            <a:ext cx="1168560" cy="817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7110360" y="476280"/>
            <a:ext cx="1093680" cy="1440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8082000" y="2421000"/>
            <a:ext cx="666720" cy="761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611280" y="333360"/>
            <a:ext cx="1552320" cy="1419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f97"/>
            </a:gs>
            <a:gs pos="50000">
              <a:srgbClr val="abff81"/>
            </a:gs>
            <a:gs pos="100000">
              <a:srgbClr val="dcff9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2473560" cy="3384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607080" y="260280"/>
            <a:ext cx="2536920" cy="3537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79280" y="3141720"/>
            <a:ext cx="2532240" cy="352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356000" y="2997360"/>
            <a:ext cx="2643120" cy="3673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7:10:25Z</dcterms:created>
  <dc:creator>oleg</dc:creator>
  <dc:description/>
  <dc:language>en-US</dc:language>
  <cp:lastModifiedBy>Admin</cp:lastModifiedBy>
  <dcterms:modified xsi:type="dcterms:W3CDTF">2012-01-28T15:33:51Z</dcterms:modified>
  <cp:revision>24</cp:revision>
  <dc:subject/>
  <dc:title>Слайд 1</dc:title>
</cp:coreProperties>
</file>