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5645-EE46-4065-898D-03858B01A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73EA-A35F-40C9-A9AA-EFD9F95C2E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53BC-8A25-4504-855E-EC407518D6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776-4589-4E6D-9408-EC68C9B6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40C-350E-49B2-8E29-B5CE6387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D59-EACE-4E2E-A392-47576703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914-7293-4616-AD29-1095A66D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EA9-56EC-476F-8CE0-1846BEF1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596-3FDA-4631-87DD-C463149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140-9CEF-4470-9E56-3462E62D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D3A-E9A4-46C9-BF10-188E0CBB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DB3-B204-41EB-BC1D-984D3171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DDC-808D-4D13-A116-FA08274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B7F-415B-4C75-9DE0-B439558B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DDE-112F-4095-ACD9-0E8A42D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6066-ED10-435B-B46A-AC6D79552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ravmir.ru/wp-content/uploads/2011/10/efrem.jpe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pravmir.ru/arximandrit-efrem-my-tronuty-tem-kak-v-rossii-vstrechayut-poyas-bogorodicy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00040" y="500076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й слайд-фильм был составлен из фотоматериалов и новостной информации, представленных на сайтах Русских Православных епархий, где пребывал  Честной Пояс Пресвятой Богородицы с 23 октября по 27 ноября 2011 года, также широко использован материа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ога экспертов Музея имени Андрея Рубл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714240" y="221472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Calibri"/>
              </a:rPr>
              <a:t>Цель составления слайд- филь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рать информацию о Честном Поясе Пресвятой Богородицы,  составить выступление и слайд-фильм для сопров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тупить на школьной конференции  по теме «Поклонение православных христиан Честному Поясу Пресвятой Богородицы 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85880" y="414324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Calibri"/>
              </a:rPr>
              <a:t>Время составления слайд – филь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 ноября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5" descr=""/>
          <p:cNvPicPr/>
          <p:nvPr/>
        </p:nvPicPr>
        <p:blipFill>
          <a:blip r:embed="rId1"/>
          <a:stretch/>
        </p:blipFill>
        <p:spPr>
          <a:xfrm>
            <a:off x="2352600" y="2962440"/>
            <a:ext cx="354240" cy="933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66600" y="281160"/>
            <a:ext cx="88693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2"/>
          <p:cNvSpPr/>
          <p:nvPr/>
        </p:nvSpPr>
        <p:spPr>
          <a:xfrm>
            <a:off x="857160" y="1928880"/>
            <a:ext cx="7786800" cy="3111480"/>
          </a:xfrm>
          <a:prstGeom prst="rect">
            <a:avLst/>
          </a:prstGeom>
          <a:noFill/>
          <a:ln w="381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амять происшедшего чуда и двукратного положения честного пояса был установлен праздник Положения честного Пояса Пресвятой Богородицы, а Евфимий, которому было поручено возложить Пояс на императрицу, став патриархом Константинопольским (907-912), составил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нкомий на поклонение честного пояса пресвятой Богородицы и на обновление Ее храма в Халкопрат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тех пор празднование Положения честного Пояса Пресвятой Богородицы совершается в Церкви 31 августа, в последний день церковного года (см., например,  месяцеслов греческого Евангелия 1055 г. Син. 43): http://rublev-museum.livejournal.com/22697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7" descr=""/>
          <p:cNvPicPr/>
          <p:nvPr/>
        </p:nvPicPr>
        <p:blipFill>
          <a:blip r:embed="rId1"/>
          <a:stretch/>
        </p:blipFill>
        <p:spPr>
          <a:xfrm>
            <a:off x="1420920" y="201600"/>
            <a:ext cx="5656320" cy="1494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" descr=""/>
          <p:cNvPicPr/>
          <p:nvPr/>
        </p:nvPicPr>
        <p:blipFill>
          <a:blip r:embed="rId2"/>
          <a:stretch/>
        </p:blipFill>
        <p:spPr>
          <a:xfrm>
            <a:off x="927000" y="5102280"/>
            <a:ext cx="3310200" cy="4204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1071720" y="557208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http://rublev-museum.livejournal.com/22697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071720" y="600084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айты епархий  Русской Православной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99800" y="714240"/>
            <a:ext cx="5186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ЧЕСТНОЙ ПОЯС ПРЕСВЯТОЙ БОГОРОД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4181400"/>
            <a:ext cx="7894800" cy="1712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14720" y="292896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вятой Горы Афон.  Из монастыря Ватоп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школа\Рабочий стол\Афон\Икона Афонская.jpg"/>
          <p:cNvPicPr/>
          <p:nvPr/>
        </p:nvPicPr>
        <p:blipFill>
          <a:blip r:embed="rId1"/>
          <a:stretch/>
        </p:blipFill>
        <p:spPr>
          <a:xfrm>
            <a:off x="4019400" y="357120"/>
            <a:ext cx="4910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школа\Рабочий стол\Афон\карта Афона.jpg"/>
          <p:cNvPicPr/>
          <p:nvPr/>
        </p:nvPicPr>
        <p:blipFill>
          <a:blip r:embed="rId2"/>
          <a:stretch/>
        </p:blipFill>
        <p:spPr>
          <a:xfrm>
            <a:off x="0" y="0"/>
            <a:ext cx="4452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7"/>
          <p:cNvSpPr/>
          <p:nvPr/>
        </p:nvSpPr>
        <p:spPr>
          <a:xfrm>
            <a:off x="4357800" y="20001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фон – это место непрестанной молитвы к Богу, место, освященное подвигами тысяч и тысяч монахов, на протяжении тысячелетия передававших своим последователям Православную веру в нетронутой чистоте и сохранивших ее таковой до сегодняшнего дня. Именно поэтому Святую Гору Афон называют оплотом Православия во все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школа\Рабочий стол\ковчег кр планом.jpg"/>
          <p:cNvPicPr/>
          <p:nvPr/>
        </p:nvPicPr>
        <p:blipFill>
          <a:blip r:embed="rId1"/>
          <a:stretch/>
        </p:blipFill>
        <p:spPr>
          <a:xfrm>
            <a:off x="2143080" y="1714680"/>
            <a:ext cx="4130640" cy="4572000"/>
          </a:xfrm>
          <a:prstGeom prst="rect">
            <a:avLst/>
          </a:prstGeom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60" name="Скругленный прямоугольник 3"/>
          <p:cNvSpPr/>
          <p:nvPr/>
        </p:nvSpPr>
        <p:spPr>
          <a:xfrm>
            <a:off x="1571760" y="357120"/>
            <a:ext cx="5357520" cy="8571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6" descr=""/>
          <p:cNvPicPr/>
          <p:nvPr/>
        </p:nvPicPr>
        <p:blipFill>
          <a:blip r:embed="rId2"/>
          <a:stretch/>
        </p:blipFill>
        <p:spPr>
          <a:xfrm>
            <a:off x="1347840" y="378000"/>
            <a:ext cx="57052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5"/>
          <p:cNvSpPr/>
          <p:nvPr/>
        </p:nvSpPr>
        <p:spPr>
          <a:xfrm>
            <a:off x="500040" y="4643280"/>
            <a:ext cx="8358120" cy="200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71680" y="47149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честь Пояса Пресвятой Богородицы в Ватопеде был построен при поддержке валашского господаря Нягое Басараба (1512-1521) параклис, который в 1794 г. перестраивался на средства Феофила Созополита 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м. фот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. Он представляет собой трехкупольный триконх афонского типа с одной апсидой и притвором, перекрытым сводом. Внутренние росписи выполнены в 1860 г. иноками Никифором и Герасимом, архим. Анфимием и иером. Гаврии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школа\Рабочий стол\параклис в ватопеде для пояса.jpg"/>
          <p:cNvPicPr/>
          <p:nvPr/>
        </p:nvPicPr>
        <p:blipFill>
          <a:blip r:embed="rId1"/>
          <a:stretch/>
        </p:blipFill>
        <p:spPr>
          <a:xfrm>
            <a:off x="2143080" y="357120"/>
            <a:ext cx="4714920" cy="31593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с одним скругленным углом 3"/>
          <p:cNvSpPr/>
          <p:nvPr/>
        </p:nvSpPr>
        <p:spPr>
          <a:xfrm>
            <a:off x="0" y="3786120"/>
            <a:ext cx="9144000" cy="571680"/>
          </a:xfrm>
          <a:prstGeom prst="pi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-23760" y="3767040"/>
            <a:ext cx="90583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нутый угол 7"/>
          <p:cNvSpPr/>
          <p:nvPr/>
        </p:nvSpPr>
        <p:spPr>
          <a:xfrm>
            <a:off x="5429160" y="1928880"/>
            <a:ext cx="3214800" cy="3714840"/>
          </a:xfrm>
          <a:prstGeom prst="foldedCorner">
            <a:avLst>
              <a:gd name="adj" fmla="val 8777"/>
            </a:avLst>
          </a:prstGeom>
          <a:solidFill>
            <a:srgbClr val="e6b9b8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http://www.pravmir.ru/wp-content/uploads/2011/10/efrem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2214720"/>
            <a:ext cx="4643280" cy="3214440"/>
          </a:xfrm>
          <a:prstGeom prst="rect">
            <a:avLst/>
          </a:prstGeom>
          <a:ln w="57240">
            <a:solidFill>
              <a:srgbClr val="e6b9b8"/>
            </a:solidFill>
            <a:miter/>
          </a:ln>
        </p:spPr>
      </p:pic>
      <p:sp>
        <p:nvSpPr>
          <p:cNvPr id="69" name="Rectangle 3"/>
          <p:cNvSpPr/>
          <p:nvPr/>
        </p:nvSpPr>
        <p:spPr>
          <a:xfrm>
            <a:off x="285840" y="590004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Архимандрит Ефрем: Мы тронуты тем, как в России встречают Пояс Богород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5572080" y="2071800"/>
            <a:ext cx="2786040" cy="3111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f2dc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у страну прибыла великая христианская святыня — 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стной Пояс Пресвятой Богородиц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 В поездке по России ее сопровождает известный греческий православный старец, игумен афонской Священной Великой Обители Ватопед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химандрит Еф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3352680" y="444600"/>
            <a:ext cx="5158080" cy="1360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571680" y="3085200"/>
            <a:ext cx="8143560" cy="3143160"/>
          </a:xfrm>
          <a:prstGeom prst="rect">
            <a:avLst/>
          </a:prstGeom>
          <a:solidFill>
            <a:srgbClr val="e6e0ec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гласно преданию, отраженному в Минологии императора Василия II, датируемом X в. (PG 117. Col. 613), великая святыня, вверенная апостолу Фоме самой Божией Матерью после Ее Успения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. фот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, была отдана двум благочестивым иерусалимским вдовам и затем передавалась из поколения в поколение. При императоре Аркадии (395-408), сыне Феодосия I Великого, Пояс Пресвятой Богородицы, который хранился в кафедральном соборе города Зилы (Ζήλα) в Каппадокии, был доставлен архиерейской процессией в Константинополь и вложен в специально изготовленный ковчег (κιβωτος):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http://expertmus.livejournal.com/1960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школа\Рабочий стол\Богор бросила фоме пояс с неба.jpg"/>
          <p:cNvPicPr/>
          <p:nvPr/>
        </p:nvPicPr>
        <p:blipFill>
          <a:blip r:embed="rId2"/>
          <a:stretch/>
        </p:blipFill>
        <p:spPr>
          <a:xfrm>
            <a:off x="928800" y="285840"/>
            <a:ext cx="1612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21720" cy="45561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2"/>
          <a:stretch/>
        </p:blipFill>
        <p:spPr>
          <a:xfrm>
            <a:off x="1182600" y="463680"/>
            <a:ext cx="7407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Блок-схема: документ 5"/>
          <p:cNvSpPr/>
          <p:nvPr/>
        </p:nvSpPr>
        <p:spPr>
          <a:xfrm>
            <a:off x="428760" y="2000160"/>
            <a:ext cx="8215200" cy="4143600"/>
          </a:xfrm>
          <a:prstGeom prst="flowChartDocumen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428760" y="2000160"/>
            <a:ext cx="82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VIII в. патриарх Константинопольский Герман I (715-730) составил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ово на освящение храма Халкопратийск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котором упомянуты все храмовые святыни, в т.ч. и Пояс Богородицы. А в начале  Х в. было установлено особое празднование Положения честного Пояса Пресвятой Богородицы, о чем повествуется в Минологии императора Василия II. Как упомянуто в этом источнике, в 906 г. при императоре Льве VI Мудром (886-912) его жене Зое Карбонопсиде, которую мучил нечистый дух, было видение, что она избавится от недуга, если на нее возложат Пояс Пресвятой Богородицы. Император открыл ковчег и обрел Пояс в целости и сохранности; Пояс был запечатан золотым хрисовулом императора Аркадия, на котором были указаны год и индикт Положения Пояса в Царьграде, а также точная дата этого события - 31 августа. По повелению императора Льва VI Мудрого Пояс Пресвятой Девы был возложен на голову страждущей императрицы, и та исцел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324000"/>
            <a:ext cx="7515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48:41Z</dcterms:created>
  <dc:creator>СОШ№1</dc:creator>
  <dc:description/>
  <dc:language>en-US</dc:language>
  <cp:lastModifiedBy>СОШ№1</cp:lastModifiedBy>
  <dcterms:modified xsi:type="dcterms:W3CDTF">2012-01-29T11:23:01Z</dcterms:modified>
  <cp:revision>18</cp:revision>
  <dc:subject/>
  <dc:title>ЧЕСТНОЙ ПОЯС ПРЕСВЯТОЙ БОГОРОДИЦЫ</dc:title>
</cp:coreProperties>
</file>