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2C9-7442-401C-900F-9681E285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D06-BE83-496C-81B2-5971F776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707-BE88-4670-B379-112B61FA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233-F568-4AA8-863B-ECDD52E1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DA9-222B-4637-8C7C-93E927D6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EFF-F380-4408-B55E-877E95D8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5B6-2BEB-468D-B647-DF495B59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08F-2BD8-4097-90DA-5281A7A0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5F9-FB3C-44C3-BE09-0C0A2123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3D1-40ED-4725-BAA3-00B9F245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502-679A-4989-AA99-49905DAC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33F-C36B-4574-B591-B1C3F97C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FDA9-4A06-46C8-8AEF-224464539F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3800" y="1030320"/>
            <a:ext cx="70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ическая разработка к уро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24440" y="6156360"/>
            <a:ext cx="9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08640" y="3308400"/>
          <a:ext cx="12672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3308400"/>
                    <a:ext cx="12672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4200" y="2327400"/>
            <a:ext cx="223344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9840" y="1944720"/>
            <a:ext cx="75549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РОЕНИЕ ГРАФИКА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6680" y="4005360"/>
            <a:ext cx="454176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рошина Мария Виктор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ль математики и информат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Деминская основная общеобразовательная школа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7640" y="2741760"/>
            <a:ext cx="66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ИЗВЕСТЕН ГРАФИК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867360" y="1859040"/>
                <a:ext cx="2276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262640" y="2665440"/>
                <a:ext cx="1663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rot="1195200">
            <a:off x="6908400" y="3688920"/>
            <a:ext cx="1854360" cy="2813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 rot="20910600">
            <a:off x="5144760" y="3590640"/>
            <a:ext cx="18763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969840" y="901800"/>
                <a:ext cx="14194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968400" y="915840"/>
                <a:ext cx="1392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3138480" y="1138320"/>
            <a:ext cx="5254560" cy="5667120"/>
            <a:chOff x="3138480" y="1138320"/>
            <a:chExt cx="5254560" cy="5667120"/>
          </a:xfrm>
        </p:grpSpPr>
        <p:sp>
          <p:nvSpPr>
            <p:cNvPr id="301" name=""/>
            <p:cNvSpPr/>
            <p:nvPr/>
          </p:nvSpPr>
          <p:spPr>
            <a:xfrm>
              <a:off x="3138480" y="4014720"/>
              <a:ext cx="2597040" cy="2790720"/>
            </a:xfrm>
            <a:custGeom>
              <a:avLst/>
              <a:gdLst/>
              <a:ahLst/>
              <a:rect l="l" t="t" r="r" b="b"/>
              <a:pathLst>
                <a:path w="1636" h="1758">
                  <a:moveTo>
                    <a:pt x="55" y="0"/>
                  </a:moveTo>
                  <a:cubicBezTo>
                    <a:pt x="27" y="0"/>
                    <a:pt x="0" y="0"/>
                    <a:pt x="141" y="5"/>
                  </a:cubicBezTo>
                  <a:cubicBezTo>
                    <a:pt x="282" y="10"/>
                    <a:pt x="714" y="18"/>
                    <a:pt x="904" y="31"/>
                  </a:cubicBezTo>
                  <a:cubicBezTo>
                    <a:pt x="1094" y="44"/>
                    <a:pt x="1186" y="60"/>
                    <a:pt x="1281" y="84"/>
                  </a:cubicBezTo>
                  <a:cubicBezTo>
                    <a:pt x="1376" y="108"/>
                    <a:pt x="1424" y="128"/>
                    <a:pt x="1473" y="178"/>
                  </a:cubicBezTo>
                  <a:cubicBezTo>
                    <a:pt x="1522" y="228"/>
                    <a:pt x="1552" y="282"/>
                    <a:pt x="1574" y="384"/>
                  </a:cubicBezTo>
                  <a:cubicBezTo>
                    <a:pt x="1596" y="486"/>
                    <a:pt x="1595" y="587"/>
                    <a:pt x="1605" y="792"/>
                  </a:cubicBezTo>
                  <a:cubicBezTo>
                    <a:pt x="1615" y="997"/>
                    <a:pt x="1628" y="1472"/>
                    <a:pt x="1632" y="1615"/>
                  </a:cubicBezTo>
                  <a:cubicBezTo>
                    <a:pt x="1636" y="1758"/>
                    <a:pt x="1632" y="1643"/>
                    <a:pt x="1632" y="164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00680" y="1138320"/>
              <a:ext cx="2592360" cy="2792160"/>
            </a:xfrm>
            <a:custGeom>
              <a:avLst/>
              <a:gdLst/>
              <a:ahLst/>
              <a:rect l="l" t="t" r="r" b="b"/>
              <a:pathLst>
                <a:path w="1633" h="1759">
                  <a:moveTo>
                    <a:pt x="3" y="63"/>
                  </a:moveTo>
                  <a:cubicBezTo>
                    <a:pt x="1" y="31"/>
                    <a:pt x="0" y="0"/>
                    <a:pt x="7" y="151"/>
                  </a:cubicBezTo>
                  <a:cubicBezTo>
                    <a:pt x="14" y="302"/>
                    <a:pt x="35" y="763"/>
                    <a:pt x="48" y="967"/>
                  </a:cubicBezTo>
                  <a:cubicBezTo>
                    <a:pt x="61" y="1171"/>
                    <a:pt x="66" y="1275"/>
                    <a:pt x="87" y="1378"/>
                  </a:cubicBezTo>
                  <a:cubicBezTo>
                    <a:pt x="108" y="1481"/>
                    <a:pt x="129" y="1534"/>
                    <a:pt x="175" y="1584"/>
                  </a:cubicBezTo>
                  <a:cubicBezTo>
                    <a:pt x="221" y="1634"/>
                    <a:pt x="269" y="1654"/>
                    <a:pt x="363" y="1680"/>
                  </a:cubicBezTo>
                  <a:cubicBezTo>
                    <a:pt x="457" y="1706"/>
                    <a:pt x="553" y="1726"/>
                    <a:pt x="742" y="1738"/>
                  </a:cubicBezTo>
                  <a:cubicBezTo>
                    <a:pt x="931" y="1750"/>
                    <a:pt x="1363" y="1752"/>
                    <a:pt x="1498" y="1755"/>
                  </a:cubicBezTo>
                  <a:cubicBezTo>
                    <a:pt x="1633" y="1758"/>
                    <a:pt x="1542" y="1758"/>
                    <a:pt x="1551" y="175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138480" y="1135080"/>
            <a:ext cx="5254560" cy="5667120"/>
            <a:chOff x="3138480" y="1135080"/>
            <a:chExt cx="5254560" cy="5667120"/>
          </a:xfrm>
        </p:grpSpPr>
        <p:sp>
          <p:nvSpPr>
            <p:cNvPr id="304" name=""/>
            <p:cNvSpPr/>
            <p:nvPr/>
          </p:nvSpPr>
          <p:spPr>
            <a:xfrm>
              <a:off x="3138480" y="4011480"/>
              <a:ext cx="2597040" cy="2790720"/>
            </a:xfrm>
            <a:custGeom>
              <a:avLst/>
              <a:gdLst/>
              <a:ahLst/>
              <a:rect l="l" t="t" r="r" b="b"/>
              <a:pathLst>
                <a:path w="1636" h="1758">
                  <a:moveTo>
                    <a:pt x="55" y="0"/>
                  </a:moveTo>
                  <a:cubicBezTo>
                    <a:pt x="27" y="0"/>
                    <a:pt x="0" y="0"/>
                    <a:pt x="141" y="5"/>
                  </a:cubicBezTo>
                  <a:cubicBezTo>
                    <a:pt x="282" y="10"/>
                    <a:pt x="714" y="18"/>
                    <a:pt x="904" y="31"/>
                  </a:cubicBezTo>
                  <a:cubicBezTo>
                    <a:pt x="1094" y="44"/>
                    <a:pt x="1186" y="60"/>
                    <a:pt x="1281" y="84"/>
                  </a:cubicBezTo>
                  <a:cubicBezTo>
                    <a:pt x="1376" y="108"/>
                    <a:pt x="1424" y="128"/>
                    <a:pt x="1473" y="178"/>
                  </a:cubicBezTo>
                  <a:cubicBezTo>
                    <a:pt x="1522" y="228"/>
                    <a:pt x="1552" y="282"/>
                    <a:pt x="1574" y="384"/>
                  </a:cubicBezTo>
                  <a:cubicBezTo>
                    <a:pt x="1596" y="486"/>
                    <a:pt x="1595" y="587"/>
                    <a:pt x="1605" y="792"/>
                  </a:cubicBezTo>
                  <a:cubicBezTo>
                    <a:pt x="1615" y="997"/>
                    <a:pt x="1628" y="1472"/>
                    <a:pt x="1632" y="1615"/>
                  </a:cubicBezTo>
                  <a:cubicBezTo>
                    <a:pt x="1636" y="1758"/>
                    <a:pt x="1632" y="1643"/>
                    <a:pt x="1632" y="164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00680" y="1135080"/>
              <a:ext cx="2592360" cy="2792160"/>
            </a:xfrm>
            <a:custGeom>
              <a:avLst/>
              <a:gdLst/>
              <a:ahLst/>
              <a:rect l="l" t="t" r="r" b="b"/>
              <a:pathLst>
                <a:path w="1633" h="1759">
                  <a:moveTo>
                    <a:pt x="3" y="63"/>
                  </a:moveTo>
                  <a:cubicBezTo>
                    <a:pt x="1" y="31"/>
                    <a:pt x="0" y="0"/>
                    <a:pt x="7" y="151"/>
                  </a:cubicBezTo>
                  <a:cubicBezTo>
                    <a:pt x="14" y="302"/>
                    <a:pt x="35" y="763"/>
                    <a:pt x="48" y="967"/>
                  </a:cubicBezTo>
                  <a:cubicBezTo>
                    <a:pt x="61" y="1171"/>
                    <a:pt x="66" y="1275"/>
                    <a:pt x="87" y="1378"/>
                  </a:cubicBezTo>
                  <a:cubicBezTo>
                    <a:pt x="108" y="1481"/>
                    <a:pt x="129" y="1534"/>
                    <a:pt x="175" y="1584"/>
                  </a:cubicBezTo>
                  <a:cubicBezTo>
                    <a:pt x="221" y="1634"/>
                    <a:pt x="269" y="1654"/>
                    <a:pt x="363" y="1680"/>
                  </a:cubicBezTo>
                  <a:cubicBezTo>
                    <a:pt x="457" y="1706"/>
                    <a:pt x="553" y="1726"/>
                    <a:pt x="742" y="1738"/>
                  </a:cubicBezTo>
                  <a:cubicBezTo>
                    <a:pt x="931" y="1750"/>
                    <a:pt x="1363" y="1752"/>
                    <a:pt x="1498" y="1755"/>
                  </a:cubicBezTo>
                  <a:cubicBezTo>
                    <a:pt x="1633" y="1758"/>
                    <a:pt x="1542" y="1758"/>
                    <a:pt x="1551" y="175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987640" y="770040"/>
            <a:ext cx="5585040" cy="6013440"/>
            <a:chOff x="2987640" y="770040"/>
            <a:chExt cx="5585040" cy="6013440"/>
          </a:xfrm>
        </p:grpSpPr>
        <p:sp>
          <p:nvSpPr>
            <p:cNvPr id="307" name=""/>
            <p:cNvSpPr/>
            <p:nvPr/>
          </p:nvSpPr>
          <p:spPr>
            <a:xfrm>
              <a:off x="5778360" y="1008000"/>
              <a:ext cx="1800" cy="565488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5770440" y="1047600"/>
              <a:ext cx="7920" cy="562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76440" y="1001880"/>
              <a:ext cx="0" cy="566100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94120" y="6573960"/>
              <a:ext cx="5559480" cy="144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75600" y="995400"/>
              <a:ext cx="7920" cy="566748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00240" y="1376280"/>
              <a:ext cx="5540400" cy="180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06720" y="1697040"/>
              <a:ext cx="5540400" cy="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00240" y="2022480"/>
              <a:ext cx="5540400" cy="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00240" y="2346480"/>
              <a:ext cx="5559480" cy="144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00240" y="2671920"/>
              <a:ext cx="5546880" cy="144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00240" y="2997360"/>
              <a:ext cx="5546880" cy="144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87640" y="3322800"/>
              <a:ext cx="5559480" cy="144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00240" y="3648240"/>
              <a:ext cx="5559480" cy="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00240" y="3973680"/>
              <a:ext cx="5559480" cy="144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00240" y="4297320"/>
              <a:ext cx="5553360" cy="180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94120" y="4622760"/>
              <a:ext cx="5553000" cy="180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00240" y="4948200"/>
              <a:ext cx="5553360" cy="180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13200" y="6248520"/>
              <a:ext cx="5559480" cy="144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00240" y="5923080"/>
              <a:ext cx="5559480" cy="144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00240" y="5599080"/>
              <a:ext cx="5553360" cy="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94120" y="5273640"/>
              <a:ext cx="5553000" cy="180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76680" y="995400"/>
              <a:ext cx="0" cy="566748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76800" y="995400"/>
              <a:ext cx="1440" cy="566748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76560" y="987480"/>
              <a:ext cx="1800" cy="567540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6680" y="981000"/>
              <a:ext cx="1800" cy="568188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8360" y="995400"/>
              <a:ext cx="0" cy="566748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72120" y="995400"/>
              <a:ext cx="1440" cy="567360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78480" y="1001880"/>
              <a:ext cx="1440" cy="566100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78600" y="995400"/>
              <a:ext cx="1440" cy="566748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80280" y="995400"/>
              <a:ext cx="0" cy="566748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78720" y="1001880"/>
              <a:ext cx="1440" cy="566100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80400" y="1001880"/>
              <a:ext cx="0" cy="566100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80280" y="1008000"/>
              <a:ext cx="0" cy="565488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80160" y="995400"/>
              <a:ext cx="1800" cy="566748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80400" y="1008000"/>
              <a:ext cx="1440" cy="565488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65400" y="3973680"/>
              <a:ext cx="5415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24360" y="6568920"/>
              <a:ext cx="111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24360" y="5275440"/>
              <a:ext cx="11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18240" y="4626000"/>
              <a:ext cx="111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16440" y="4302000"/>
              <a:ext cx="10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24360" y="3651120"/>
              <a:ext cx="111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16440" y="3321000"/>
              <a:ext cx="109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16440" y="2671920"/>
              <a:ext cx="10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16440" y="137484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94120" y="1052640"/>
              <a:ext cx="5546520" cy="144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473800" y="3917880"/>
              <a:ext cx="144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70320" y="3917880"/>
              <a:ext cx="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8176680" y="3917880"/>
              <a:ext cx="180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978240" y="3911760"/>
              <a:ext cx="180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73440" y="3911760"/>
              <a:ext cx="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474040" y="995400"/>
              <a:ext cx="7920" cy="566748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71880" y="995400"/>
              <a:ext cx="0" cy="5659560"/>
            </a:xfrm>
            <a:prstGeom prst="line">
              <a:avLst/>
            </a:prstGeom>
            <a:ln w="6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374880" y="3924360"/>
              <a:ext cx="180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6076440" y="3917880"/>
              <a:ext cx="180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67080" y="3911760"/>
              <a:ext cx="144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82000" y="3463920"/>
              <a:ext cx="42876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84880" y="3436920"/>
              <a:ext cx="4093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86360" y="3965400"/>
              <a:ext cx="4096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65720" y="3986280"/>
              <a:ext cx="4096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97480" y="3121200"/>
              <a:ext cx="4096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61160" y="3994200"/>
              <a:ext cx="4111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84880" y="2462040"/>
              <a:ext cx="4093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03960" y="1163520"/>
              <a:ext cx="4093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67520" y="3979800"/>
              <a:ext cx="4096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86280" y="6364440"/>
              <a:ext cx="492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32000" y="3583080"/>
              <a:ext cx="492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11720" y="3610080"/>
              <a:ext cx="5634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75480" y="5073480"/>
              <a:ext cx="56196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88080" y="4413240"/>
              <a:ext cx="5047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908600" y="3595680"/>
              <a:ext cx="5047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27600" y="4095720"/>
              <a:ext cx="5238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26120" y="3595680"/>
              <a:ext cx="5238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70560" y="3914640"/>
              <a:ext cx="4096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43560" y="770040"/>
              <a:ext cx="485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39920" y="4011480"/>
            <a:ext cx="2597400" cy="2791080"/>
          </a:xfrm>
          <a:custGeom>
            <a:avLst/>
            <a:gdLst/>
            <a:ahLst/>
            <a:rect l="l" t="t" r="r" b="b"/>
            <a:pathLst>
              <a:path w="1636" h="1758">
                <a:moveTo>
                  <a:pt x="55" y="0"/>
                </a:moveTo>
                <a:cubicBezTo>
                  <a:pt x="27" y="0"/>
                  <a:pt x="0" y="0"/>
                  <a:pt x="141" y="5"/>
                </a:cubicBezTo>
                <a:cubicBezTo>
                  <a:pt x="282" y="10"/>
                  <a:pt x="714" y="18"/>
                  <a:pt x="904" y="31"/>
                </a:cubicBezTo>
                <a:cubicBezTo>
                  <a:pt x="1094" y="44"/>
                  <a:pt x="1186" y="60"/>
                  <a:pt x="1281" y="84"/>
                </a:cubicBezTo>
                <a:cubicBezTo>
                  <a:pt x="1376" y="108"/>
                  <a:pt x="1424" y="128"/>
                  <a:pt x="1473" y="178"/>
                </a:cubicBezTo>
                <a:cubicBezTo>
                  <a:pt x="1522" y="228"/>
                  <a:pt x="1552" y="282"/>
                  <a:pt x="1574" y="384"/>
                </a:cubicBezTo>
                <a:cubicBezTo>
                  <a:pt x="1596" y="486"/>
                  <a:pt x="1595" y="587"/>
                  <a:pt x="1605" y="792"/>
                </a:cubicBezTo>
                <a:cubicBezTo>
                  <a:pt x="1615" y="997"/>
                  <a:pt x="1628" y="1472"/>
                  <a:pt x="1632" y="1615"/>
                </a:cubicBezTo>
                <a:cubicBezTo>
                  <a:pt x="1636" y="1758"/>
                  <a:pt x="1632" y="1643"/>
                  <a:pt x="1632" y="1649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02480" y="1135080"/>
            <a:ext cx="2592360" cy="2792520"/>
          </a:xfrm>
          <a:custGeom>
            <a:avLst/>
            <a:gdLst/>
            <a:ahLst/>
            <a:rect l="l" t="t" r="r" b="b"/>
            <a:pathLst>
              <a:path w="1633" h="1759">
                <a:moveTo>
                  <a:pt x="3" y="63"/>
                </a:moveTo>
                <a:cubicBezTo>
                  <a:pt x="1" y="31"/>
                  <a:pt x="0" y="0"/>
                  <a:pt x="7" y="151"/>
                </a:cubicBezTo>
                <a:cubicBezTo>
                  <a:pt x="14" y="302"/>
                  <a:pt x="35" y="763"/>
                  <a:pt x="48" y="967"/>
                </a:cubicBezTo>
                <a:cubicBezTo>
                  <a:pt x="61" y="1171"/>
                  <a:pt x="66" y="1275"/>
                  <a:pt x="87" y="1378"/>
                </a:cubicBezTo>
                <a:cubicBezTo>
                  <a:pt x="108" y="1481"/>
                  <a:pt x="129" y="1534"/>
                  <a:pt x="175" y="1584"/>
                </a:cubicBezTo>
                <a:cubicBezTo>
                  <a:pt x="221" y="1634"/>
                  <a:pt x="269" y="1654"/>
                  <a:pt x="363" y="1680"/>
                </a:cubicBezTo>
                <a:cubicBezTo>
                  <a:pt x="457" y="1706"/>
                  <a:pt x="553" y="1726"/>
                  <a:pt x="742" y="1738"/>
                </a:cubicBezTo>
                <a:cubicBezTo>
                  <a:pt x="931" y="1750"/>
                  <a:pt x="1363" y="1752"/>
                  <a:pt x="1498" y="1755"/>
                </a:cubicBezTo>
                <a:cubicBezTo>
                  <a:pt x="1633" y="1758"/>
                  <a:pt x="1542" y="1758"/>
                  <a:pt x="1551" y="1759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63840" y="136440"/>
            <a:ext cx="49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8880" y="293760"/>
            <a:ext cx="176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ункция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443560" y="770040"/>
            <a:ext cx="485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985680" y="930240"/>
                <a:ext cx="8524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64200" y="1049400"/>
            <a:ext cx="0" cy="552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75480" y="1054080"/>
            <a:ext cx="0" cy="552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3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52553 1.48148E-006 E">
                                      <p:cBhvr>
                                        <p:cTn id="249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6 L -0.06476 -3.7037E-006 E">
                                      <p:cBhvr>
                                        <p:cTn id="261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85185E-006 L 0.33941 1.85185E-006 E">
                                      <p:cBhvr>
                                        <p:cTn id="266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1 3.33333E-006 E">
                                      <p:cBhvr>
                                        <p:cTn id="283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81481E-006 L 0.61927 4.81481E-006 E">
                                      <p:cBhvr>
                                        <p:cTn id="288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97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241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6"/>
          <p:cNvSpPr/>
          <p:nvPr/>
        </p:nvSpPr>
        <p:spPr>
          <a:xfrm>
            <a:off x="313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>
            <a:off x="385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529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1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2"/>
          <p:cNvSpPr/>
          <p:nvPr/>
        </p:nvSpPr>
        <p:spPr>
          <a:xfrm>
            <a:off x="745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7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8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0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1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2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4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5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6"/>
          <p:cNvSpPr/>
          <p:nvPr/>
        </p:nvSpPr>
        <p:spPr>
          <a:xfrm>
            <a:off x="8541000" y="5664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7"/>
          <p:cNvSpPr/>
          <p:nvPr/>
        </p:nvSpPr>
        <p:spPr>
          <a:xfrm>
            <a:off x="4141800" y="15228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8"/>
          <p:cNvSpPr/>
          <p:nvPr/>
        </p:nvSpPr>
        <p:spPr>
          <a:xfrm>
            <a:off x="4213080" y="5589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29"/>
          <p:cNvSpPr/>
          <p:nvPr/>
        </p:nvSpPr>
        <p:spPr>
          <a:xfrm>
            <a:off x="3059280" y="2492280"/>
            <a:ext cx="3022560" cy="3087720"/>
          </a:xfrm>
          <a:custGeom>
            <a:avLst/>
            <a:gdLst>
              <a:gd name="textAreaLeft" fmla="*/ 0 w 3022560"/>
              <a:gd name="textAreaRight" fmla="*/ 3022920 w 302256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w="1904" h="1945">
                <a:moveTo>
                  <a:pt x="0" y="0"/>
                </a:moveTo>
                <a:cubicBezTo>
                  <a:pt x="87" y="256"/>
                  <a:pt x="360" y="1204"/>
                  <a:pt x="520" y="1528"/>
                </a:cubicBezTo>
                <a:cubicBezTo>
                  <a:pt x="680" y="1852"/>
                  <a:pt x="813" y="1945"/>
                  <a:pt x="960" y="1944"/>
                </a:cubicBezTo>
                <a:cubicBezTo>
                  <a:pt x="1107" y="1943"/>
                  <a:pt x="1243" y="1836"/>
                  <a:pt x="1400" y="1520"/>
                </a:cubicBezTo>
                <a:cubicBezTo>
                  <a:pt x="1557" y="1204"/>
                  <a:pt x="1799" y="355"/>
                  <a:pt x="1904" y="48"/>
                </a:cubicBezTo>
              </a:path>
            </a:pathLst>
          </a:custGeom>
          <a:noFill/>
          <a:ln w="7632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1"/>
          <p:cNvSpPr/>
          <p:nvPr/>
        </p:nvSpPr>
        <p:spPr>
          <a:xfrm>
            <a:off x="6020280" y="2997360"/>
            <a:ext cx="11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y = </a:t>
            </a: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х</a:t>
            </a:r>
            <a:r>
              <a:rPr b="1" i="1" lang="en-US" sz="3200" spc="-1" strike="noStrike" baseline="30000">
                <a:solidFill>
                  <a:srgbClr val="0066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2"/>
          <p:cNvSpPr/>
          <p:nvPr/>
        </p:nvSpPr>
        <p:spPr>
          <a:xfrm>
            <a:off x="2340000" y="2492280"/>
            <a:ext cx="3022560" cy="3087720"/>
          </a:xfrm>
          <a:custGeom>
            <a:avLst/>
            <a:gdLst>
              <a:gd name="textAreaLeft" fmla="*/ 0 w 3022560"/>
              <a:gd name="textAreaRight" fmla="*/ 3022920 w 302256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w="1904" h="1945">
                <a:moveTo>
                  <a:pt x="0" y="0"/>
                </a:moveTo>
                <a:cubicBezTo>
                  <a:pt x="87" y="256"/>
                  <a:pt x="360" y="1204"/>
                  <a:pt x="520" y="1528"/>
                </a:cubicBezTo>
                <a:cubicBezTo>
                  <a:pt x="680" y="1852"/>
                  <a:pt x="813" y="1945"/>
                  <a:pt x="960" y="1944"/>
                </a:cubicBezTo>
                <a:cubicBezTo>
                  <a:pt x="1107" y="1943"/>
                  <a:pt x="1243" y="1836"/>
                  <a:pt x="1400" y="1520"/>
                </a:cubicBezTo>
                <a:cubicBezTo>
                  <a:pt x="1557" y="1204"/>
                  <a:pt x="1799" y="355"/>
                  <a:pt x="1904" y="48"/>
                </a:cubicBezTo>
              </a:path>
            </a:pathLst>
          </a:custGeom>
          <a:noFill/>
          <a:ln w="7632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8"/>
          <p:cNvSpPr/>
          <p:nvPr/>
        </p:nvSpPr>
        <p:spPr>
          <a:xfrm>
            <a:off x="403560" y="1890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y =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>
            <a:off x="1630080" y="18576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y 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 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40"/>
          <p:cNvSpPr/>
          <p:nvPr/>
        </p:nvSpPr>
        <p:spPr>
          <a:xfrm rot="16200000">
            <a:off x="2755800" y="2363400"/>
            <a:ext cx="12600" cy="701640"/>
          </a:xfrm>
          <a:custGeom>
            <a:avLst/>
            <a:gdLst>
              <a:gd name="textAreaLeft" fmla="*/ 0 w 12600"/>
              <a:gd name="textAreaRight" fmla="*/ 1296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41"/>
          <p:cNvSpPr/>
          <p:nvPr/>
        </p:nvSpPr>
        <p:spPr>
          <a:xfrm rot="16200000">
            <a:off x="3494160" y="4524120"/>
            <a:ext cx="12600" cy="701640"/>
          </a:xfrm>
          <a:custGeom>
            <a:avLst/>
            <a:gdLst>
              <a:gd name="textAreaLeft" fmla="*/ 0 w 12600"/>
              <a:gd name="textAreaRight" fmla="*/ 1296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42"/>
          <p:cNvSpPr/>
          <p:nvPr/>
        </p:nvSpPr>
        <p:spPr>
          <a:xfrm rot="16200000">
            <a:off x="4195800" y="5244840"/>
            <a:ext cx="12600" cy="701640"/>
          </a:xfrm>
          <a:custGeom>
            <a:avLst/>
            <a:gdLst>
              <a:gd name="textAreaLeft" fmla="*/ 0 w 12600"/>
              <a:gd name="textAreaRight" fmla="*/ 1296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43"/>
          <p:cNvSpPr/>
          <p:nvPr/>
        </p:nvSpPr>
        <p:spPr>
          <a:xfrm rot="16200000">
            <a:off x="4916520" y="4524120"/>
            <a:ext cx="12600" cy="701640"/>
          </a:xfrm>
          <a:custGeom>
            <a:avLst/>
            <a:gdLst>
              <a:gd name="textAreaLeft" fmla="*/ 0 w 12600"/>
              <a:gd name="textAreaRight" fmla="*/ 1296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44"/>
          <p:cNvSpPr/>
          <p:nvPr/>
        </p:nvSpPr>
        <p:spPr>
          <a:xfrm rot="16200000">
            <a:off x="5637240" y="2363400"/>
            <a:ext cx="12600" cy="701640"/>
          </a:xfrm>
          <a:custGeom>
            <a:avLst/>
            <a:gdLst>
              <a:gd name="textAreaLeft" fmla="*/ 0 w 12600"/>
              <a:gd name="textAreaRight" fmla="*/ 1296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5"/>
          <p:cNvSpPr/>
          <p:nvPr/>
        </p:nvSpPr>
        <p:spPr>
          <a:xfrm>
            <a:off x="910800" y="177336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y =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(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х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+ 1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)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"/>
          <p:cNvSpPr/>
          <p:nvPr/>
        </p:nvSpPr>
        <p:spPr>
          <a:xfrm>
            <a:off x="97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241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13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7"/>
          <p:cNvSpPr/>
          <p:nvPr/>
        </p:nvSpPr>
        <p:spPr>
          <a:xfrm>
            <a:off x="385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9"/>
          <p:cNvSpPr/>
          <p:nvPr/>
        </p:nvSpPr>
        <p:spPr>
          <a:xfrm>
            <a:off x="529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0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1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2"/>
          <p:cNvSpPr/>
          <p:nvPr/>
        </p:nvSpPr>
        <p:spPr>
          <a:xfrm>
            <a:off x="745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5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7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0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1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2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4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5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6"/>
          <p:cNvSpPr/>
          <p:nvPr/>
        </p:nvSpPr>
        <p:spPr>
          <a:xfrm>
            <a:off x="8606160" y="5664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7"/>
          <p:cNvSpPr/>
          <p:nvPr/>
        </p:nvSpPr>
        <p:spPr>
          <a:xfrm>
            <a:off x="4141800" y="15228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8"/>
          <p:cNvSpPr/>
          <p:nvPr/>
        </p:nvSpPr>
        <p:spPr>
          <a:xfrm>
            <a:off x="4213080" y="5589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29"/>
          <p:cNvSpPr/>
          <p:nvPr/>
        </p:nvSpPr>
        <p:spPr>
          <a:xfrm>
            <a:off x="3059280" y="2492280"/>
            <a:ext cx="3022560" cy="3087720"/>
          </a:xfrm>
          <a:custGeom>
            <a:avLst/>
            <a:gdLst>
              <a:gd name="textAreaLeft" fmla="*/ 0 w 3022560"/>
              <a:gd name="textAreaRight" fmla="*/ 3022920 w 302256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w="1904" h="1945">
                <a:moveTo>
                  <a:pt x="0" y="0"/>
                </a:moveTo>
                <a:cubicBezTo>
                  <a:pt x="87" y="256"/>
                  <a:pt x="360" y="1204"/>
                  <a:pt x="520" y="1528"/>
                </a:cubicBezTo>
                <a:cubicBezTo>
                  <a:pt x="680" y="1852"/>
                  <a:pt x="813" y="1945"/>
                  <a:pt x="960" y="1944"/>
                </a:cubicBezTo>
                <a:cubicBezTo>
                  <a:pt x="1107" y="1943"/>
                  <a:pt x="1243" y="1836"/>
                  <a:pt x="1400" y="1520"/>
                </a:cubicBezTo>
                <a:cubicBezTo>
                  <a:pt x="1557" y="1204"/>
                  <a:pt x="1799" y="355"/>
                  <a:pt x="1904" y="48"/>
                </a:cubicBezTo>
              </a:path>
            </a:pathLst>
          </a:custGeom>
          <a:noFill/>
          <a:ln w="7632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0"/>
          <p:cNvSpPr/>
          <p:nvPr/>
        </p:nvSpPr>
        <p:spPr>
          <a:xfrm>
            <a:off x="6020280" y="2997360"/>
            <a:ext cx="11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y = </a:t>
            </a: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х</a:t>
            </a:r>
            <a:r>
              <a:rPr b="1" i="1" lang="en-US" sz="3200" spc="-1" strike="noStrike" baseline="30000">
                <a:solidFill>
                  <a:srgbClr val="0066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1"/>
          <p:cNvSpPr/>
          <p:nvPr/>
        </p:nvSpPr>
        <p:spPr>
          <a:xfrm>
            <a:off x="3780000" y="2492280"/>
            <a:ext cx="3022560" cy="3087720"/>
          </a:xfrm>
          <a:custGeom>
            <a:avLst/>
            <a:gdLst>
              <a:gd name="textAreaLeft" fmla="*/ 0 w 3022560"/>
              <a:gd name="textAreaRight" fmla="*/ 3022920 w 302256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w="1904" h="1945">
                <a:moveTo>
                  <a:pt x="0" y="0"/>
                </a:moveTo>
                <a:cubicBezTo>
                  <a:pt x="87" y="256"/>
                  <a:pt x="360" y="1204"/>
                  <a:pt x="520" y="1528"/>
                </a:cubicBezTo>
                <a:cubicBezTo>
                  <a:pt x="680" y="1852"/>
                  <a:pt x="813" y="1945"/>
                  <a:pt x="960" y="1944"/>
                </a:cubicBezTo>
                <a:cubicBezTo>
                  <a:pt x="1107" y="1943"/>
                  <a:pt x="1243" y="1836"/>
                  <a:pt x="1400" y="1520"/>
                </a:cubicBezTo>
                <a:cubicBezTo>
                  <a:pt x="1557" y="1204"/>
                  <a:pt x="1799" y="355"/>
                  <a:pt x="1904" y="48"/>
                </a:cubicBezTo>
              </a:path>
            </a:pathLst>
          </a:custGeom>
          <a:noFill/>
          <a:ln w="7632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2"/>
          <p:cNvSpPr/>
          <p:nvPr/>
        </p:nvSpPr>
        <p:spPr>
          <a:xfrm>
            <a:off x="403560" y="1890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y =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3"/>
          <p:cNvSpPr/>
          <p:nvPr/>
        </p:nvSpPr>
        <p:spPr>
          <a:xfrm>
            <a:off x="1625400" y="185760"/>
            <a:ext cx="20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y 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х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34"/>
          <p:cNvSpPr/>
          <p:nvPr/>
        </p:nvSpPr>
        <p:spPr>
          <a:xfrm flipH="1" rot="5400000">
            <a:off x="3494880" y="2363400"/>
            <a:ext cx="12600" cy="701640"/>
          </a:xfrm>
          <a:custGeom>
            <a:avLst/>
            <a:gdLst>
              <a:gd name="textAreaLeft" fmla="*/ -360 w 12600"/>
              <a:gd name="textAreaRight" fmla="*/ 1260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35"/>
          <p:cNvSpPr/>
          <p:nvPr/>
        </p:nvSpPr>
        <p:spPr>
          <a:xfrm flipH="1" rot="5400000">
            <a:off x="4215600" y="4524120"/>
            <a:ext cx="12600" cy="701640"/>
          </a:xfrm>
          <a:custGeom>
            <a:avLst/>
            <a:gdLst>
              <a:gd name="textAreaLeft" fmla="*/ -360 w 12600"/>
              <a:gd name="textAreaRight" fmla="*/ 1260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6"/>
          <p:cNvSpPr/>
          <p:nvPr/>
        </p:nvSpPr>
        <p:spPr>
          <a:xfrm flipH="1" rot="5400000">
            <a:off x="4988880" y="5244840"/>
            <a:ext cx="12600" cy="701640"/>
          </a:xfrm>
          <a:custGeom>
            <a:avLst/>
            <a:gdLst>
              <a:gd name="textAreaLeft" fmla="*/ -360 w 12600"/>
              <a:gd name="textAreaRight" fmla="*/ 1260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37"/>
          <p:cNvSpPr/>
          <p:nvPr/>
        </p:nvSpPr>
        <p:spPr>
          <a:xfrm flipH="1" rot="5400000">
            <a:off x="5655600" y="4524120"/>
            <a:ext cx="12600" cy="701640"/>
          </a:xfrm>
          <a:custGeom>
            <a:avLst/>
            <a:gdLst>
              <a:gd name="textAreaLeft" fmla="*/ -360 w 12600"/>
              <a:gd name="textAreaRight" fmla="*/ 1260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38"/>
          <p:cNvSpPr/>
          <p:nvPr/>
        </p:nvSpPr>
        <p:spPr>
          <a:xfrm flipH="1" rot="5400000">
            <a:off x="6374880" y="2363400"/>
            <a:ext cx="12600" cy="701640"/>
          </a:xfrm>
          <a:custGeom>
            <a:avLst/>
            <a:gdLst>
              <a:gd name="textAreaLeft" fmla="*/ -360 w 12600"/>
              <a:gd name="textAreaRight" fmla="*/ 1260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0"/>
          <p:cNvSpPr/>
          <p:nvPr/>
        </p:nvSpPr>
        <p:spPr>
          <a:xfrm>
            <a:off x="1122120" y="1844640"/>
            <a:ext cx="20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y =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(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х –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1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)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826920" y="1052640"/>
            <a:ext cx="72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  <a:ea typeface="Arial"/>
              </a:rPr>
              <a:t>Первый способ постро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378936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Comic Sans MS"/>
                <a:ea typeface="Arial"/>
              </a:rPr>
              <a:t>сдвиг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97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5"/>
          <p:cNvSpPr/>
          <p:nvPr/>
        </p:nvSpPr>
        <p:spPr>
          <a:xfrm>
            <a:off x="241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"/>
          <p:cNvSpPr/>
          <p:nvPr/>
        </p:nvSpPr>
        <p:spPr>
          <a:xfrm>
            <a:off x="313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7"/>
          <p:cNvSpPr/>
          <p:nvPr/>
        </p:nvSpPr>
        <p:spPr>
          <a:xfrm>
            <a:off x="385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9"/>
          <p:cNvSpPr/>
          <p:nvPr/>
        </p:nvSpPr>
        <p:spPr>
          <a:xfrm>
            <a:off x="529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0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1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2"/>
          <p:cNvSpPr/>
          <p:nvPr/>
        </p:nvSpPr>
        <p:spPr>
          <a:xfrm>
            <a:off x="745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5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7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8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0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1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2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2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4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5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6"/>
          <p:cNvSpPr/>
          <p:nvPr/>
        </p:nvSpPr>
        <p:spPr>
          <a:xfrm>
            <a:off x="8534880" y="5664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7"/>
          <p:cNvSpPr/>
          <p:nvPr/>
        </p:nvSpPr>
        <p:spPr>
          <a:xfrm>
            <a:off x="4068720" y="15228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8"/>
          <p:cNvSpPr/>
          <p:nvPr/>
        </p:nvSpPr>
        <p:spPr>
          <a:xfrm>
            <a:off x="4717800" y="5589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9"/>
          <p:cNvSpPr/>
          <p:nvPr/>
        </p:nvSpPr>
        <p:spPr>
          <a:xfrm>
            <a:off x="3059280" y="2492280"/>
            <a:ext cx="3022560" cy="3087720"/>
          </a:xfrm>
          <a:custGeom>
            <a:avLst/>
            <a:gdLst>
              <a:gd name="textAreaLeft" fmla="*/ 0 w 3022560"/>
              <a:gd name="textAreaRight" fmla="*/ 3022920 w 302256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w="1904" h="1945">
                <a:moveTo>
                  <a:pt x="0" y="0"/>
                </a:moveTo>
                <a:cubicBezTo>
                  <a:pt x="87" y="256"/>
                  <a:pt x="360" y="1204"/>
                  <a:pt x="520" y="1528"/>
                </a:cubicBezTo>
                <a:cubicBezTo>
                  <a:pt x="680" y="1852"/>
                  <a:pt x="813" y="1945"/>
                  <a:pt x="960" y="1944"/>
                </a:cubicBezTo>
                <a:cubicBezTo>
                  <a:pt x="1107" y="1943"/>
                  <a:pt x="1243" y="1836"/>
                  <a:pt x="1400" y="1520"/>
                </a:cubicBezTo>
                <a:cubicBezTo>
                  <a:pt x="1557" y="1204"/>
                  <a:pt x="1799" y="355"/>
                  <a:pt x="1904" y="48"/>
                </a:cubicBezTo>
              </a:path>
            </a:pathLst>
          </a:custGeom>
          <a:noFill/>
          <a:ln w="7632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1"/>
          <p:cNvSpPr/>
          <p:nvPr/>
        </p:nvSpPr>
        <p:spPr>
          <a:xfrm>
            <a:off x="3062160" y="2492280"/>
            <a:ext cx="3022560" cy="3087720"/>
          </a:xfrm>
          <a:custGeom>
            <a:avLst/>
            <a:gdLst>
              <a:gd name="textAreaLeft" fmla="*/ 0 w 3022560"/>
              <a:gd name="textAreaRight" fmla="*/ 3022920 w 302256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w="1904" h="1945">
                <a:moveTo>
                  <a:pt x="0" y="0"/>
                </a:moveTo>
                <a:cubicBezTo>
                  <a:pt x="87" y="256"/>
                  <a:pt x="360" y="1204"/>
                  <a:pt x="520" y="1528"/>
                </a:cubicBezTo>
                <a:cubicBezTo>
                  <a:pt x="680" y="1852"/>
                  <a:pt x="813" y="1945"/>
                  <a:pt x="960" y="1944"/>
                </a:cubicBezTo>
                <a:cubicBezTo>
                  <a:pt x="1107" y="1943"/>
                  <a:pt x="1243" y="1836"/>
                  <a:pt x="1400" y="1520"/>
                </a:cubicBezTo>
                <a:cubicBezTo>
                  <a:pt x="1557" y="1204"/>
                  <a:pt x="1799" y="355"/>
                  <a:pt x="1904" y="48"/>
                </a:cubicBezTo>
              </a:path>
            </a:pathLst>
          </a:custGeom>
          <a:noFill/>
          <a:ln w="7632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4"/>
          <p:cNvSpPr/>
          <p:nvPr/>
        </p:nvSpPr>
        <p:spPr>
          <a:xfrm rot="16200000">
            <a:off x="2755800" y="2363400"/>
            <a:ext cx="12600" cy="701640"/>
          </a:xfrm>
          <a:custGeom>
            <a:avLst/>
            <a:gdLst>
              <a:gd name="textAreaLeft" fmla="*/ 0 w 12600"/>
              <a:gd name="textAreaRight" fmla="*/ 1296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5"/>
          <p:cNvSpPr/>
          <p:nvPr/>
        </p:nvSpPr>
        <p:spPr>
          <a:xfrm rot="16200000">
            <a:off x="3494160" y="4524120"/>
            <a:ext cx="12600" cy="701640"/>
          </a:xfrm>
          <a:custGeom>
            <a:avLst/>
            <a:gdLst>
              <a:gd name="textAreaLeft" fmla="*/ 0 w 12600"/>
              <a:gd name="textAreaRight" fmla="*/ 1296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6"/>
          <p:cNvSpPr/>
          <p:nvPr/>
        </p:nvSpPr>
        <p:spPr>
          <a:xfrm rot="16200000">
            <a:off x="4195800" y="5244840"/>
            <a:ext cx="12600" cy="701640"/>
          </a:xfrm>
          <a:custGeom>
            <a:avLst/>
            <a:gdLst>
              <a:gd name="textAreaLeft" fmla="*/ 0 w 12600"/>
              <a:gd name="textAreaRight" fmla="*/ 1296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37"/>
          <p:cNvSpPr/>
          <p:nvPr/>
        </p:nvSpPr>
        <p:spPr>
          <a:xfrm rot="16200000">
            <a:off x="4916520" y="4524120"/>
            <a:ext cx="12600" cy="701640"/>
          </a:xfrm>
          <a:custGeom>
            <a:avLst/>
            <a:gdLst>
              <a:gd name="textAreaLeft" fmla="*/ 0 w 12600"/>
              <a:gd name="textAreaRight" fmla="*/ 1296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38"/>
          <p:cNvSpPr/>
          <p:nvPr/>
        </p:nvSpPr>
        <p:spPr>
          <a:xfrm rot="16200000">
            <a:off x="5637240" y="2363400"/>
            <a:ext cx="12600" cy="701640"/>
          </a:xfrm>
          <a:custGeom>
            <a:avLst/>
            <a:gdLst>
              <a:gd name="textAreaLeft" fmla="*/ 0 w 12600"/>
              <a:gd name="textAreaRight" fmla="*/ 1296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0"/>
          <p:cNvSpPr/>
          <p:nvPr/>
        </p:nvSpPr>
        <p:spPr>
          <a:xfrm>
            <a:off x="409680" y="260280"/>
            <a:ext cx="254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y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=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f(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х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+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l)</a:t>
            </a:r>
            <a:r>
              <a:rPr b="1" i="1" lang="en-US" sz="4000" spc="-1" strike="noStrike" baseline="30000">
                <a:solidFill>
                  <a:srgbClr val="cc0000"/>
                </a:solidFill>
                <a:latin typeface="Times New Roman"/>
                <a:ea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1"/>
          <p:cNvSpPr/>
          <p:nvPr/>
        </p:nvSpPr>
        <p:spPr>
          <a:xfrm>
            <a:off x="6226560" y="242100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y = f(</a:t>
            </a: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2"/>
          <p:cNvSpPr/>
          <p:nvPr/>
        </p:nvSpPr>
        <p:spPr>
          <a:xfrm>
            <a:off x="4716360" y="476280"/>
            <a:ext cx="3959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двиг влево на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3"/>
          <p:cNvSpPr/>
          <p:nvPr/>
        </p:nvSpPr>
        <p:spPr>
          <a:xfrm>
            <a:off x="3995640" y="558972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4"/>
          <p:cNvSpPr/>
          <p:nvPr/>
        </p:nvSpPr>
        <p:spPr>
          <a:xfrm>
            <a:off x="4716360" y="42210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5"/>
          <p:cNvSpPr/>
          <p:nvPr/>
        </p:nvSpPr>
        <p:spPr>
          <a:xfrm>
            <a:off x="5511960" y="213372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6"/>
          <p:cNvSpPr/>
          <p:nvPr/>
        </p:nvSpPr>
        <p:spPr>
          <a:xfrm>
            <a:off x="3208320" y="421812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7"/>
          <p:cNvSpPr/>
          <p:nvPr/>
        </p:nvSpPr>
        <p:spPr>
          <a:xfrm>
            <a:off x="2556000" y="22050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06358E-006 L -0.07882 -3.06358E-006 E">
                                      <p:cBhvr>
                                        <p:cTn id="427" dur="2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Line 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"/>
          <p:cNvSpPr/>
          <p:nvPr/>
        </p:nvSpPr>
        <p:spPr>
          <a:xfrm>
            <a:off x="97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>
            <a:off x="241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>
            <a:off x="313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>
            <a:off x="385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529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1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2"/>
          <p:cNvSpPr/>
          <p:nvPr/>
        </p:nvSpPr>
        <p:spPr>
          <a:xfrm>
            <a:off x="745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3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4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5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7"/>
          <p:cNvSpPr/>
          <p:nvPr/>
        </p:nvSpPr>
        <p:spPr>
          <a:xfrm>
            <a:off x="3636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8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0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1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2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4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5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6"/>
          <p:cNvSpPr/>
          <p:nvPr/>
        </p:nvSpPr>
        <p:spPr>
          <a:xfrm>
            <a:off x="8534880" y="5664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7"/>
          <p:cNvSpPr/>
          <p:nvPr/>
        </p:nvSpPr>
        <p:spPr>
          <a:xfrm>
            <a:off x="4068720" y="15228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8"/>
          <p:cNvSpPr/>
          <p:nvPr/>
        </p:nvSpPr>
        <p:spPr>
          <a:xfrm>
            <a:off x="4068720" y="5589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29"/>
          <p:cNvSpPr/>
          <p:nvPr/>
        </p:nvSpPr>
        <p:spPr>
          <a:xfrm>
            <a:off x="3059280" y="2492280"/>
            <a:ext cx="3022560" cy="3087720"/>
          </a:xfrm>
          <a:custGeom>
            <a:avLst/>
            <a:gdLst>
              <a:gd name="textAreaLeft" fmla="*/ 0 w 3022560"/>
              <a:gd name="textAreaRight" fmla="*/ 3022920 w 302256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w="1904" h="1945">
                <a:moveTo>
                  <a:pt x="0" y="0"/>
                </a:moveTo>
                <a:cubicBezTo>
                  <a:pt x="87" y="256"/>
                  <a:pt x="360" y="1204"/>
                  <a:pt x="520" y="1528"/>
                </a:cubicBezTo>
                <a:cubicBezTo>
                  <a:pt x="680" y="1852"/>
                  <a:pt x="813" y="1945"/>
                  <a:pt x="960" y="1944"/>
                </a:cubicBezTo>
                <a:cubicBezTo>
                  <a:pt x="1107" y="1943"/>
                  <a:pt x="1243" y="1836"/>
                  <a:pt x="1400" y="1520"/>
                </a:cubicBezTo>
                <a:cubicBezTo>
                  <a:pt x="1557" y="1204"/>
                  <a:pt x="1799" y="355"/>
                  <a:pt x="1904" y="48"/>
                </a:cubicBezTo>
              </a:path>
            </a:pathLst>
          </a:custGeom>
          <a:noFill/>
          <a:ln w="7632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30"/>
          <p:cNvSpPr/>
          <p:nvPr/>
        </p:nvSpPr>
        <p:spPr>
          <a:xfrm>
            <a:off x="3059280" y="2492280"/>
            <a:ext cx="3022560" cy="3087720"/>
          </a:xfrm>
          <a:custGeom>
            <a:avLst/>
            <a:gdLst>
              <a:gd name="textAreaLeft" fmla="*/ 0 w 3022560"/>
              <a:gd name="textAreaRight" fmla="*/ 3022920 w 302256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w="1904" h="1945">
                <a:moveTo>
                  <a:pt x="0" y="0"/>
                </a:moveTo>
                <a:cubicBezTo>
                  <a:pt x="87" y="256"/>
                  <a:pt x="360" y="1204"/>
                  <a:pt x="520" y="1528"/>
                </a:cubicBezTo>
                <a:cubicBezTo>
                  <a:pt x="680" y="1852"/>
                  <a:pt x="813" y="1945"/>
                  <a:pt x="960" y="1944"/>
                </a:cubicBezTo>
                <a:cubicBezTo>
                  <a:pt x="1107" y="1943"/>
                  <a:pt x="1243" y="1836"/>
                  <a:pt x="1400" y="1520"/>
                </a:cubicBezTo>
                <a:cubicBezTo>
                  <a:pt x="1557" y="1204"/>
                  <a:pt x="1799" y="355"/>
                  <a:pt x="1904" y="48"/>
                </a:cubicBezTo>
              </a:path>
            </a:pathLst>
          </a:custGeom>
          <a:noFill/>
          <a:ln w="7632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31"/>
          <p:cNvSpPr/>
          <p:nvPr/>
        </p:nvSpPr>
        <p:spPr>
          <a:xfrm flipH="1" rot="5400000">
            <a:off x="3493440" y="2363400"/>
            <a:ext cx="12600" cy="701640"/>
          </a:xfrm>
          <a:custGeom>
            <a:avLst/>
            <a:gdLst>
              <a:gd name="textAreaLeft" fmla="*/ -360 w 12600"/>
              <a:gd name="textAreaRight" fmla="*/ 1260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32"/>
          <p:cNvSpPr/>
          <p:nvPr/>
        </p:nvSpPr>
        <p:spPr>
          <a:xfrm flipH="1" rot="5400000">
            <a:off x="4232160" y="4523760"/>
            <a:ext cx="12600" cy="702000"/>
          </a:xfrm>
          <a:custGeom>
            <a:avLst/>
            <a:gdLst>
              <a:gd name="textAreaLeft" fmla="*/ -360 w 12600"/>
              <a:gd name="textAreaRight" fmla="*/ 12600 w 1260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33"/>
          <p:cNvSpPr/>
          <p:nvPr/>
        </p:nvSpPr>
        <p:spPr>
          <a:xfrm flipH="1" rot="5400000">
            <a:off x="4987800" y="5244480"/>
            <a:ext cx="12600" cy="702000"/>
          </a:xfrm>
          <a:custGeom>
            <a:avLst/>
            <a:gdLst>
              <a:gd name="textAreaLeft" fmla="*/ -360 w 12600"/>
              <a:gd name="textAreaRight" fmla="*/ 12600 w 1260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34"/>
          <p:cNvSpPr/>
          <p:nvPr/>
        </p:nvSpPr>
        <p:spPr>
          <a:xfrm flipH="1" rot="5400000">
            <a:off x="5708520" y="4523760"/>
            <a:ext cx="12600" cy="702000"/>
          </a:xfrm>
          <a:custGeom>
            <a:avLst/>
            <a:gdLst>
              <a:gd name="textAreaLeft" fmla="*/ -360 w 12600"/>
              <a:gd name="textAreaRight" fmla="*/ 12600 w 1260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35"/>
          <p:cNvSpPr/>
          <p:nvPr/>
        </p:nvSpPr>
        <p:spPr>
          <a:xfrm flipH="1" rot="5400000">
            <a:off x="6374880" y="2363400"/>
            <a:ext cx="12600" cy="701640"/>
          </a:xfrm>
          <a:custGeom>
            <a:avLst/>
            <a:gdLst>
              <a:gd name="textAreaLeft" fmla="*/ -360 w 12600"/>
              <a:gd name="textAreaRight" fmla="*/ 1260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7"/>
          <p:cNvSpPr/>
          <p:nvPr/>
        </p:nvSpPr>
        <p:spPr>
          <a:xfrm>
            <a:off x="39528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y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=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f(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х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–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l)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8"/>
          <p:cNvSpPr/>
          <p:nvPr/>
        </p:nvSpPr>
        <p:spPr>
          <a:xfrm>
            <a:off x="1762560" y="285264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y = f(</a:t>
            </a: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9"/>
          <p:cNvSpPr/>
          <p:nvPr/>
        </p:nvSpPr>
        <p:spPr>
          <a:xfrm>
            <a:off x="4719600" y="476280"/>
            <a:ext cx="4245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двиг вправо на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0"/>
          <p:cNvSpPr/>
          <p:nvPr/>
        </p:nvSpPr>
        <p:spPr>
          <a:xfrm>
            <a:off x="4643280" y="566100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1"/>
          <p:cNvSpPr/>
          <p:nvPr/>
        </p:nvSpPr>
        <p:spPr>
          <a:xfrm>
            <a:off x="5508720" y="4292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2"/>
          <p:cNvSpPr/>
          <p:nvPr/>
        </p:nvSpPr>
        <p:spPr>
          <a:xfrm>
            <a:off x="6156360" y="213372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3"/>
          <p:cNvSpPr/>
          <p:nvPr/>
        </p:nvSpPr>
        <p:spPr>
          <a:xfrm>
            <a:off x="3995640" y="436572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4"/>
          <p:cNvSpPr/>
          <p:nvPr/>
        </p:nvSpPr>
        <p:spPr>
          <a:xfrm>
            <a:off x="3276720" y="213372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47399E-006 L 0.07882 -6.47399E-006 E">
                                      <p:cBhvr>
                                        <p:cTn id="495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826920" y="1052640"/>
            <a:ext cx="72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  <a:ea typeface="Arial"/>
              </a:rPr>
              <a:t>Второй способ постро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900000" y="378936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Comic Sans MS"/>
                <a:ea typeface="Arial"/>
              </a:rPr>
              <a:t>сдвиг оси координ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Line 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97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4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5"/>
          <p:cNvSpPr/>
          <p:nvPr/>
        </p:nvSpPr>
        <p:spPr>
          <a:xfrm>
            <a:off x="241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6"/>
          <p:cNvSpPr/>
          <p:nvPr/>
        </p:nvSpPr>
        <p:spPr>
          <a:xfrm>
            <a:off x="313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7"/>
          <p:cNvSpPr/>
          <p:nvPr/>
        </p:nvSpPr>
        <p:spPr>
          <a:xfrm>
            <a:off x="385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"/>
          <p:cNvSpPr/>
          <p:nvPr/>
        </p:nvSpPr>
        <p:spPr>
          <a:xfrm>
            <a:off x="529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0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1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2"/>
          <p:cNvSpPr/>
          <p:nvPr/>
        </p:nvSpPr>
        <p:spPr>
          <a:xfrm>
            <a:off x="745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3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4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5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7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8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0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21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2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24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5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6"/>
          <p:cNvSpPr/>
          <p:nvPr/>
        </p:nvSpPr>
        <p:spPr>
          <a:xfrm>
            <a:off x="8791920" y="5664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7"/>
          <p:cNvSpPr/>
          <p:nvPr/>
        </p:nvSpPr>
        <p:spPr>
          <a:xfrm>
            <a:off x="4141800" y="18900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8"/>
          <p:cNvSpPr/>
          <p:nvPr/>
        </p:nvSpPr>
        <p:spPr>
          <a:xfrm>
            <a:off x="4717800" y="5589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29"/>
          <p:cNvSpPr/>
          <p:nvPr/>
        </p:nvSpPr>
        <p:spPr>
          <a:xfrm>
            <a:off x="2340000" y="2492280"/>
            <a:ext cx="3022560" cy="3087720"/>
          </a:xfrm>
          <a:custGeom>
            <a:avLst/>
            <a:gdLst>
              <a:gd name="textAreaLeft" fmla="*/ 0 w 3022560"/>
              <a:gd name="textAreaRight" fmla="*/ 3022920 w 302256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w="1904" h="1945">
                <a:moveTo>
                  <a:pt x="0" y="0"/>
                </a:moveTo>
                <a:cubicBezTo>
                  <a:pt x="87" y="256"/>
                  <a:pt x="360" y="1204"/>
                  <a:pt x="520" y="1528"/>
                </a:cubicBezTo>
                <a:cubicBezTo>
                  <a:pt x="680" y="1852"/>
                  <a:pt x="813" y="1945"/>
                  <a:pt x="960" y="1944"/>
                </a:cubicBezTo>
                <a:cubicBezTo>
                  <a:pt x="1107" y="1943"/>
                  <a:pt x="1243" y="1836"/>
                  <a:pt x="1400" y="1520"/>
                </a:cubicBezTo>
                <a:cubicBezTo>
                  <a:pt x="1557" y="1204"/>
                  <a:pt x="1799" y="355"/>
                  <a:pt x="1904" y="48"/>
                </a:cubicBezTo>
              </a:path>
            </a:pathLst>
          </a:custGeom>
          <a:noFill/>
          <a:ln w="7632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31"/>
          <p:cNvSpPr/>
          <p:nvPr/>
        </p:nvSpPr>
        <p:spPr>
          <a:xfrm rot="16200000">
            <a:off x="4195800" y="2363400"/>
            <a:ext cx="12600" cy="701640"/>
          </a:xfrm>
          <a:custGeom>
            <a:avLst/>
            <a:gdLst>
              <a:gd name="textAreaLeft" fmla="*/ 0 w 12600"/>
              <a:gd name="textAreaRight" fmla="*/ 12960 w 12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6"/>
          <p:cNvSpPr/>
          <p:nvPr/>
        </p:nvSpPr>
        <p:spPr>
          <a:xfrm>
            <a:off x="409680" y="260280"/>
            <a:ext cx="254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y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=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f(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х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+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l)</a:t>
            </a:r>
            <a:r>
              <a:rPr b="1" i="1" lang="en-US" sz="4000" spc="-1" strike="noStrike" baseline="30000">
                <a:solidFill>
                  <a:srgbClr val="cc0000"/>
                </a:solidFill>
                <a:latin typeface="Times New Roman"/>
                <a:ea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8"/>
          <p:cNvSpPr/>
          <p:nvPr/>
        </p:nvSpPr>
        <p:spPr>
          <a:xfrm>
            <a:off x="4716360" y="476280"/>
            <a:ext cx="3959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двиг влево на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3"/>
          <p:cNvSpPr/>
          <p:nvPr/>
        </p:nvSpPr>
        <p:spPr>
          <a:xfrm>
            <a:off x="3995640" y="2060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4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5"/>
          <p:cNvSpPr/>
          <p:nvPr/>
        </p:nvSpPr>
        <p:spPr>
          <a:xfrm>
            <a:off x="3425040" y="18900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  <a:ea typeface="Arial"/>
              </a:rPr>
              <a:t>У</a:t>
            </a:r>
            <a:r>
              <a:rPr b="1" i="1" lang="en-US" sz="2000" spc="-1" strike="noStrike" baseline="-25000">
                <a:solidFill>
                  <a:srgbClr val="cc3300"/>
                </a:solidFill>
                <a:latin typeface="Times New Roman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6"/>
          <p:cNvSpPr/>
          <p:nvPr/>
        </p:nvSpPr>
        <p:spPr>
          <a:xfrm>
            <a:off x="5291640" y="263700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y = f(</a:t>
            </a: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2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1.96532E-006 L -0.07882 -1.96532E-006 E">
                                      <p:cBhvr>
                                        <p:cTn id="524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5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Line 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97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"/>
          <p:cNvSpPr/>
          <p:nvPr/>
        </p:nvSpPr>
        <p:spPr>
          <a:xfrm>
            <a:off x="241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6"/>
          <p:cNvSpPr/>
          <p:nvPr/>
        </p:nvSpPr>
        <p:spPr>
          <a:xfrm>
            <a:off x="313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7"/>
          <p:cNvSpPr/>
          <p:nvPr/>
        </p:nvSpPr>
        <p:spPr>
          <a:xfrm>
            <a:off x="385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9"/>
          <p:cNvSpPr/>
          <p:nvPr/>
        </p:nvSpPr>
        <p:spPr>
          <a:xfrm>
            <a:off x="529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0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1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2"/>
          <p:cNvSpPr/>
          <p:nvPr/>
        </p:nvSpPr>
        <p:spPr>
          <a:xfrm>
            <a:off x="745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3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4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5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7"/>
          <p:cNvSpPr/>
          <p:nvPr/>
        </p:nvSpPr>
        <p:spPr>
          <a:xfrm>
            <a:off x="3636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8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0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1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2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24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6"/>
          <p:cNvSpPr/>
          <p:nvPr/>
        </p:nvSpPr>
        <p:spPr>
          <a:xfrm>
            <a:off x="8791920" y="5664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7"/>
          <p:cNvSpPr/>
          <p:nvPr/>
        </p:nvSpPr>
        <p:spPr>
          <a:xfrm>
            <a:off x="4072680" y="15228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  <a:ea typeface="Arial"/>
              </a:rPr>
              <a:t>У</a:t>
            </a:r>
            <a:r>
              <a:rPr b="1" i="1" lang="en-US" sz="2000" spc="-1" strike="noStrike" baseline="-25000">
                <a:solidFill>
                  <a:srgbClr val="cc3300"/>
                </a:solidFill>
                <a:latin typeface="Times New Roman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8"/>
          <p:cNvSpPr/>
          <p:nvPr/>
        </p:nvSpPr>
        <p:spPr>
          <a:xfrm>
            <a:off x="4068720" y="5589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29"/>
          <p:cNvSpPr/>
          <p:nvPr/>
        </p:nvSpPr>
        <p:spPr>
          <a:xfrm>
            <a:off x="3059280" y="2492280"/>
            <a:ext cx="3022560" cy="3087720"/>
          </a:xfrm>
          <a:custGeom>
            <a:avLst/>
            <a:gdLst>
              <a:gd name="textAreaLeft" fmla="*/ 0 w 3022560"/>
              <a:gd name="textAreaRight" fmla="*/ 3022920 w 302256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w="1904" h="1945">
                <a:moveTo>
                  <a:pt x="0" y="0"/>
                </a:moveTo>
                <a:cubicBezTo>
                  <a:pt x="87" y="256"/>
                  <a:pt x="360" y="1204"/>
                  <a:pt x="520" y="1528"/>
                </a:cubicBezTo>
                <a:cubicBezTo>
                  <a:pt x="680" y="1852"/>
                  <a:pt x="813" y="1945"/>
                  <a:pt x="960" y="1944"/>
                </a:cubicBezTo>
                <a:cubicBezTo>
                  <a:pt x="1107" y="1943"/>
                  <a:pt x="1243" y="1836"/>
                  <a:pt x="1400" y="1520"/>
                </a:cubicBezTo>
                <a:cubicBezTo>
                  <a:pt x="1557" y="1204"/>
                  <a:pt x="1799" y="355"/>
                  <a:pt x="1904" y="48"/>
                </a:cubicBezTo>
              </a:path>
            </a:pathLst>
          </a:custGeom>
          <a:noFill/>
          <a:ln w="7632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34"/>
          <p:cNvSpPr/>
          <p:nvPr/>
        </p:nvSpPr>
        <p:spPr>
          <a:xfrm flipH="1" rot="5400000">
            <a:off x="4194720" y="2004840"/>
            <a:ext cx="12960" cy="701640"/>
          </a:xfrm>
          <a:custGeom>
            <a:avLst/>
            <a:gdLst>
              <a:gd name="textAreaLeft" fmla="*/ 360 w 12960"/>
              <a:gd name="textAreaRight" fmla="*/ 13680 w 129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8" h="442">
                <a:moveTo>
                  <a:pt x="0" y="442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ff99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6"/>
          <p:cNvSpPr/>
          <p:nvPr/>
        </p:nvSpPr>
        <p:spPr>
          <a:xfrm>
            <a:off x="39528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y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=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f(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х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–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l)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8"/>
          <p:cNvSpPr/>
          <p:nvPr/>
        </p:nvSpPr>
        <p:spPr>
          <a:xfrm>
            <a:off x="4719600" y="476280"/>
            <a:ext cx="4245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двиг вправо на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0"/>
          <p:cNvSpPr/>
          <p:nvPr/>
        </p:nvSpPr>
        <p:spPr>
          <a:xfrm>
            <a:off x="3924360" y="1628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44"/>
          <p:cNvSpPr/>
          <p:nvPr/>
        </p:nvSpPr>
        <p:spPr>
          <a:xfrm flipV="1">
            <a:off x="385128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5"/>
          <p:cNvSpPr/>
          <p:nvPr/>
        </p:nvSpPr>
        <p:spPr>
          <a:xfrm>
            <a:off x="3421080" y="18900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6"/>
          <p:cNvSpPr/>
          <p:nvPr/>
        </p:nvSpPr>
        <p:spPr>
          <a:xfrm flipV="1">
            <a:off x="3851280" y="0"/>
            <a:ext cx="0" cy="68580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7"/>
          <p:cNvSpPr/>
          <p:nvPr/>
        </p:nvSpPr>
        <p:spPr>
          <a:xfrm>
            <a:off x="6083640" y="270828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y = f(</a:t>
            </a: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35838E-007 L 0.07882 6.35838E-007 E">
                                      <p:cBhvr>
                                        <p:cTn id="562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00" y="139320"/>
            <a:ext cx="76536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еобразо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. 8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Линия 9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Линия 10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оле 11"/>
          <p:cNvSpPr/>
          <p:nvPr/>
        </p:nvSpPr>
        <p:spPr>
          <a:xfrm>
            <a:off x="7010280" y="1828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олилиния 12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олилиния 13"/>
          <p:cNvSpPr/>
          <p:nvPr/>
        </p:nvSpPr>
        <p:spPr>
          <a:xfrm>
            <a:off x="30481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Линия 14"/>
          <p:cNvSpPr/>
          <p:nvPr/>
        </p:nvSpPr>
        <p:spPr>
          <a:xfrm flipH="1">
            <a:off x="2514240" y="49388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олилиния 15"/>
          <p:cNvSpPr/>
          <p:nvPr/>
        </p:nvSpPr>
        <p:spPr>
          <a:xfrm>
            <a:off x="2590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оле 18"/>
          <p:cNvSpPr/>
          <p:nvPr/>
        </p:nvSpPr>
        <p:spPr>
          <a:xfrm>
            <a:off x="2666880" y="49687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Объект 19"/>
          <p:cNvGraphicFramePr/>
          <p:nvPr/>
        </p:nvGraphicFramePr>
        <p:xfrm>
          <a:off x="4383000" y="3041640"/>
          <a:ext cx="198936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Объект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3000" y="3041640"/>
                    <a:ext cx="19893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Поле 29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оле 30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оле 31"/>
          <p:cNvSpPr/>
          <p:nvPr/>
        </p:nvSpPr>
        <p:spPr>
          <a:xfrm>
            <a:off x="4284720" y="5791320"/>
            <a:ext cx="4097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00"/>
                </a:solidFill>
                <a:latin typeface="Times New Roman"/>
              </a:rPr>
              <a:t>Сдвиг по оси </a:t>
            </a:r>
            <a:r>
              <a:rPr b="0" i="1" lang="en-US" sz="3200" spc="-1" strike="noStrike">
                <a:solidFill>
                  <a:srgbClr val="99cc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99cc00"/>
                </a:solidFill>
                <a:uFillTx/>
                <a:latin typeface="Times New Roman"/>
              </a:rPr>
              <a:t>вл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олилиния 32"/>
          <p:cNvSpPr/>
          <p:nvPr/>
        </p:nvSpPr>
        <p:spPr>
          <a:xfrm>
            <a:off x="29718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олилиния 33"/>
          <p:cNvSpPr/>
          <p:nvPr/>
        </p:nvSpPr>
        <p:spPr>
          <a:xfrm>
            <a:off x="28954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олилиния 34"/>
          <p:cNvSpPr/>
          <p:nvPr/>
        </p:nvSpPr>
        <p:spPr>
          <a:xfrm>
            <a:off x="28195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олилиния 35"/>
          <p:cNvSpPr/>
          <p:nvPr/>
        </p:nvSpPr>
        <p:spPr>
          <a:xfrm>
            <a:off x="27432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олилиния 36"/>
          <p:cNvSpPr/>
          <p:nvPr/>
        </p:nvSpPr>
        <p:spPr>
          <a:xfrm>
            <a:off x="26668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оле 37"/>
          <p:cNvSpPr/>
          <p:nvPr/>
        </p:nvSpPr>
        <p:spPr>
          <a:xfrm>
            <a:off x="0" y="981000"/>
            <a:ext cx="4097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cc00"/>
                </a:solidFill>
                <a:latin typeface="Times New Roman"/>
              </a:rPr>
              <a:t>Сдвиг по оси О</a:t>
            </a:r>
            <a:r>
              <a:rPr b="1" i="1" lang="en-US" sz="3600" spc="-1" strike="noStrike">
                <a:solidFill>
                  <a:srgbClr val="99cc0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99cc00"/>
                </a:solidFill>
                <a:latin typeface="Times New Roman"/>
              </a:rPr>
              <a:t>.</a:t>
            </a:r>
            <a:r>
              <a:rPr b="1" i="1" lang="ru-RU" sz="32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6027840" y="922320"/>
                <a:ext cx="25351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1189080" y="2852640"/>
                <a:ext cx="25351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6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8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рганизовать деятельность учащихся по изучению и первичному закреплению знаний о построении графиков функц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еспечить восприятие, осознание, осмысление учащимися того, какие преобразования позволят построить графики функци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) способствовать развитию математической компетентности у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) воспитание рефлексивной культуры учащихся, готовности к пересмотру своих суждений в свете убедительных аргум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00" y="139320"/>
            <a:ext cx="76536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еобразо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ямоуг. 4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Линия 5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Линия 6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оле 7"/>
          <p:cNvSpPr/>
          <p:nvPr/>
        </p:nvSpPr>
        <p:spPr>
          <a:xfrm>
            <a:off x="7010280" y="1828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олилиния 8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олилиния 9"/>
          <p:cNvSpPr/>
          <p:nvPr/>
        </p:nvSpPr>
        <p:spPr>
          <a:xfrm>
            <a:off x="32004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Линия 10"/>
          <p:cNvSpPr/>
          <p:nvPr/>
        </p:nvSpPr>
        <p:spPr>
          <a:xfrm>
            <a:off x="3124080" y="493884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олилиния 11"/>
          <p:cNvSpPr/>
          <p:nvPr/>
        </p:nvSpPr>
        <p:spPr>
          <a:xfrm>
            <a:off x="3733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оле 12"/>
          <p:cNvSpPr/>
          <p:nvPr/>
        </p:nvSpPr>
        <p:spPr>
          <a:xfrm>
            <a:off x="3124080" y="50292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1" name="Объект 13"/>
          <p:cNvGraphicFramePr/>
          <p:nvPr/>
        </p:nvGraphicFramePr>
        <p:xfrm>
          <a:off x="2195640" y="2933640"/>
          <a:ext cx="180324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Объект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933640"/>
                    <a:ext cx="18032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Полилиния 15"/>
          <p:cNvSpPr/>
          <p:nvPr/>
        </p:nvSpPr>
        <p:spPr>
          <a:xfrm>
            <a:off x="32767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олилиния 16"/>
          <p:cNvSpPr/>
          <p:nvPr/>
        </p:nvSpPr>
        <p:spPr>
          <a:xfrm>
            <a:off x="33526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олилиния 17"/>
          <p:cNvSpPr/>
          <p:nvPr/>
        </p:nvSpPr>
        <p:spPr>
          <a:xfrm>
            <a:off x="34290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Полилиния 18"/>
          <p:cNvSpPr/>
          <p:nvPr/>
        </p:nvSpPr>
        <p:spPr>
          <a:xfrm>
            <a:off x="3505320" y="34164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Полилиния 19"/>
          <p:cNvSpPr/>
          <p:nvPr/>
        </p:nvSpPr>
        <p:spPr>
          <a:xfrm>
            <a:off x="35812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олилиния 20"/>
          <p:cNvSpPr/>
          <p:nvPr/>
        </p:nvSpPr>
        <p:spPr>
          <a:xfrm>
            <a:off x="36576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Поле 21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оле 22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е 23"/>
          <p:cNvSpPr/>
          <p:nvPr/>
        </p:nvSpPr>
        <p:spPr>
          <a:xfrm>
            <a:off x="4356000" y="5791320"/>
            <a:ext cx="4025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00"/>
                </a:solidFill>
                <a:latin typeface="Times New Roman"/>
              </a:rPr>
              <a:t>Сдвиг по оси </a:t>
            </a:r>
            <a:r>
              <a:rPr b="0" i="1" lang="en-US" sz="3200" spc="-1" strike="noStrike">
                <a:solidFill>
                  <a:srgbClr val="99cc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99cc00"/>
                </a:solidFill>
                <a:uFillTx/>
                <a:latin typeface="Times New Roman"/>
              </a:rPr>
              <a:t>в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е 24"/>
          <p:cNvSpPr/>
          <p:nvPr/>
        </p:nvSpPr>
        <p:spPr>
          <a:xfrm>
            <a:off x="0" y="981000"/>
            <a:ext cx="4097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cc00"/>
                </a:solidFill>
                <a:latin typeface="Times New Roman"/>
              </a:rPr>
              <a:t>Сдвиг по оси О</a:t>
            </a:r>
            <a:r>
              <a:rPr b="1" i="1" lang="en-US" sz="3600" spc="-1" strike="noStrike">
                <a:solidFill>
                  <a:srgbClr val="99cc0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99cc00"/>
                </a:solidFill>
                <a:latin typeface="Times New Roman"/>
              </a:rPr>
              <a:t>.</a:t>
            </a:r>
            <a:r>
              <a:rPr b="1" i="1" lang="ru-RU" sz="32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5257800" y="941400"/>
                <a:ext cx="3319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321160" y="2948040"/>
                <a:ext cx="2824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8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0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2552400"/>
            <a:ext cx="822960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бник: § 19 стр. 107 – 1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чник № 19.6, 19.7 – 19.10 (в,г), 19.22 стр. 116 – 11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71640" y="1844640"/>
            <a:ext cx="7200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  <a:ea typeface="Arial"/>
              </a:rPr>
              <a:t>График какой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  <a:ea typeface="Arial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Comic Sans MS"/>
                <a:ea typeface="Arial"/>
              </a:rPr>
              <a:t>изображен на рисун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97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13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385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>
            <a:off x="529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745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7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0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1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2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4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5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8606160" y="5664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4068720" y="15228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4213080" y="5589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9"/>
          <p:cNvSpPr/>
          <p:nvPr/>
        </p:nvSpPr>
        <p:spPr>
          <a:xfrm>
            <a:off x="3059280" y="2492280"/>
            <a:ext cx="3022560" cy="3087720"/>
          </a:xfrm>
          <a:custGeom>
            <a:avLst/>
            <a:gdLst>
              <a:gd name="textAreaLeft" fmla="*/ 0 w 3022560"/>
              <a:gd name="textAreaRight" fmla="*/ 3022920 w 302256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w="1904" h="1945">
                <a:moveTo>
                  <a:pt x="0" y="0"/>
                </a:moveTo>
                <a:cubicBezTo>
                  <a:pt x="87" y="256"/>
                  <a:pt x="360" y="1204"/>
                  <a:pt x="520" y="1528"/>
                </a:cubicBezTo>
                <a:cubicBezTo>
                  <a:pt x="680" y="1852"/>
                  <a:pt x="813" y="1945"/>
                  <a:pt x="960" y="1944"/>
                </a:cubicBezTo>
                <a:cubicBezTo>
                  <a:pt x="1107" y="1943"/>
                  <a:pt x="1243" y="1836"/>
                  <a:pt x="1400" y="1520"/>
                </a:cubicBezTo>
                <a:cubicBezTo>
                  <a:pt x="1557" y="1204"/>
                  <a:pt x="1799" y="355"/>
                  <a:pt x="1904" y="48"/>
                </a:cubicBezTo>
              </a:path>
            </a:pathLst>
          </a:custGeom>
          <a:noFill/>
          <a:ln w="7632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7"/>
          <p:cNvSpPr/>
          <p:nvPr/>
        </p:nvSpPr>
        <p:spPr>
          <a:xfrm>
            <a:off x="6020280" y="2997360"/>
            <a:ext cx="11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y =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8"/>
          <p:cNvSpPr/>
          <p:nvPr/>
        </p:nvSpPr>
        <p:spPr>
          <a:xfrm>
            <a:off x="5149800" y="5589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9"/>
          <p:cNvSpPr/>
          <p:nvPr/>
        </p:nvSpPr>
        <p:spPr>
          <a:xfrm>
            <a:off x="4644720" y="465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97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241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13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385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529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745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4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5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8677800" y="2276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4068720" y="15228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4213080" y="2276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9"/>
          <p:cNvSpPr/>
          <p:nvPr/>
        </p:nvSpPr>
        <p:spPr>
          <a:xfrm flipV="1">
            <a:off x="3059280" y="2716560"/>
            <a:ext cx="3022560" cy="3087720"/>
          </a:xfrm>
          <a:custGeom>
            <a:avLst/>
            <a:gdLst>
              <a:gd name="textAreaLeft" fmla="*/ 0 w 3022560"/>
              <a:gd name="textAreaRight" fmla="*/ 3022920 w 3022560"/>
              <a:gd name="textAreaTop" fmla="*/ -360 h 3087720"/>
              <a:gd name="textAreaBottom" fmla="*/ 3087720 h 3087720"/>
            </a:gdLst>
            <a:ahLst/>
            <a:rect l="textAreaLeft" t="textAreaTop" r="textAreaRight" b="textAreaBottom"/>
            <a:pathLst>
              <a:path w="1904" h="1945">
                <a:moveTo>
                  <a:pt x="0" y="0"/>
                </a:moveTo>
                <a:cubicBezTo>
                  <a:pt x="87" y="256"/>
                  <a:pt x="360" y="1204"/>
                  <a:pt x="520" y="1528"/>
                </a:cubicBezTo>
                <a:cubicBezTo>
                  <a:pt x="680" y="1852"/>
                  <a:pt x="813" y="1945"/>
                  <a:pt x="960" y="1944"/>
                </a:cubicBezTo>
                <a:cubicBezTo>
                  <a:pt x="1107" y="1943"/>
                  <a:pt x="1243" y="1836"/>
                  <a:pt x="1400" y="1520"/>
                </a:cubicBezTo>
                <a:cubicBezTo>
                  <a:pt x="1557" y="1204"/>
                  <a:pt x="1799" y="355"/>
                  <a:pt x="1904" y="48"/>
                </a:cubicBezTo>
              </a:path>
            </a:pathLst>
          </a:custGeom>
          <a:noFill/>
          <a:ln w="7632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6012000" y="2997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y 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– х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5149800" y="2276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2"/>
          <p:cNvSpPr/>
          <p:nvPr/>
        </p:nvSpPr>
        <p:spPr>
          <a:xfrm>
            <a:off x="4141800" y="177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97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241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313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385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529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745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-36360" y="414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3492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8606160" y="3500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4068720" y="15228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421308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2"/>
          <p:cNvSpPr/>
          <p:nvPr/>
        </p:nvSpPr>
        <p:spPr>
          <a:xfrm>
            <a:off x="4757760" y="1268280"/>
            <a:ext cx="1974960" cy="1928880"/>
          </a:xfrm>
          <a:custGeom>
            <a:avLst/>
            <a:gdLst>
              <a:gd name="textAreaLeft" fmla="*/ 0 w 1974960"/>
              <a:gd name="textAreaRight" fmla="*/ 1975320 w 197496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1244" h="1215">
                <a:moveTo>
                  <a:pt x="0" y="0"/>
                </a:moveTo>
                <a:cubicBezTo>
                  <a:pt x="18" y="75"/>
                  <a:pt x="54" y="295"/>
                  <a:pt x="110" y="444"/>
                </a:cubicBezTo>
                <a:cubicBezTo>
                  <a:pt x="166" y="593"/>
                  <a:pt x="224" y="784"/>
                  <a:pt x="337" y="897"/>
                </a:cubicBezTo>
                <a:cubicBezTo>
                  <a:pt x="450" y="1010"/>
                  <a:pt x="639" y="1071"/>
                  <a:pt x="790" y="1124"/>
                </a:cubicBezTo>
                <a:cubicBezTo>
                  <a:pt x="941" y="1177"/>
                  <a:pt x="1092" y="1196"/>
                  <a:pt x="1244" y="1215"/>
                </a:cubicBezTo>
              </a:path>
            </a:pathLst>
          </a:custGeom>
          <a:noFill/>
          <a:ln w="7632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5"/>
          <p:cNvSpPr/>
          <p:nvPr/>
        </p:nvSpPr>
        <p:spPr>
          <a:xfrm flipH="1" flipV="1">
            <a:off x="2430360" y="3645000"/>
            <a:ext cx="1974960" cy="1928880"/>
          </a:xfrm>
          <a:custGeom>
            <a:avLst/>
            <a:gdLst>
              <a:gd name="textAreaLeft" fmla="*/ 360 w 1974960"/>
              <a:gd name="textAreaRight" fmla="*/ 1975680 w 1974960"/>
              <a:gd name="textAreaTop" fmla="*/ 360 h 1928880"/>
              <a:gd name="textAreaBottom" fmla="*/ 1929600 h 1928880"/>
            </a:gdLst>
            <a:ahLst/>
            <a:rect l="textAreaLeft" t="textAreaTop" r="textAreaRight" b="textAreaBottom"/>
            <a:pathLst>
              <a:path w="1244" h="1215">
                <a:moveTo>
                  <a:pt x="0" y="0"/>
                </a:moveTo>
                <a:cubicBezTo>
                  <a:pt x="18" y="75"/>
                  <a:pt x="54" y="295"/>
                  <a:pt x="110" y="444"/>
                </a:cubicBezTo>
                <a:cubicBezTo>
                  <a:pt x="166" y="593"/>
                  <a:pt x="224" y="784"/>
                  <a:pt x="337" y="897"/>
                </a:cubicBezTo>
                <a:cubicBezTo>
                  <a:pt x="450" y="1010"/>
                  <a:pt x="639" y="1071"/>
                  <a:pt x="790" y="1124"/>
                </a:cubicBezTo>
                <a:cubicBezTo>
                  <a:pt x="941" y="1177"/>
                  <a:pt x="1092" y="1196"/>
                  <a:pt x="1244" y="1215"/>
                </a:cubicBezTo>
              </a:path>
            </a:pathLst>
          </a:custGeom>
          <a:noFill/>
          <a:ln w="7632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5149800" y="3500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7"/>
          <p:cNvSpPr/>
          <p:nvPr/>
        </p:nvSpPr>
        <p:spPr>
          <a:xfrm>
            <a:off x="4141800" y="2492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27640" y="907920"/>
            <a:ext cx="1440000" cy="13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"/>
          <p:cNvSpPr/>
          <p:nvPr/>
        </p:nvSpPr>
        <p:spPr>
          <a:xfrm>
            <a:off x="97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241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313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385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529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745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-36360" y="414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3492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8606160" y="3500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4068720" y="15228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421308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0"/>
          <p:cNvSpPr/>
          <p:nvPr/>
        </p:nvSpPr>
        <p:spPr>
          <a:xfrm flipH="1">
            <a:off x="2411280" y="1268280"/>
            <a:ext cx="1974960" cy="1928880"/>
          </a:xfrm>
          <a:custGeom>
            <a:avLst/>
            <a:gdLst>
              <a:gd name="textAreaLeft" fmla="*/ 360 w 1974960"/>
              <a:gd name="textAreaRight" fmla="*/ 1975680 w 197496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1244" h="1215">
                <a:moveTo>
                  <a:pt x="0" y="0"/>
                </a:moveTo>
                <a:cubicBezTo>
                  <a:pt x="18" y="75"/>
                  <a:pt x="54" y="295"/>
                  <a:pt x="110" y="444"/>
                </a:cubicBezTo>
                <a:cubicBezTo>
                  <a:pt x="166" y="593"/>
                  <a:pt x="224" y="784"/>
                  <a:pt x="337" y="897"/>
                </a:cubicBezTo>
                <a:cubicBezTo>
                  <a:pt x="450" y="1010"/>
                  <a:pt x="639" y="1071"/>
                  <a:pt x="790" y="1124"/>
                </a:cubicBezTo>
                <a:cubicBezTo>
                  <a:pt x="941" y="1177"/>
                  <a:pt x="1092" y="1196"/>
                  <a:pt x="1244" y="1215"/>
                </a:cubicBezTo>
              </a:path>
            </a:pathLst>
          </a:custGeom>
          <a:noFill/>
          <a:ln w="7632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1"/>
          <p:cNvSpPr/>
          <p:nvPr/>
        </p:nvSpPr>
        <p:spPr>
          <a:xfrm flipV="1">
            <a:off x="4788000" y="3645000"/>
            <a:ext cx="1974600" cy="1928880"/>
          </a:xfrm>
          <a:custGeom>
            <a:avLst/>
            <a:gdLst>
              <a:gd name="textAreaLeft" fmla="*/ 0 w 1974600"/>
              <a:gd name="textAreaRight" fmla="*/ 1974960 w 1974600"/>
              <a:gd name="textAreaTop" fmla="*/ 360 h 1928880"/>
              <a:gd name="textAreaBottom" fmla="*/ 1929600 h 1928880"/>
            </a:gdLst>
            <a:ahLst/>
            <a:rect l="textAreaLeft" t="textAreaTop" r="textAreaRight" b="textAreaBottom"/>
            <a:pathLst>
              <a:path w="1244" h="1215">
                <a:moveTo>
                  <a:pt x="0" y="0"/>
                </a:moveTo>
                <a:cubicBezTo>
                  <a:pt x="18" y="75"/>
                  <a:pt x="54" y="295"/>
                  <a:pt x="110" y="444"/>
                </a:cubicBezTo>
                <a:cubicBezTo>
                  <a:pt x="166" y="593"/>
                  <a:pt x="224" y="784"/>
                  <a:pt x="337" y="897"/>
                </a:cubicBezTo>
                <a:cubicBezTo>
                  <a:pt x="450" y="1010"/>
                  <a:pt x="639" y="1071"/>
                  <a:pt x="790" y="1124"/>
                </a:cubicBezTo>
                <a:cubicBezTo>
                  <a:pt x="941" y="1177"/>
                  <a:pt x="1092" y="1196"/>
                  <a:pt x="1244" y="1215"/>
                </a:cubicBezTo>
              </a:path>
            </a:pathLst>
          </a:custGeom>
          <a:noFill/>
          <a:ln w="7632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5149800" y="3500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4141800" y="2492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48360" y="907920"/>
            <a:ext cx="1800360" cy="13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"/>
          <p:cNvSpPr/>
          <p:nvPr/>
        </p:nvSpPr>
        <p:spPr>
          <a:xfrm>
            <a:off x="97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241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313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385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529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745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2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8606160" y="5664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4068720" y="15228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4213080" y="5589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1"/>
          <p:cNvSpPr/>
          <p:nvPr/>
        </p:nvSpPr>
        <p:spPr>
          <a:xfrm>
            <a:off x="5149800" y="5589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2"/>
          <p:cNvSpPr/>
          <p:nvPr/>
        </p:nvSpPr>
        <p:spPr>
          <a:xfrm>
            <a:off x="4644720" y="465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3"/>
          <p:cNvSpPr/>
          <p:nvPr/>
        </p:nvSpPr>
        <p:spPr>
          <a:xfrm>
            <a:off x="4572000" y="4005360"/>
            <a:ext cx="4176720" cy="158436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631" h="998">
                <a:moveTo>
                  <a:pt x="0" y="998"/>
                </a:moveTo>
                <a:cubicBezTo>
                  <a:pt x="76" y="846"/>
                  <a:pt x="152" y="695"/>
                  <a:pt x="454" y="544"/>
                </a:cubicBezTo>
                <a:cubicBezTo>
                  <a:pt x="756" y="393"/>
                  <a:pt x="1451" y="182"/>
                  <a:pt x="1814" y="91"/>
                </a:cubicBezTo>
                <a:cubicBezTo>
                  <a:pt x="2177" y="0"/>
                  <a:pt x="2404" y="0"/>
                  <a:pt x="2631" y="0"/>
                </a:cubicBezTo>
              </a:path>
            </a:pathLst>
          </a:custGeom>
          <a:noFill/>
          <a:ln w="7632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4"/>
          <p:cNvSpPr/>
          <p:nvPr/>
        </p:nvSpPr>
        <p:spPr>
          <a:xfrm>
            <a:off x="4500720" y="5516640"/>
            <a:ext cx="142560" cy="144360"/>
          </a:xfrm>
          <a:prstGeom prst="ellipse">
            <a:avLst/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588000" y="2924280"/>
            <a:ext cx="1729080" cy="84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c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710240" y="909720"/>
            <a:ext cx="2955960" cy="4595760"/>
          </a:xfrm>
          <a:custGeom>
            <a:avLst/>
            <a:gdLst/>
            <a:ahLst/>
            <a:rect l="l" t="t" r="r" b="b"/>
            <a:pathLst>
              <a:path w="1862" h="2895">
                <a:moveTo>
                  <a:pt x="1850" y="79"/>
                </a:moveTo>
                <a:cubicBezTo>
                  <a:pt x="1856" y="43"/>
                  <a:pt x="1862" y="8"/>
                  <a:pt x="1807" y="285"/>
                </a:cubicBezTo>
                <a:cubicBezTo>
                  <a:pt x="1752" y="562"/>
                  <a:pt x="1616" y="1350"/>
                  <a:pt x="1519" y="1740"/>
                </a:cubicBezTo>
                <a:cubicBezTo>
                  <a:pt x="1422" y="2130"/>
                  <a:pt x="1297" y="2440"/>
                  <a:pt x="1226" y="2623"/>
                </a:cubicBezTo>
                <a:cubicBezTo>
                  <a:pt x="1155" y="2806"/>
                  <a:pt x="1141" y="2794"/>
                  <a:pt x="1092" y="2839"/>
                </a:cubicBezTo>
                <a:cubicBezTo>
                  <a:pt x="1043" y="2884"/>
                  <a:pt x="978" y="2890"/>
                  <a:pt x="929" y="2892"/>
                </a:cubicBezTo>
                <a:cubicBezTo>
                  <a:pt x="880" y="2894"/>
                  <a:pt x="846" y="2895"/>
                  <a:pt x="799" y="2849"/>
                </a:cubicBezTo>
                <a:cubicBezTo>
                  <a:pt x="752" y="2803"/>
                  <a:pt x="720" y="2799"/>
                  <a:pt x="645" y="2613"/>
                </a:cubicBezTo>
                <a:cubicBezTo>
                  <a:pt x="570" y="2427"/>
                  <a:pt x="446" y="2124"/>
                  <a:pt x="348" y="1735"/>
                </a:cubicBezTo>
                <a:cubicBezTo>
                  <a:pt x="250" y="1346"/>
                  <a:pt x="110" y="562"/>
                  <a:pt x="55" y="281"/>
                </a:cubicBezTo>
                <a:cubicBezTo>
                  <a:pt x="0" y="0"/>
                  <a:pt x="8" y="25"/>
                  <a:pt x="17" y="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789360" y="692280"/>
            <a:ext cx="4906800" cy="5379840"/>
            <a:chOff x="3789360" y="692280"/>
            <a:chExt cx="4906800" cy="5379840"/>
          </a:xfrm>
        </p:grpSpPr>
        <p:sp>
          <p:nvSpPr>
            <p:cNvPr id="219" name=""/>
            <p:cNvSpPr/>
            <p:nvPr/>
          </p:nvSpPr>
          <p:spPr>
            <a:xfrm>
              <a:off x="3789360" y="2741760"/>
              <a:ext cx="4824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89360" y="2278080"/>
              <a:ext cx="48132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89360" y="1353960"/>
              <a:ext cx="481320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89360" y="1814400"/>
              <a:ext cx="4813200" cy="1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89360" y="890640"/>
              <a:ext cx="48132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9360" y="3203640"/>
              <a:ext cx="48132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89360" y="3665520"/>
              <a:ext cx="48132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89360" y="4129200"/>
              <a:ext cx="48132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89360" y="4592520"/>
              <a:ext cx="481320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89360" y="5052960"/>
              <a:ext cx="4813200" cy="1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789360" y="5516640"/>
              <a:ext cx="48132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89360" y="5979960"/>
              <a:ext cx="481320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81520" y="798480"/>
              <a:ext cx="1440" cy="52736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4840" y="798480"/>
              <a:ext cx="1800" cy="52736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8520" y="798480"/>
              <a:ext cx="0" cy="52736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68960" y="798480"/>
              <a:ext cx="1440" cy="52736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34080" y="798480"/>
              <a:ext cx="0" cy="52736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95960" y="798480"/>
              <a:ext cx="1800" cy="52736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59640" y="798480"/>
              <a:ext cx="0" cy="52736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1520" y="798480"/>
              <a:ext cx="1440" cy="52736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85200" y="798480"/>
              <a:ext cx="1440" cy="52736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47080" y="798480"/>
              <a:ext cx="1440" cy="52736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510760" y="798480"/>
              <a:ext cx="0" cy="52736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195960" y="890280"/>
              <a:ext cx="1800" cy="508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81520" y="5516640"/>
              <a:ext cx="4629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10080" y="5516640"/>
              <a:ext cx="549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62600" y="5508720"/>
              <a:ext cx="54756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43560" y="5516640"/>
              <a:ext cx="549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37400" y="5506920"/>
              <a:ext cx="549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18480" y="5516640"/>
              <a:ext cx="5508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56240" y="5526000"/>
              <a:ext cx="549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89720" y="5516640"/>
              <a:ext cx="5508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92760" y="3473280"/>
              <a:ext cx="3366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27680" y="1157400"/>
              <a:ext cx="308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26240" y="4376880"/>
              <a:ext cx="5522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37280" y="4591080"/>
              <a:ext cx="119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32600" y="1346040"/>
              <a:ext cx="1188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41960" y="3662280"/>
              <a:ext cx="1177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21520" y="5465880"/>
              <a:ext cx="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05280" y="5467320"/>
              <a:ext cx="180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67160" y="5467320"/>
              <a:ext cx="180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29400" y="5467320"/>
              <a:ext cx="14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54960" y="5478480"/>
              <a:ext cx="0" cy="9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88080" y="5467320"/>
              <a:ext cx="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18320" y="692280"/>
              <a:ext cx="439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56520" y="5418000"/>
              <a:ext cx="5396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713120" y="903240"/>
            <a:ext cx="2955960" cy="4595760"/>
          </a:xfrm>
          <a:custGeom>
            <a:avLst/>
            <a:gdLst/>
            <a:ahLst/>
            <a:rect l="l" t="t" r="r" b="b"/>
            <a:pathLst>
              <a:path w="1862" h="2895">
                <a:moveTo>
                  <a:pt x="1850" y="79"/>
                </a:moveTo>
                <a:cubicBezTo>
                  <a:pt x="1856" y="43"/>
                  <a:pt x="1862" y="8"/>
                  <a:pt x="1807" y="285"/>
                </a:cubicBezTo>
                <a:cubicBezTo>
                  <a:pt x="1752" y="562"/>
                  <a:pt x="1616" y="1350"/>
                  <a:pt x="1519" y="1740"/>
                </a:cubicBezTo>
                <a:cubicBezTo>
                  <a:pt x="1422" y="2130"/>
                  <a:pt x="1297" y="2440"/>
                  <a:pt x="1226" y="2623"/>
                </a:cubicBezTo>
                <a:cubicBezTo>
                  <a:pt x="1155" y="2806"/>
                  <a:pt x="1141" y="2794"/>
                  <a:pt x="1092" y="2839"/>
                </a:cubicBezTo>
                <a:cubicBezTo>
                  <a:pt x="1043" y="2884"/>
                  <a:pt x="978" y="2890"/>
                  <a:pt x="929" y="2892"/>
                </a:cubicBezTo>
                <a:cubicBezTo>
                  <a:pt x="880" y="2894"/>
                  <a:pt x="846" y="2895"/>
                  <a:pt x="799" y="2849"/>
                </a:cubicBezTo>
                <a:cubicBezTo>
                  <a:pt x="752" y="2803"/>
                  <a:pt x="720" y="2799"/>
                  <a:pt x="645" y="2613"/>
                </a:cubicBezTo>
                <a:cubicBezTo>
                  <a:pt x="570" y="2427"/>
                  <a:pt x="446" y="2124"/>
                  <a:pt x="348" y="1735"/>
                </a:cubicBezTo>
                <a:cubicBezTo>
                  <a:pt x="250" y="1346"/>
                  <a:pt x="110" y="562"/>
                  <a:pt x="55" y="281"/>
                </a:cubicBezTo>
                <a:cubicBezTo>
                  <a:pt x="0" y="0"/>
                  <a:pt x="8" y="25"/>
                  <a:pt x="17" y="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38720" y="5457960"/>
            <a:ext cx="109800" cy="109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688000" y="5003640"/>
            <a:ext cx="109440" cy="109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54520" y="1290600"/>
            <a:ext cx="109440" cy="109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26160" y="1297080"/>
            <a:ext cx="109800" cy="109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68960" y="1297080"/>
            <a:ext cx="109800" cy="1094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16400" y="5006880"/>
            <a:ext cx="109800" cy="1098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14960" y="3618000"/>
            <a:ext cx="109440" cy="109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34040" y="5006880"/>
            <a:ext cx="109440" cy="1098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54520" y="3619440"/>
            <a:ext cx="109440" cy="1094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68960" y="3611520"/>
            <a:ext cx="109800" cy="109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917640" y="2031840"/>
          <a:ext cx="1584360" cy="3416400"/>
        </p:xfrm>
        <a:graphic>
          <a:graphicData uri="http://schemas.openxmlformats.org/drawingml/2006/table">
            <a:tbl>
              <a:tblPr/>
              <a:tblGrid>
                <a:gridCol w="792360"/>
                <a:gridCol w="792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600960" y="5005440"/>
            <a:ext cx="109440" cy="109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314360" y="577800"/>
                <a:ext cx="11797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192320" y="568440"/>
                <a:ext cx="18158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82" name=""/>
          <p:cNvGraphicFramePr/>
          <p:nvPr/>
        </p:nvGraphicFramePr>
        <p:xfrm>
          <a:off x="915840" y="2033640"/>
          <a:ext cx="1584360" cy="3416400"/>
        </p:xfrm>
        <a:graphic>
          <a:graphicData uri="http://schemas.openxmlformats.org/drawingml/2006/table">
            <a:tbl>
              <a:tblPr/>
              <a:tblGrid>
                <a:gridCol w="792360"/>
                <a:gridCol w="792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6597720" y="3610080"/>
            <a:ext cx="109440" cy="1094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76840" y="5457960"/>
            <a:ext cx="109440" cy="1094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41960" y="3618000"/>
            <a:ext cx="109440" cy="10944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90840" y="1290600"/>
            <a:ext cx="109800" cy="1094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989840" y="3606840"/>
            <a:ext cx="109440" cy="10944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27960" y="5005440"/>
            <a:ext cx="109440" cy="10944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10320" y="5003640"/>
            <a:ext cx="109440" cy="10980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456760" y="1295280"/>
            <a:ext cx="109440" cy="10980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64280" y="5464080"/>
            <a:ext cx="109800" cy="10980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76840" y="1297080"/>
            <a:ext cx="109440" cy="10944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336680" y="571680"/>
                <a:ext cx="1625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95" name=""/>
          <p:cNvGraphicFramePr/>
          <p:nvPr/>
        </p:nvGraphicFramePr>
        <p:xfrm>
          <a:off x="917640" y="1981080"/>
          <a:ext cx="1584360" cy="344160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</a:tblGrid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905040" y="1930320"/>
          <a:ext cx="1584000" cy="3540240"/>
        </p:xfrm>
        <a:graphic>
          <a:graphicData uri="http://schemas.openxmlformats.org/drawingml/2006/table">
            <a:tbl>
              <a:tblPr/>
              <a:tblGrid>
                <a:gridCol w="791640"/>
                <a:gridCol w="79236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4719600" y="919080"/>
            <a:ext cx="2955960" cy="4595760"/>
          </a:xfrm>
          <a:custGeom>
            <a:avLst/>
            <a:gdLst/>
            <a:ahLst/>
            <a:rect l="l" t="t" r="r" b="b"/>
            <a:pathLst>
              <a:path w="1862" h="2895">
                <a:moveTo>
                  <a:pt x="1850" y="79"/>
                </a:moveTo>
                <a:cubicBezTo>
                  <a:pt x="1856" y="43"/>
                  <a:pt x="1862" y="8"/>
                  <a:pt x="1807" y="285"/>
                </a:cubicBezTo>
                <a:cubicBezTo>
                  <a:pt x="1752" y="562"/>
                  <a:pt x="1616" y="1350"/>
                  <a:pt x="1519" y="1740"/>
                </a:cubicBezTo>
                <a:cubicBezTo>
                  <a:pt x="1422" y="2130"/>
                  <a:pt x="1297" y="2440"/>
                  <a:pt x="1226" y="2623"/>
                </a:cubicBezTo>
                <a:cubicBezTo>
                  <a:pt x="1155" y="2806"/>
                  <a:pt x="1141" y="2794"/>
                  <a:pt x="1092" y="2839"/>
                </a:cubicBezTo>
                <a:cubicBezTo>
                  <a:pt x="1043" y="2884"/>
                  <a:pt x="978" y="2890"/>
                  <a:pt x="929" y="2892"/>
                </a:cubicBezTo>
                <a:cubicBezTo>
                  <a:pt x="880" y="2894"/>
                  <a:pt x="846" y="2895"/>
                  <a:pt x="799" y="2849"/>
                </a:cubicBezTo>
                <a:cubicBezTo>
                  <a:pt x="752" y="2803"/>
                  <a:pt x="720" y="2799"/>
                  <a:pt x="645" y="2613"/>
                </a:cubicBezTo>
                <a:cubicBezTo>
                  <a:pt x="570" y="2427"/>
                  <a:pt x="446" y="2124"/>
                  <a:pt x="348" y="1735"/>
                </a:cubicBezTo>
                <a:cubicBezTo>
                  <a:pt x="250" y="1346"/>
                  <a:pt x="110" y="562"/>
                  <a:pt x="55" y="281"/>
                </a:cubicBezTo>
                <a:cubicBezTo>
                  <a:pt x="0" y="0"/>
                  <a:pt x="8" y="25"/>
                  <a:pt x="17" y="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27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0.63437 -0.0206 E">
                                      <p:cBhvr>
                                        <p:cTn id="84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59259E-006 L -0.05 -2.59259E-006 E">
                                      <p:cBhvr>
                                        <p:cTn id="146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22673 -0.01922 E">
                                      <p:cBhvr>
                                        <p:cTn id="150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1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00139 L 0.10104 -0.00139 E">
                                      <p:cBhvr>
                                        <p:cTn id="218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2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38778E-017 L 0.69184 -0.01227 E">
                                      <p:cBhvr>
                                        <p:cTn id="22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7:05:15Z</dcterms:created>
  <dc:creator>Gigabyte</dc:creator>
  <dc:description/>
  <dc:language>en-US</dc:language>
  <cp:lastModifiedBy>8П</cp:lastModifiedBy>
  <dcterms:modified xsi:type="dcterms:W3CDTF">2012-01-29T17:35:24Z</dcterms:modified>
  <cp:revision>32</cp:revision>
  <dc:subject/>
  <dc:title>Слайд 1</dc:title>
</cp:coreProperties>
</file>