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A91-BC78-4648-954A-A291AF3C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AB5-F9C8-46D3-B405-2079224E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0A4-8916-48F9-991C-998D04D4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52E-8E4D-4051-B411-0AB9E9A6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E17C-A48B-498E-8171-14B382D7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E091-A36F-47A4-8124-0FB19783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F514-EA3D-4477-A2E1-0CD3608D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28E4-667C-4DB3-91F4-EDC29839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9454-A4DC-4A8F-BB40-36F66FEE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7B65-BEE5-42B1-A4C2-6ECEE12E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7D10-1384-4CDB-B2F9-4C6BCFDC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53C-C764-4543-B388-5D5C5949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50A1-B796-4600-ADBD-A6E20FDA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B26C-A73E-419B-B453-05ED7457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BF16-0468-4E29-9F80-8484E3FC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FF38-0C1B-4589-97A3-BA7CAD08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37AC-3915-4AD2-9E47-A4F8A242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260-675E-4332-847E-B44275AE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8F5-7812-45E4-880D-37E60ACA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27E-C655-4FB6-91F9-64560143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8DA-52E2-4837-9617-42734F4E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FA6-14D7-48E7-B1C2-EE4876FD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A33-F40A-4723-A594-5B151592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DF1-9404-43E9-803E-4536A1BD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3C1C-D351-4696-AA18-C1942A36FAF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F788-99B4-4304-A63C-061CB3EA903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96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7d47d"/>
                </a:solidFill>
                <a:latin typeface="Arial"/>
              </a:rPr>
              <a:t>Подскажи словечко 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Выполнила: учитель начальных классов Мурзинской СОШ Апастовского муниципального  района РТ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2880000" cy="2684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427640" y="1700280"/>
            <a:ext cx="316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Автомоби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960720" cy="3092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356000" y="4005360"/>
            <a:ext cx="3456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560" y="-4544640"/>
            <a:ext cx="36036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мело в небе проплывет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бгоняя птиц пол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еловек им управля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то такое ?.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Самоле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608360" cy="2941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716360" y="4483080"/>
            <a:ext cx="30956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-4580280"/>
            <a:ext cx="36036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Ясным утром вдоль дорог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 траве блестит ро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 дороге едут ног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 бегут два коле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 загадки есть отв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Это мой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Велосипе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176720" cy="2718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003640" y="4724280"/>
            <a:ext cx="2737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-3721680"/>
            <a:ext cx="433440" cy="83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чусь , как пуля , я вперед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Лишь поскрипывает ле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а мелькают огонь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то несет меня?.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Конь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1338120"/>
            <a:ext cx="3997440" cy="3043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25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ог от радости не чуя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 горки снежной вниз  лечу 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тал мне спорт родней и ближ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то помог мне в этом?.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Лыж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600360" cy="3456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148360" y="3402000"/>
            <a:ext cx="2535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-3137040"/>
            <a:ext cx="504720" cy="72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зял дубовых два бруска 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ва железных полоз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бруски набил я план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йте снег!Готовы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т конца у строчк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де стоят три точки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то придумает конец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от и будет молодец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4211640" y="4005360"/>
            <a:ext cx="34560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Сан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644640" cy="3024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427640" y="3500280"/>
            <a:ext cx="331308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9240" y="-4561200"/>
            <a:ext cx="24912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Молодцы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Хором  отвечае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То я в клетку , то в линейк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Написать по ним сумей-ка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Можешь и нарисова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Называюсь я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250812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  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Тетрад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352764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-4543200"/>
            <a:ext cx="36036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Я люблю прямоту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Я сама прям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делать ровную черт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сем я помога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то-нибудь  без мен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чертить  сумей-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гадайте-ка, друзья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то же я 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Линей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95280" y="1628640"/>
            <a:ext cx="3745080" cy="2887920"/>
            <a:chOff x="395280" y="1628640"/>
            <a:chExt cx="3745080" cy="288792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395280" y="1628640"/>
              <a:ext cx="3745080" cy="288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 txBox="1"/>
            <p:nvPr/>
          </p:nvSpPr>
          <p:spPr>
            <a:xfrm>
              <a:off x="395280" y="1628640"/>
              <a:ext cx="3745080" cy="288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932360" y="4078440"/>
            <a:ext cx="28083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-3793680"/>
            <a:ext cx="433440" cy="83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Я с собой её ношу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 макаю, не пиш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мечательная  штуч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амопишущая 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Руч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39640" y="1557360"/>
            <a:ext cx="2952720" cy="2249640"/>
            <a:chOff x="539640" y="1557360"/>
            <a:chExt cx="2952720" cy="224964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539640" y="1557360"/>
              <a:ext cx="295272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 txBox="1"/>
            <p:nvPr/>
          </p:nvSpPr>
          <p:spPr>
            <a:xfrm>
              <a:off x="539640" y="1557360"/>
              <a:ext cx="2952720" cy="224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284720" y="4005360"/>
            <a:ext cx="3527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-4616280"/>
            <a:ext cx="14436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тоб тебя я повез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не не нужен ове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корми меня бензином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 копытца дай резину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 тогда , поднявши пыль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бежит 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06:23:19Z</dcterms:created>
  <dc:creator>школа</dc:creator>
  <dc:description/>
  <dc:language>en-US</dc:language>
  <cp:lastModifiedBy>home</cp:lastModifiedBy>
  <dcterms:modified xsi:type="dcterms:W3CDTF">2012-01-29T16:07:14Z</dcterms:modified>
  <cp:revision>4</cp:revision>
  <dc:subject/>
  <dc:title>Подскажи словечк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