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500-5669-48A0-A3EF-1B123D1D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DD0-4569-4D3C-998A-CDAA04C8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C19-40E6-4982-9389-F95637F1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442-FE5C-4B2E-9E45-0F4921A5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ABA0-3B3E-4401-BE14-B9C9D00C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D638-4247-4BEE-8438-1861AEE4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0D05-98F4-4D02-8C10-70CFD6F4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88E4-68F6-4005-97AC-9B45262E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A596-2FDE-4CC4-9825-B9CDA610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918A-FBFC-4BB5-918C-CB7425B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455C-C4E2-413F-9352-7D0D2B5A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4AE-9AAA-4815-9174-3074F1B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EA1F-51A0-4DCC-AE90-A314E14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F578-AD82-4E1D-BFE4-A62E150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3ED5-21F3-4B0C-AABA-96D160E6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CF6B-575C-48E0-9D15-12E689CF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E5D2-C92E-40A2-8A36-9DC91ACE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954-4449-4D23-BB7A-F4501AB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5FC-BA72-47E3-B5D8-23E62DF1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16C-69FC-4544-99B6-622CB4FB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462-BEF5-474E-9FA9-A444F1E5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0D6-7E84-4F67-AC8A-D1B515A8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91A-4EDC-41C1-BA7B-863DCA59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4DF-A118-4ED8-8C4E-08C083DF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48E1-20ED-40A0-9B02-7C840517128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0D93-7DA7-425E-AF64-A0DFBEC67AA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96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7d47d"/>
                </a:solidFill>
                <a:latin typeface="Arial"/>
              </a:rPr>
              <a:t>Подскажи словечко 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Выполнила: учитель начальных классов Мурзинской СОШ Апастовского муниципального  района РТ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880000" cy="2684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316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Автомоби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960720" cy="3092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356000" y="4005360"/>
            <a:ext cx="3456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-4544640"/>
            <a:ext cx="3603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мело в небе проплывет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бгоняя птиц пол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ловек им управля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 такое ?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Самоле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608360" cy="2941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16360" y="4483080"/>
            <a:ext cx="30956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-4580280"/>
            <a:ext cx="3603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сным утром вдоль дорог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 траве блестит ро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 дороге едут ног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бегут два коле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 загадки есть отв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Это мой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Велосипе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176720" cy="271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03640" y="4724280"/>
            <a:ext cx="2737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-3721680"/>
            <a:ext cx="433440" cy="83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чусь , как пуля , я вперед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ишь поскрипывает ле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а мелькают огонь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несет меня?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Конь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1338120"/>
            <a:ext cx="3997440" cy="3043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25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ог от радости не чу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 горки снежной вниз  лечу 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тал мне спорт родней и ближ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помог мне в этом?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Лыж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600360" cy="3456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148360" y="3402000"/>
            <a:ext cx="2535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-3137040"/>
            <a:ext cx="504720" cy="72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зял дубовых два бруска 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ва железных полоз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бруски набил я план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йте снег!Готовы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т конца у строчк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де стоят три точки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придумает конец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от и будет молодец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4211640" y="4005360"/>
            <a:ext cx="34560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Сан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644640" cy="3024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1308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9240" y="-4561200"/>
            <a:ext cx="2491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Молодцы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Хором  отвечае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То я в клетку , то в линей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Написать по ним сумей-к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Можешь и нарисова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Называюсь я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25081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Тетрад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352764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-4543200"/>
            <a:ext cx="3603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 люблю прямоту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 сама прям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делать ровную черт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сем я помога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-нибудь  без мен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чертить  сумей-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гадайте-ка, друзь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же я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Линей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95280" y="1628640"/>
            <a:ext cx="3745080" cy="2887920"/>
            <a:chOff x="395280" y="1628640"/>
            <a:chExt cx="3745080" cy="28879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395280" y="1628640"/>
              <a:ext cx="3745080" cy="28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 txBox="1"/>
            <p:nvPr/>
          </p:nvSpPr>
          <p:spPr>
            <a:xfrm>
              <a:off x="395280" y="1628640"/>
              <a:ext cx="3745080" cy="288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932360" y="4078440"/>
            <a:ext cx="2808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-3793680"/>
            <a:ext cx="433440" cy="83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 с собой её ношу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макаю, не пиш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мечательная  штуч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амопишущая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Руч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39640" y="1557360"/>
            <a:ext cx="2952720" cy="2249640"/>
            <a:chOff x="539640" y="1557360"/>
            <a:chExt cx="2952720" cy="224964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539640" y="1557360"/>
              <a:ext cx="295272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 txBox="1"/>
            <p:nvPr/>
          </p:nvSpPr>
          <p:spPr>
            <a:xfrm>
              <a:off x="539640" y="1557360"/>
              <a:ext cx="2952720" cy="224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3527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-4616280"/>
            <a:ext cx="1443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б тебя я повез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не не нужен ове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корми меня бензином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 копытца дай резину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тогда , поднявши пыль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бежит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6:23:19Z</dcterms:created>
  <dc:creator>школа</dc:creator>
  <dc:description/>
  <dc:language>en-US</dc:language>
  <cp:lastModifiedBy>home</cp:lastModifiedBy>
  <dcterms:modified xsi:type="dcterms:W3CDTF">2012-01-29T16:07:14Z</dcterms:modified>
  <cp:revision>4</cp:revision>
  <dc:subject/>
  <dc:title>Подскажи словеч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