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04C-5E07-49AC-88B3-6427C885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7FA-23F5-490A-80D8-EE5C8FB5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458-286E-4E3A-90DF-BB6C3807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5CD-2880-44E4-8E7E-C9CBB341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BE3-FBD2-4533-AB47-BEAEACD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661-A562-44FF-8424-849F6A5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01B-C1FC-4B67-BB40-4F2AF32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0F3-412C-464E-8F7D-EA99FBFA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B22-4D10-4C4B-90B0-5D02111D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F5B-04BC-418D-92CD-85DA1F2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91C-7A97-4C22-A28B-C2907DE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958-9FD4-47CA-BBBD-82CDDB6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F0A-7005-438A-9A27-07FA38BED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Урок изобразительного искусств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1"/>
          <a:stretch/>
        </p:blipFill>
        <p:spPr>
          <a:xfrm>
            <a:off x="685800" y="8380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2"/>
          <a:stretch/>
        </p:blipFill>
        <p:spPr>
          <a:xfrm>
            <a:off x="457200" y="205740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3"/>
          <a:stretch/>
        </p:blipFill>
        <p:spPr>
          <a:xfrm>
            <a:off x="6781680" y="3733920"/>
            <a:ext cx="1247760" cy="12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user\Рабочий стол\Вход  воспрещён!\Мои рисунки\Картинки\Оформительские  картинки\Рисунок15.wmf"/>
          <p:cNvPicPr/>
          <p:nvPr/>
        </p:nvPicPr>
        <p:blipFill>
          <a:blip r:embed="rId4"/>
          <a:stretch/>
        </p:blipFill>
        <p:spPr>
          <a:xfrm>
            <a:off x="1828800" y="495288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5"/>
          <a:stretch/>
        </p:blipFill>
        <p:spPr>
          <a:xfrm>
            <a:off x="6477120" y="4876920"/>
            <a:ext cx="636480" cy="64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user\Рабочий стол\Вход  воспрещён!\Мои рисунки\Картинки\Оформительские  картинки\Рисунок14.wmf"/>
          <p:cNvPicPr/>
          <p:nvPr/>
        </p:nvPicPr>
        <p:blipFill>
          <a:blip r:embed="rId6"/>
          <a:stretch/>
        </p:blipFill>
        <p:spPr>
          <a:xfrm>
            <a:off x="1295280" y="5715000"/>
            <a:ext cx="636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2"/>
          <a:stretch/>
        </p:blipFill>
        <p:spPr>
          <a:xfrm>
            <a:off x="743040" y="1212840"/>
            <a:ext cx="7705800" cy="15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809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Calibri"/>
              </a:rPr>
              <a:t>Отгадайте загадк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 я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лнышко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исты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 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лачком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уш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Документы\Презентации  и  материалы  к  урокам\ИЗО\РАСТЕНИЯ\ЦВЕТЫ\Одуванчик\2.jpeg"/>
          <p:cNvPicPr/>
          <p:nvPr/>
        </p:nvPicPr>
        <p:blipFill>
          <a:blip r:embed="rId1"/>
          <a:stretch/>
        </p:blipFill>
        <p:spPr>
          <a:xfrm>
            <a:off x="4876920" y="30481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ла по городу Ве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шелёк несла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ки яркие и ки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было ей куп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ткрыла кошелё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онет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 ск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         скок!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атили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бежа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ами с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лена Приходько  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1170000" y="-85680"/>
            <a:ext cx="721188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Документы\Презентации  и  материалы  к  урокам\ИЗО\РАСТЕНИЯ\ЦВЕТЫ\Одуванчик\0_1e2_b4f6de40_XL.jpeg"/>
          <p:cNvPicPr/>
          <p:nvPr/>
        </p:nvPicPr>
        <p:blipFill>
          <a:blip r:embed="rId2"/>
          <a:stretch/>
        </p:blipFill>
        <p:spPr>
          <a:xfrm>
            <a:off x="609480" y="1981080"/>
            <a:ext cx="39117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Из энциклопед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6858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уванчик — растение с ветвист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жневым  корнем толщиной около 2 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 длиной около 60 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стья голые, перисто-надрезанные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ные, собранные в прикорнев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ет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асти растения содержа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устой белый млечный с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ёт одуванчик в ма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доносит семянками с б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холком —с ию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981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Документы\Презентации  и  материалы  к  урокам\ИЗО\РАСТЕНИЯ\ЦВЕТЫ\Одуванчик\453cec18762d.jpg"/>
          <p:cNvPicPr/>
          <p:nvPr/>
        </p:nvPicPr>
        <p:blipFill>
          <a:blip r:embed="rId1"/>
          <a:stretch/>
        </p:blipFill>
        <p:spPr>
          <a:xfrm>
            <a:off x="1716120" y="1600200"/>
            <a:ext cx="57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Документы\Презентации  и  материалы  к  урокам\ИЗО\РАСТЕНИЯ\ЦВЕТЫ\Одуванчик\img_51.jpg"/>
          <p:cNvPicPr/>
          <p:nvPr/>
        </p:nvPicPr>
        <p:blipFill>
          <a:blip r:embed="rId1"/>
          <a:stretch/>
        </p:blipFill>
        <p:spPr>
          <a:xfrm>
            <a:off x="2260440" y="1600200"/>
            <a:ext cx="462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Документы\Презентации  и  материалы  к  урокам\ИЗО\РАСТЕНИЯ\ЦВЕТЫ\Одуванчик\od.jpg"/>
          <p:cNvPicPr/>
          <p:nvPr/>
        </p:nvPicPr>
        <p:blipFill>
          <a:blip r:embed="rId1"/>
          <a:stretch/>
        </p:blipFill>
        <p:spPr>
          <a:xfrm>
            <a:off x="2895480" y="1447920"/>
            <a:ext cx="3471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Документы\Презентации  и  материалы  к  урокам\ИЗО\РАСТЕНИЯ\ЦВЕТЫ\Одуванчик\pn0008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622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Calibri"/>
              </a:rPr>
              <a:t>Одуванчик в рисун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3480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A</cp:lastModifiedBy>
  <dcterms:modified xsi:type="dcterms:W3CDTF">2012-01-29T07:28:05Z</dcterms:modified>
  <cp:revision>5</cp:revision>
  <dc:subject/>
  <dc:title>Урок изобразительного искусства </dc:title>
</cp:coreProperties>
</file>