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480-9A11-433D-BA2B-5ECE94F6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FAA-EE03-41AE-BC22-FEC9ACE1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9D7-3C63-4BD2-920C-139AFD57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244-F30F-421D-B669-F975136F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C0C-9E6D-4357-BD2D-2CE7F1E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C94-7EE2-4CC0-9798-F0A651A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1BC-BC31-432E-86FC-55C27437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E2F-455F-4875-B4B2-81B64FD0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6D8-9F65-473B-9C13-16AE7D91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A6A-71B0-49F8-B7C7-8299BB6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20E-E07B-4A0C-93F3-2B217FC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3C2-9993-42C3-84AD-F37708A3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E518-F386-42A6-BE9A-F05C02F52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Урок изобразительного искусств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1"/>
          <a:stretch/>
        </p:blipFill>
        <p:spPr>
          <a:xfrm>
            <a:off x="685800" y="8380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2"/>
          <a:stretch/>
        </p:blipFill>
        <p:spPr>
          <a:xfrm>
            <a:off x="457200" y="205740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3"/>
          <a:stretch/>
        </p:blipFill>
        <p:spPr>
          <a:xfrm>
            <a:off x="6781680" y="373392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4"/>
          <a:stretch/>
        </p:blipFill>
        <p:spPr>
          <a:xfrm>
            <a:off x="1828800" y="49528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5"/>
          <a:stretch/>
        </p:blipFill>
        <p:spPr>
          <a:xfrm>
            <a:off x="6477120" y="487692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6"/>
          <a:stretch/>
        </p:blipFill>
        <p:spPr>
          <a:xfrm>
            <a:off x="1295280" y="5715000"/>
            <a:ext cx="636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2"/>
          <a:stretch/>
        </p:blipFill>
        <p:spPr>
          <a:xfrm>
            <a:off x="743040" y="1212840"/>
            <a:ext cx="7705800" cy="15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809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Отгадайте загадк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 я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лнышко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исты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 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лачком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уш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Документы\Презентации  и  материалы  к  урокам\ИЗО\РАСТЕНИЯ\ЦВЕТЫ\Одуванчик\2.jpeg"/>
          <p:cNvPicPr/>
          <p:nvPr/>
        </p:nvPicPr>
        <p:blipFill>
          <a:blip r:embed="rId1"/>
          <a:stretch/>
        </p:blipFill>
        <p:spPr>
          <a:xfrm>
            <a:off x="4876920" y="30481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ла по городу Ве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шелёк несла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ки яркие и ки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было ей куп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ткрыла кошелё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онет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 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         скок!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атили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жа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ами с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лена Приходько 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-85680"/>
            <a:ext cx="721188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Документы\Презентации  и  материалы  к  урокам\ИЗО\РАСТЕНИЯ\ЦВЕТЫ\Одуванчик\0_1e2_b4f6de40_XL.jpeg"/>
          <p:cNvPicPr/>
          <p:nvPr/>
        </p:nvPicPr>
        <p:blipFill>
          <a:blip r:embed="rId2"/>
          <a:stretch/>
        </p:blipFill>
        <p:spPr>
          <a:xfrm>
            <a:off x="609480" y="1981080"/>
            <a:ext cx="39117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Из энциклопед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6858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уванчик — растение с ветвист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жневым  корнем толщиной около 2 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 длиной около 60 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стья голые, перисто-надрезанные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ные, собранные в прикорнев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ет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асти растения содерж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устой белый млечный 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ёт одуванчик в ма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доносит семянками с б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холком —с ию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98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Документы\Презентации  и  материалы  к  урокам\ИЗО\РАСТЕНИЯ\ЦВЕТЫ\Одуванчик\453cec18762d.jpg"/>
          <p:cNvPicPr/>
          <p:nvPr/>
        </p:nvPicPr>
        <p:blipFill>
          <a:blip r:embed="rId1"/>
          <a:stretch/>
        </p:blipFill>
        <p:spPr>
          <a:xfrm>
            <a:off x="1716120" y="1600200"/>
            <a:ext cx="57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Документы\Презентации  и  материалы  к  урокам\ИЗО\РАСТЕНИЯ\ЦВЕТЫ\Одуванчик\img_51.jpg"/>
          <p:cNvPicPr/>
          <p:nvPr/>
        </p:nvPicPr>
        <p:blipFill>
          <a:blip r:embed="rId1"/>
          <a:stretch/>
        </p:blipFill>
        <p:spPr>
          <a:xfrm>
            <a:off x="2260440" y="1600200"/>
            <a:ext cx="462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Документы\Презентации  и  материалы  к  урокам\ИЗО\РАСТЕНИЯ\ЦВЕТЫ\Одуванчик\od.jpg"/>
          <p:cNvPicPr/>
          <p:nvPr/>
        </p:nvPicPr>
        <p:blipFill>
          <a:blip r:embed="rId1"/>
          <a:stretch/>
        </p:blipFill>
        <p:spPr>
          <a:xfrm>
            <a:off x="2895480" y="1447920"/>
            <a:ext cx="3471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Документы\Презентации  и  материалы  к  урокам\ИЗО\РАСТЕНИЯ\ЦВЕТЫ\Одуванчик\pn0008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622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3480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A</cp:lastModifiedBy>
  <dcterms:modified xsi:type="dcterms:W3CDTF">2012-01-29T07:28:05Z</dcterms:modified>
  <cp:revision>5</cp:revision>
  <dc:subject/>
  <dc:title>Урок изобразительного искусства </dc:title>
</cp:coreProperties>
</file>