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29.jpeg" ContentType="image/jpeg"/>
  <Override PartName="/ppt/media/image5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9.jpeg" ContentType="image/jpeg"/>
  <Override PartName="/ppt/media/image11.png" ContentType="image/png"/>
  <Override PartName="/ppt/media/image1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C36-5EEF-4605-AE28-012BCE8D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9C1-88A4-4AB7-AEC2-B6B6148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D23-0023-4E7D-B84F-0F7C3E2D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744-DD93-4D91-833F-812D4090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0650-D5D7-48E9-8B8A-4D32B1DE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C64A-9962-49B7-8981-0A420684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E098-4D7C-451A-A58C-47D3DB51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C31C-A999-427C-AEDD-8D412498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E215-3873-4D59-A583-CF0B93E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881A-442D-48E2-A510-C8948B3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BC2F-98B1-47B8-AB08-F2352BE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851-32B2-4598-9C78-2C73ABEB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2329-9358-4284-9A6A-AC8450E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0FBF-6B40-47D1-99F9-7FEF439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3A5-A316-42A6-B680-362989CD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D026-8B1C-472C-A6DF-F9AB2E1C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7F8-68F0-405D-9B13-353A29EA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067-4E6A-43A4-BDCB-E6E46C88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0E6-EF6D-4244-A19F-BED0FB4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F98-8A8E-49F9-8D90-9655899F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887-C119-4558-9A75-0E995F7E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6DA-8E7A-495B-9E3B-460FA20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561-F578-4438-8183-F2AC5CBD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91E-28FC-4207-B116-73EC01D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FF9-4D68-40A9-AA71-FE55A43463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B96A-A185-4901-97E2-7926898FAE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8560" y="188640"/>
            <a:ext cx="72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Franklin Gothic Heavy"/>
              </a:rPr>
              <a:t>Размножение – это воспроизведение себе подобны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26920" y="1268280"/>
            <a:ext cx="75614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4c002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сполое размножение</a:t>
            </a:r>
            <a:endParaRPr b="1" lang="en-US" sz="1800" spc="1" strike="noStrike">
              <a:ln w="57240">
                <a:solidFill>
                  <a:srgbClr val="4c002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3860640"/>
            <a:ext cx="489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ab475"/>
                </a:solidFill>
                <a:latin typeface="Arial"/>
              </a:rPr>
              <a:t>выполни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ab475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ab47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ab475"/>
                </a:solidFill>
                <a:latin typeface="Arial"/>
              </a:rPr>
              <a:t>Радько О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68360" y="3141720"/>
            <a:ext cx="1517760" cy="1941480"/>
          </a:xfrm>
          <a:prstGeom prst="rect">
            <a:avLst/>
          </a:prstGeom>
          <a:ln w="19080">
            <a:solidFill>
              <a:srgbClr val="6ab475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2023920" cy="237492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466560" cy="358920"/>
          </a:xfrm>
          <a:custGeom>
            <a:avLst/>
            <a:gdLst>
              <a:gd name="textAreaLeft" fmla="*/ 23040 w 466560"/>
              <a:gd name="textAreaRight" fmla="*/ 443520 w 466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71" h="21600">
                <a:moveTo>
                  <a:pt x="0" y="0"/>
                </a:moveTo>
                <a:lnTo>
                  <a:pt x="28071" y="0"/>
                </a:lnTo>
                <a:lnTo>
                  <a:pt x="28071" y="21600"/>
                </a:lnTo>
                <a:lnTo>
                  <a:pt x="0" y="21600"/>
                </a:lnTo>
                <a:close/>
              </a:path>
              <a:path fill="lightenLess" w="28071" h="21600">
                <a:moveTo>
                  <a:pt x="0" y="0"/>
                </a:moveTo>
                <a:lnTo>
                  <a:pt x="28071" y="0"/>
                </a:lnTo>
                <a:lnTo>
                  <a:pt x="26671" y="1400"/>
                </a:lnTo>
                <a:lnTo>
                  <a:pt x="1400" y="1400"/>
                </a:lnTo>
                <a:close/>
              </a:path>
              <a:path fill="darken" w="28071" h="21600">
                <a:moveTo>
                  <a:pt x="28071" y="0"/>
                </a:moveTo>
                <a:lnTo>
                  <a:pt x="28071" y="21600"/>
                </a:lnTo>
                <a:lnTo>
                  <a:pt x="26671" y="20200"/>
                </a:lnTo>
                <a:lnTo>
                  <a:pt x="26671" y="1400"/>
                </a:lnTo>
                <a:close/>
              </a:path>
              <a:path fill="darkenLess" w="28071" h="21600">
                <a:moveTo>
                  <a:pt x="2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1" y="20200"/>
                </a:lnTo>
                <a:close/>
              </a:path>
              <a:path fill="lighten" w="2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1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95280" y="274680"/>
            <a:ext cx="842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93ff"/>
                </a:solidFill>
                <a:latin typeface="ITC Bookman Demi"/>
              </a:rPr>
              <a:t>Фрагментация –</a:t>
            </a:r>
            <a:br>
              <a:rPr sz="32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разделение особей на две или несколько частей, каждая из которых растет и образует новую особ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959280" cy="266544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2016360" cy="151308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572000" y="1844640"/>
            <a:ext cx="259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множение фрагментами характерно для губок, кишечнополостных (гидра), плоских червей (планария), иглокожих (морские звезды) и некоторых других ви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 "/>
          <p:cNvPicPr/>
          <p:nvPr/>
        </p:nvPicPr>
        <p:blipFill>
          <a:blip r:embed="rId4"/>
          <a:stretch/>
        </p:blipFill>
        <p:spPr>
          <a:xfrm>
            <a:off x="7308720" y="1628640"/>
            <a:ext cx="1524240" cy="218124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692360" y="4508640"/>
            <a:ext cx="5184720" cy="200808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1979640" y="4724280"/>
            <a:ext cx="11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морск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звез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54520" y="40053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9efee"/>
                </a:solidFill>
                <a:latin typeface="Arial"/>
              </a:rPr>
              <a:t>плана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0436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86480" y="1382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93ff"/>
                </a:solidFill>
                <a:latin typeface="Arial"/>
              </a:rPr>
              <a:t>Размножение надземными част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5040" y="3357720"/>
            <a:ext cx="25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стовыми черенк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бегония, сенпол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нсевье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635280" y="765000"/>
            <a:ext cx="2146320" cy="251964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6227640" y="3357720"/>
            <a:ext cx="26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еблевыми черенкам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смородина, тополь, ива)             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227640" y="836640"/>
            <a:ext cx="2448000" cy="228456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256680" y="328464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лзучими побегам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луговой чай, клюк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живуч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520" y="6093000"/>
            <a:ext cx="408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тводкам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смородина, крыжовник, малина, яблон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3816360" cy="194004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7168320" y="5300640"/>
            <a:ext cx="1660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ививко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яблоня, груш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лива, вишня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651640" y="4365720"/>
            <a:ext cx="1224000" cy="216036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466920" cy="358920"/>
          </a:xfrm>
          <a:custGeom>
            <a:avLst/>
            <a:gdLst>
              <a:gd name="textAreaLeft" fmla="*/ 23040 w 466920"/>
              <a:gd name="textAreaRight" fmla="*/ 443880 w 466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93" h="21600">
                <a:moveTo>
                  <a:pt x="0" y="0"/>
                </a:moveTo>
                <a:lnTo>
                  <a:pt x="28093" y="0"/>
                </a:lnTo>
                <a:lnTo>
                  <a:pt x="28093" y="21600"/>
                </a:lnTo>
                <a:lnTo>
                  <a:pt x="0" y="21600"/>
                </a:lnTo>
                <a:close/>
              </a:path>
              <a:path fill="lightenLess" w="28093" h="21600">
                <a:moveTo>
                  <a:pt x="0" y="0"/>
                </a:moveTo>
                <a:lnTo>
                  <a:pt x="28093" y="0"/>
                </a:lnTo>
                <a:lnTo>
                  <a:pt x="26693" y="1400"/>
                </a:lnTo>
                <a:lnTo>
                  <a:pt x="1400" y="1400"/>
                </a:lnTo>
                <a:close/>
              </a:path>
              <a:path fill="darken" w="28093" h="21600">
                <a:moveTo>
                  <a:pt x="28093" y="0"/>
                </a:moveTo>
                <a:lnTo>
                  <a:pt x="28093" y="21600"/>
                </a:lnTo>
                <a:lnTo>
                  <a:pt x="26693" y="20200"/>
                </a:lnTo>
                <a:lnTo>
                  <a:pt x="26693" y="1400"/>
                </a:lnTo>
                <a:close/>
              </a:path>
              <a:path fill="darkenLess" w="28093" h="21600">
                <a:moveTo>
                  <a:pt x="28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3" y="20200"/>
                </a:lnTo>
                <a:close/>
              </a:path>
              <a:path fill="lighten" w="28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3" h="21600">
                <a:moveTo>
                  <a:pt x="7040" y="3794"/>
                </a:moveTo>
                <a:lnTo>
                  <a:pt x="21053" y="10800"/>
                </a:lnTo>
                <a:lnTo>
                  <a:pt x="70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179280" y="1020600"/>
            <a:ext cx="2737080" cy="198288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64360" y="1890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93ff"/>
                </a:solidFill>
                <a:latin typeface="Arial"/>
              </a:rPr>
              <a:t>Размножение подземными част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2268360" cy="280836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255240" y="3500280"/>
            <a:ext cx="249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рневыми черенкам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шиповник, мали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дуванчик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00720" y="836640"/>
            <a:ext cx="2592360" cy="257004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6232680" y="3429000"/>
            <a:ext cx="265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рневыми отпрыскам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осина, рябина, топол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со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92720" y="4272120"/>
            <a:ext cx="2735280" cy="177624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5083920" y="6093000"/>
            <a:ext cx="23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рневищам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ирис, ландыш, пырей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419640" y="981000"/>
            <a:ext cx="2219040" cy="237672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3250440" y="3573360"/>
            <a:ext cx="25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лубням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картофель, топинамбур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340000" y="4292640"/>
            <a:ext cx="2041560" cy="225900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257040" y="5229360"/>
            <a:ext cx="187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уковицам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нарцисс, чеснок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юльпан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0436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7236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V="1" rot="10800000">
            <a:off x="177480" y="189000"/>
            <a:ext cx="8497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393ff"/>
                </a:solidFill>
                <a:latin typeface="Arial"/>
              </a:rPr>
              <a:t>У большинства одноклеточных и многоклеточных организмов бесполое размножение может чередоваться с половым, что позволяет им оптимально решать задачу воспроизведения себе подобных в различных условиях обитания</a:t>
            </a: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62864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пример, у некоторых морских кишечнополостных половое поколение представлено одиночными свободноплавающими медузами, а бесполое – сидячими полипами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5184720" cy="4079880"/>
          </a:xfrm>
          <a:prstGeom prst="rect">
            <a:avLst/>
          </a:prstGeom>
          <a:ln w="28440">
            <a:solidFill>
              <a:srgbClr val="6ab475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5724360" y="3284640"/>
            <a:ext cx="3151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 растений, например у мхов, половое поколение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гаметофит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представлен листостебельным растением  , а бесполое поколение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спорофит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– коробочкой, в которой развиваются спор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466560" cy="358920"/>
          </a:xfrm>
          <a:custGeom>
            <a:avLst/>
            <a:gdLst>
              <a:gd name="textAreaLeft" fmla="*/ 23040 w 466560"/>
              <a:gd name="textAreaRight" fmla="*/ 443520 w 466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71" h="21600">
                <a:moveTo>
                  <a:pt x="0" y="0"/>
                </a:moveTo>
                <a:lnTo>
                  <a:pt x="28071" y="0"/>
                </a:lnTo>
                <a:lnTo>
                  <a:pt x="28071" y="21600"/>
                </a:lnTo>
                <a:lnTo>
                  <a:pt x="0" y="21600"/>
                </a:lnTo>
                <a:close/>
              </a:path>
              <a:path fill="lightenLess" w="28071" h="21600">
                <a:moveTo>
                  <a:pt x="0" y="0"/>
                </a:moveTo>
                <a:lnTo>
                  <a:pt x="28071" y="0"/>
                </a:lnTo>
                <a:lnTo>
                  <a:pt x="26671" y="1400"/>
                </a:lnTo>
                <a:lnTo>
                  <a:pt x="1400" y="1400"/>
                </a:lnTo>
                <a:close/>
              </a:path>
              <a:path fill="darken" w="28071" h="21600">
                <a:moveTo>
                  <a:pt x="28071" y="0"/>
                </a:moveTo>
                <a:lnTo>
                  <a:pt x="28071" y="21600"/>
                </a:lnTo>
                <a:lnTo>
                  <a:pt x="26671" y="20200"/>
                </a:lnTo>
                <a:lnTo>
                  <a:pt x="26671" y="1400"/>
                </a:lnTo>
                <a:close/>
              </a:path>
              <a:path fill="darkenLess" w="28071" h="21600">
                <a:moveTo>
                  <a:pt x="2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1" y="20200"/>
                </a:lnTo>
                <a:close/>
              </a:path>
              <a:path fill="lighten" w="2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1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393ff"/>
                </a:solidFill>
                <a:latin typeface="Garamond"/>
              </a:rPr>
              <a:t>Биологическая роль бесполого размноже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9414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сполое размножение - позволяет сохранить неизменными свойства вида. В этом заключается важное биологическое значение этого типа размно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рганизмы, появившиеся бесполым путем, обычно развиваются значительно быстрее, чем появившиеся путем полового размно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и быстрее увеличивают свою численность и значительно быстрее осуществляют расселение на большие терр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466560" cy="358920"/>
          </a:xfrm>
          <a:custGeom>
            <a:avLst/>
            <a:gdLst>
              <a:gd name="textAreaLeft" fmla="*/ 23040 w 466560"/>
              <a:gd name="textAreaRight" fmla="*/ 443520 w 466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71" h="21600">
                <a:moveTo>
                  <a:pt x="0" y="0"/>
                </a:moveTo>
                <a:lnTo>
                  <a:pt x="28071" y="0"/>
                </a:lnTo>
                <a:lnTo>
                  <a:pt x="28071" y="21600"/>
                </a:lnTo>
                <a:lnTo>
                  <a:pt x="0" y="21600"/>
                </a:lnTo>
                <a:close/>
              </a:path>
              <a:path fill="lightenLess" w="28071" h="21600">
                <a:moveTo>
                  <a:pt x="0" y="0"/>
                </a:moveTo>
                <a:lnTo>
                  <a:pt x="28071" y="0"/>
                </a:lnTo>
                <a:lnTo>
                  <a:pt x="26671" y="1400"/>
                </a:lnTo>
                <a:lnTo>
                  <a:pt x="1400" y="1400"/>
                </a:lnTo>
                <a:close/>
              </a:path>
              <a:path fill="darken" w="28071" h="21600">
                <a:moveTo>
                  <a:pt x="28071" y="0"/>
                </a:moveTo>
                <a:lnTo>
                  <a:pt x="28071" y="21600"/>
                </a:lnTo>
                <a:lnTo>
                  <a:pt x="26671" y="20200"/>
                </a:lnTo>
                <a:lnTo>
                  <a:pt x="26671" y="1400"/>
                </a:lnTo>
                <a:close/>
              </a:path>
              <a:path fill="darkenLess" w="28071" h="21600">
                <a:moveTo>
                  <a:pt x="2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1" y="20200"/>
                </a:lnTo>
                <a:close/>
              </a:path>
              <a:path fill="lighten" w="2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1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Garamond"/>
              </a:rPr>
              <a:t>Заполните таблицу: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Способы вегетативного размножения растений в природе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981000"/>
          <a:ext cx="8424720" cy="53038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пособы вегетативного размн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ы раст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Видоизмененными побега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Garamon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невищ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Garamon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уковиц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Garamon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лубнелуковиц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Garamon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лубня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еблевыми побе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невы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Видоизмененными надзем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бегами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ус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Черенками: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Garamon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еблевы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Garamon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невы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99"/>
                        </a:buClr>
                        <a:buFont typeface="Garamon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стовы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водкам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Корневыми отпрыс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466920" cy="358920"/>
          </a:xfrm>
          <a:custGeom>
            <a:avLst/>
            <a:gdLst>
              <a:gd name="textAreaLeft" fmla="*/ 23040 w 466920"/>
              <a:gd name="textAreaRight" fmla="*/ 443880 w 466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93" h="21600">
                <a:moveTo>
                  <a:pt x="0" y="0"/>
                </a:moveTo>
                <a:lnTo>
                  <a:pt x="28093" y="0"/>
                </a:lnTo>
                <a:lnTo>
                  <a:pt x="28093" y="21600"/>
                </a:lnTo>
                <a:lnTo>
                  <a:pt x="0" y="21600"/>
                </a:lnTo>
                <a:close/>
              </a:path>
              <a:path fill="lightenLess" w="28093" h="21600">
                <a:moveTo>
                  <a:pt x="0" y="0"/>
                </a:moveTo>
                <a:lnTo>
                  <a:pt x="28093" y="0"/>
                </a:lnTo>
                <a:lnTo>
                  <a:pt x="26693" y="1400"/>
                </a:lnTo>
                <a:lnTo>
                  <a:pt x="1400" y="1400"/>
                </a:lnTo>
                <a:close/>
              </a:path>
              <a:path fill="darken" w="28093" h="21600">
                <a:moveTo>
                  <a:pt x="28093" y="0"/>
                </a:moveTo>
                <a:lnTo>
                  <a:pt x="28093" y="21600"/>
                </a:lnTo>
                <a:lnTo>
                  <a:pt x="26693" y="20200"/>
                </a:lnTo>
                <a:lnTo>
                  <a:pt x="26693" y="1400"/>
                </a:lnTo>
                <a:close/>
              </a:path>
              <a:path fill="darkenLess" w="28093" h="21600">
                <a:moveTo>
                  <a:pt x="28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3" y="20200"/>
                </a:lnTo>
                <a:close/>
              </a:path>
              <a:path fill="lighten" w="28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3" h="21600">
                <a:moveTo>
                  <a:pt x="7040" y="3794"/>
                </a:moveTo>
                <a:lnTo>
                  <a:pt x="21053" y="10800"/>
                </a:lnTo>
                <a:lnTo>
                  <a:pt x="70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50920" y="0"/>
            <a:ext cx="1297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" name="">
            <a:hlinkClick r:id="" action="ppaction://hlinkshowjump?jump=endshow"/>
          </p:cNvPr>
          <p:cNvSpPr/>
          <p:nvPr/>
        </p:nvSpPr>
        <p:spPr>
          <a:xfrm>
            <a:off x="8820000" y="656892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12103" y="3837"/>
                </a:moveTo>
                <a:lnTo>
                  <a:pt x="14679" y="6448"/>
                </a:lnTo>
                <a:lnTo>
                  <a:pt x="14679" y="4707"/>
                </a:lnTo>
                <a:lnTo>
                  <a:pt x="16455" y="4707"/>
                </a:lnTo>
                <a:lnTo>
                  <a:pt x="16455" y="8224"/>
                </a:lnTo>
                <a:lnTo>
                  <a:pt x="19066" y="10800"/>
                </a:lnTo>
                <a:lnTo>
                  <a:pt x="17412" y="10800"/>
                </a:lnTo>
                <a:lnTo>
                  <a:pt x="17412" y="17989"/>
                </a:lnTo>
                <a:lnTo>
                  <a:pt x="6794" y="17989"/>
                </a:lnTo>
                <a:lnTo>
                  <a:pt x="6794" y="10800"/>
                </a:lnTo>
                <a:lnTo>
                  <a:pt x="5140" y="10800"/>
                </a:lnTo>
                <a:close/>
              </a:path>
              <a:path fill="darkenLess" w="24206" h="21600">
                <a:moveTo>
                  <a:pt x="14679" y="6448"/>
                </a:moveTo>
                <a:lnTo>
                  <a:pt x="14679" y="4707"/>
                </a:lnTo>
                <a:lnTo>
                  <a:pt x="16455" y="4707"/>
                </a:lnTo>
                <a:lnTo>
                  <a:pt x="16455" y="8224"/>
                </a:lnTo>
                <a:close/>
              </a:path>
              <a:path fill="darkenLess" w="24206" h="21600">
                <a:moveTo>
                  <a:pt x="11180" y="14299"/>
                </a:moveTo>
                <a:lnTo>
                  <a:pt x="13026" y="14299"/>
                </a:lnTo>
                <a:lnTo>
                  <a:pt x="13026" y="17989"/>
                </a:lnTo>
                <a:lnTo>
                  <a:pt x="17412" y="17989"/>
                </a:lnTo>
                <a:lnTo>
                  <a:pt x="17412" y="10800"/>
                </a:lnTo>
                <a:lnTo>
                  <a:pt x="6794" y="10800"/>
                </a:lnTo>
                <a:lnTo>
                  <a:pt x="6794" y="17989"/>
                </a:lnTo>
                <a:lnTo>
                  <a:pt x="1118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25800" y="-237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0026"/>
                </a:solidFill>
                <a:latin typeface="Times New Roman"/>
              </a:rPr>
              <a:t>Т е с 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476280"/>
            <a:ext cx="4248360" cy="617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Размножение – это процесс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величения числа клет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витие организма в процессе эволю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зменение особи с момента рождения до смер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оспроизведение себе подо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Размножение спорами – разновиднос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егетативного размно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остого д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есполого размно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лового размно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Вегетативное размножение – это процесс образо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ового организма из части материнск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пециализированных клет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дноклеточного образования с плотной оболоч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ногоклеточного организ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. Почкование – это процесс образо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егетативного орг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енеративного орг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ового организма из части материнск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овой особи в виде выроста на теле материнской особ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476280"/>
            <a:ext cx="4392720" cy="61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. Бесполое размножение – это процесс происходящ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 образованием сп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 образованием половых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 образованием зи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з образования половых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.Бесполое размнож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влияет на возможность приспособления к относительно постоянным условиям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меньшает возможность приспособления к относительно постоянным условиям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величивает возможность приспособления к относительно постоянным условиям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вышает возможность приспособления к меняющимся условиям сре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. Развитие новой особи из соматических клеток называется __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_________________________________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8459640" y="659772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18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93ff"/>
                </a:solidFill>
                <a:latin typeface="Arial"/>
              </a:rPr>
              <a:t>Размножение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93ff"/>
                </a:solidFill>
                <a:latin typeface="Arial"/>
              </a:rPr>
              <a:t>это способность производить новое поколение особей того же ви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1916280"/>
            <a:ext cx="4248360" cy="914400"/>
          </a:xfrm>
          <a:prstGeom prst="rect">
            <a:avLst/>
          </a:prstGeom>
          <a:solidFill>
            <a:srgbClr val="006e6b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213000"/>
            <a:ext cx="3384360" cy="914400"/>
          </a:xfrm>
          <a:prstGeom prst="rect">
            <a:avLst/>
          </a:prstGeom>
          <a:solidFill>
            <a:srgbClr val="006e6b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ово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213000"/>
            <a:ext cx="3529080" cy="914400"/>
          </a:xfrm>
          <a:prstGeom prst="rect">
            <a:avLst/>
          </a:prstGeom>
          <a:solidFill>
            <a:srgbClr val="006e6b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еспол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700360" y="2852640"/>
            <a:ext cx="7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2852640"/>
            <a:ext cx="79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4508640"/>
            <a:ext cx="3816360" cy="1922760"/>
          </a:xfrm>
          <a:prstGeom prst="rect">
            <a:avLst/>
          </a:prstGeom>
          <a:solidFill>
            <a:srgbClr val="a3a3e1"/>
          </a:solidFill>
          <a:ln w="936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 воспроизводства организмов, в котором участвует только один из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437000"/>
            <a:ext cx="3961080" cy="1923480"/>
          </a:xfrm>
          <a:prstGeom prst="rect">
            <a:avLst/>
          </a:prstGeom>
          <a:solidFill>
            <a:srgbClr val="a3a3e1"/>
          </a:solidFill>
          <a:ln w="936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цесс, при котором нов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ганизм развивается в результате слияния двух половых клеток, образованных разными род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466560" cy="358920"/>
          </a:xfrm>
          <a:custGeom>
            <a:avLst/>
            <a:gdLst>
              <a:gd name="textAreaLeft" fmla="*/ 23040 w 466560"/>
              <a:gd name="textAreaRight" fmla="*/ 443520 w 466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71" h="21600">
                <a:moveTo>
                  <a:pt x="0" y="0"/>
                </a:moveTo>
                <a:lnTo>
                  <a:pt x="28071" y="0"/>
                </a:lnTo>
                <a:lnTo>
                  <a:pt x="28071" y="21600"/>
                </a:lnTo>
                <a:lnTo>
                  <a:pt x="0" y="21600"/>
                </a:lnTo>
                <a:close/>
              </a:path>
              <a:path fill="lightenLess" w="28071" h="21600">
                <a:moveTo>
                  <a:pt x="0" y="0"/>
                </a:moveTo>
                <a:lnTo>
                  <a:pt x="28071" y="0"/>
                </a:lnTo>
                <a:lnTo>
                  <a:pt x="26671" y="1400"/>
                </a:lnTo>
                <a:lnTo>
                  <a:pt x="1400" y="1400"/>
                </a:lnTo>
                <a:close/>
              </a:path>
              <a:path fill="darken" w="28071" h="21600">
                <a:moveTo>
                  <a:pt x="28071" y="0"/>
                </a:moveTo>
                <a:lnTo>
                  <a:pt x="28071" y="21600"/>
                </a:lnTo>
                <a:lnTo>
                  <a:pt x="26671" y="20200"/>
                </a:lnTo>
                <a:lnTo>
                  <a:pt x="26671" y="1400"/>
                </a:lnTo>
                <a:close/>
              </a:path>
              <a:path fill="darkenLess" w="28071" h="21600">
                <a:moveTo>
                  <a:pt x="2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1" y="20200"/>
                </a:lnTo>
                <a:close/>
              </a:path>
              <a:path fill="lighten" w="2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1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71560" y="549360"/>
            <a:ext cx="56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93ff"/>
                </a:solidFill>
                <a:latin typeface="Arial"/>
              </a:rPr>
              <a:t>Преимущества и недостатки бесполого размн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2060640"/>
            <a:ext cx="8424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93ff"/>
                </a:solidFill>
                <a:uFillTx/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происходит просто, не нужно тратить время и энергию для поиска  партнер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численность организмов увеличивается относительно быстро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в неизменных условиях среды создаются безграничные возможности повышения численности организмов со сходной наследственностью – организмов, хорошо приспособленных к жизни в этих конкретны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581360"/>
            <a:ext cx="8353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93ff"/>
                </a:solidFill>
                <a:uFillTx/>
                <a:latin typeface="Arial"/>
              </a:rPr>
              <a:t>Недостат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0026"/>
                </a:solidFill>
                <a:latin typeface="Arial"/>
              </a:rPr>
              <a:t>Не обеспечивает выживание в изменчивой, непостоянной среде (новые признаки, которые могут оказаться полезными при изменении условий среды, при бесполом размножении появляется только в результате относительно редких ситуац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92360" y="260280"/>
            <a:ext cx="5543640" cy="91440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93ff"/>
                </a:solidFill>
                <a:latin typeface="Arial"/>
              </a:rPr>
              <a:t>Характерис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93ff"/>
                </a:solidFill>
                <a:latin typeface="Arial"/>
              </a:rPr>
              <a:t>бесполого размн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1413000"/>
            <a:ext cx="5040360" cy="72072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аствует один р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2347920"/>
            <a:ext cx="5040360" cy="72216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ходит без участ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овых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4365720"/>
            <a:ext cx="5184720" cy="172728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спроизводится больш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личество генетически идентич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рганизмов, происходит быстр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еление и захв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вых террито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3284640"/>
            <a:ext cx="5040360" cy="86364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нотип потом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отличается от генотип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оих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2133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4149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466560" cy="358920"/>
          </a:xfrm>
          <a:custGeom>
            <a:avLst/>
            <a:gdLst>
              <a:gd name="textAreaLeft" fmla="*/ 23040 w 466560"/>
              <a:gd name="textAreaRight" fmla="*/ 443520 w 466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71" h="21600">
                <a:moveTo>
                  <a:pt x="0" y="0"/>
                </a:moveTo>
                <a:lnTo>
                  <a:pt x="28071" y="0"/>
                </a:lnTo>
                <a:lnTo>
                  <a:pt x="28071" y="21600"/>
                </a:lnTo>
                <a:lnTo>
                  <a:pt x="0" y="21600"/>
                </a:lnTo>
                <a:close/>
              </a:path>
              <a:path fill="lightenLess" w="28071" h="21600">
                <a:moveTo>
                  <a:pt x="0" y="0"/>
                </a:moveTo>
                <a:lnTo>
                  <a:pt x="28071" y="0"/>
                </a:lnTo>
                <a:lnTo>
                  <a:pt x="26671" y="1400"/>
                </a:lnTo>
                <a:lnTo>
                  <a:pt x="1400" y="1400"/>
                </a:lnTo>
                <a:close/>
              </a:path>
              <a:path fill="darken" w="28071" h="21600">
                <a:moveTo>
                  <a:pt x="28071" y="0"/>
                </a:moveTo>
                <a:lnTo>
                  <a:pt x="28071" y="21600"/>
                </a:lnTo>
                <a:lnTo>
                  <a:pt x="26671" y="20200"/>
                </a:lnTo>
                <a:lnTo>
                  <a:pt x="26671" y="1400"/>
                </a:lnTo>
                <a:close/>
              </a:path>
              <a:path fill="darkenLess" w="28071" h="21600">
                <a:moveTo>
                  <a:pt x="2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1" y="20200"/>
                </a:lnTo>
                <a:close/>
              </a:path>
              <a:path fill="lighten" w="2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1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209600"/>
          </a:xfrm>
          <a:prstGeom prst="rect">
            <a:avLst/>
          </a:prstGeom>
          <a:gradFill rotWithShape="0">
            <a:gsLst>
              <a:gs pos="0">
                <a:srgbClr val="ebe5ea">
                  <a:alpha val="60392"/>
                </a:srgbClr>
              </a:gs>
              <a:gs pos="100000">
                <a:srgbClr val="cd9bc6"/>
              </a:gs>
            </a:gsLst>
            <a:lin ang="5400000"/>
          </a:gradFill>
          <a:ln w="57240">
            <a:solidFill>
              <a:srgbClr val="6ab475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Формы бесполого размноже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2276640"/>
            <a:ext cx="2879640" cy="79200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Arial"/>
                <a:hlinkClick r:id="rId2" action="ppaction://hlinksldjump"/>
              </a:rPr>
              <a:t>Спорообразование</a:t>
            </a:r>
            <a:r>
              <a:rPr b="0" lang="en-US" sz="2400" spc="-1" strike="noStrike" u="sng">
                <a:solidFill>
                  <a:srgbClr val="00ff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1413000"/>
            <a:ext cx="71640" cy="863640"/>
          </a:xfrm>
          <a:prstGeom prst="downArrow">
            <a:avLst>
              <a:gd name="adj1" fmla="val 50000"/>
              <a:gd name="adj2" fmla="val 301382"/>
            </a:avLst>
          </a:prstGeom>
          <a:solidFill>
            <a:srgbClr val="006600"/>
          </a:solidFill>
          <a:ln w="936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1413000"/>
            <a:ext cx="73080" cy="863640"/>
          </a:xfrm>
          <a:prstGeom prst="downArrow">
            <a:avLst>
              <a:gd name="adj1" fmla="val 50000"/>
              <a:gd name="adj2" fmla="val 295443"/>
            </a:avLst>
          </a:prstGeom>
          <a:solidFill>
            <a:srgbClr val="006600"/>
          </a:solidFill>
          <a:ln w="936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573360"/>
            <a:ext cx="2808360" cy="79056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Arial"/>
                <a:hlinkClick r:id="rId4" action="ppaction://hlinksldjump"/>
              </a:rPr>
              <a:t>почк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276640"/>
            <a:ext cx="2590560" cy="72072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Arial"/>
                <a:hlinkClick r:id="rId5" action="ppaction://hlinksldjump"/>
              </a:rPr>
              <a:t>Деление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3573360"/>
            <a:ext cx="2737080" cy="79236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Arial"/>
                <a:hlinkClick r:id="rId6" action="ppaction://hlinksldjump"/>
              </a:rPr>
              <a:t>фрагм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5084640"/>
            <a:ext cx="5256360" cy="865440"/>
          </a:xfrm>
          <a:prstGeom prst="rect">
            <a:avLst/>
          </a:prstGeom>
          <a:solidFill>
            <a:srgbClr val="e0c2dc"/>
          </a:solidFill>
          <a:ln w="2844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99"/>
                </a:solidFill>
                <a:uFillTx/>
                <a:latin typeface="Arial"/>
                <a:hlinkClick r:id="rId7" action="ppaction://hlinksldjump"/>
              </a:rPr>
              <a:t>Вегетативное размножение раст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413000"/>
            <a:ext cx="73080" cy="3673440"/>
          </a:xfrm>
          <a:prstGeom prst="downArrow">
            <a:avLst>
              <a:gd name="adj1" fmla="val 50000"/>
              <a:gd name="adj2" fmla="val 1256650"/>
            </a:avLst>
          </a:prstGeom>
          <a:solidFill>
            <a:srgbClr val="006600"/>
          </a:solidFill>
          <a:ln w="936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5240600">
            <a:off x="4466160" y="2454480"/>
            <a:ext cx="2157480" cy="69840"/>
          </a:xfrm>
          <a:prstGeom prst="leftArrow">
            <a:avLst>
              <a:gd name="adj1" fmla="val 50000"/>
              <a:gd name="adj2" fmla="val 772294"/>
            </a:avLst>
          </a:prstGeom>
          <a:solidFill>
            <a:srgbClr val="006600"/>
          </a:solidFill>
          <a:ln w="936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954800">
            <a:off x="2298600" y="2455560"/>
            <a:ext cx="2163600" cy="71640"/>
          </a:xfrm>
          <a:prstGeom prst="leftArrow">
            <a:avLst>
              <a:gd name="adj1" fmla="val 50000"/>
              <a:gd name="adj2" fmla="val 755025"/>
            </a:avLst>
          </a:prstGeom>
          <a:solidFill>
            <a:srgbClr val="006600"/>
          </a:solidFill>
          <a:ln w="9360">
            <a:solidFill>
              <a:srgbClr val="6ab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466560" cy="358920"/>
          </a:xfrm>
          <a:custGeom>
            <a:avLst/>
            <a:gdLst>
              <a:gd name="textAreaLeft" fmla="*/ 23040 w 466560"/>
              <a:gd name="textAreaRight" fmla="*/ 443520 w 466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071" h="21600">
                <a:moveTo>
                  <a:pt x="0" y="0"/>
                </a:moveTo>
                <a:lnTo>
                  <a:pt x="28071" y="0"/>
                </a:lnTo>
                <a:lnTo>
                  <a:pt x="28071" y="21600"/>
                </a:lnTo>
                <a:lnTo>
                  <a:pt x="0" y="21600"/>
                </a:lnTo>
                <a:close/>
              </a:path>
              <a:path fill="lightenLess" w="28071" h="21600">
                <a:moveTo>
                  <a:pt x="0" y="0"/>
                </a:moveTo>
                <a:lnTo>
                  <a:pt x="28071" y="0"/>
                </a:lnTo>
                <a:lnTo>
                  <a:pt x="26671" y="1400"/>
                </a:lnTo>
                <a:lnTo>
                  <a:pt x="1400" y="1400"/>
                </a:lnTo>
                <a:close/>
              </a:path>
              <a:path fill="darken" w="28071" h="21600">
                <a:moveTo>
                  <a:pt x="28071" y="0"/>
                </a:moveTo>
                <a:lnTo>
                  <a:pt x="28071" y="21600"/>
                </a:lnTo>
                <a:lnTo>
                  <a:pt x="26671" y="20200"/>
                </a:lnTo>
                <a:lnTo>
                  <a:pt x="26671" y="1400"/>
                </a:lnTo>
                <a:close/>
              </a:path>
              <a:path fill="darkenLess" w="28071" h="21600">
                <a:moveTo>
                  <a:pt x="2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1" y="20200"/>
                </a:lnTo>
                <a:close/>
              </a:path>
              <a:path fill="lighten" w="2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1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3146400"/>
            <a:ext cx="3816360" cy="212076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35600" y="5515920"/>
            <a:ext cx="351540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ab475"/>
                </a:solidFill>
                <a:latin typeface="Times New Roman"/>
              </a:rPr>
              <a:t>Деление бактериальной клет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277920"/>
            <a:ext cx="5688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93ff"/>
                </a:solidFill>
                <a:latin typeface="Garamond"/>
              </a:rPr>
              <a:t>Деление кле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19700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b475"/>
                </a:solidFill>
                <a:latin typeface="Times New Roman"/>
              </a:rPr>
              <a:t>Деление – наиболее простая форма бесполого размножения, широко распространенного у бактерий и простейших организмов (одноклеточных животных и растени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62640" y="3405240"/>
            <a:ext cx="18720" cy="47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62640" y="3405240"/>
            <a:ext cx="18720" cy="47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156360" y="1197000"/>
            <a:ext cx="2281320" cy="511164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028000" y="6499080"/>
            <a:ext cx="393840" cy="358920"/>
          </a:xfrm>
          <a:custGeom>
            <a:avLst/>
            <a:gdLst>
              <a:gd name="textAreaLeft" fmla="*/ 23040 w 393840"/>
              <a:gd name="textAreaRight" fmla="*/ 370800 w 3938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699" h="21600">
                <a:moveTo>
                  <a:pt x="0" y="0"/>
                </a:moveTo>
                <a:lnTo>
                  <a:pt x="23699" y="0"/>
                </a:lnTo>
                <a:lnTo>
                  <a:pt x="23699" y="21600"/>
                </a:lnTo>
                <a:lnTo>
                  <a:pt x="0" y="21600"/>
                </a:lnTo>
                <a:close/>
              </a:path>
              <a:path fill="lightenLess" w="23699" h="21600">
                <a:moveTo>
                  <a:pt x="0" y="0"/>
                </a:moveTo>
                <a:lnTo>
                  <a:pt x="23699" y="0"/>
                </a:lnTo>
                <a:lnTo>
                  <a:pt x="22299" y="1400"/>
                </a:lnTo>
                <a:lnTo>
                  <a:pt x="1400" y="1400"/>
                </a:lnTo>
                <a:close/>
              </a:path>
              <a:path fill="darken" w="23699" h="21600">
                <a:moveTo>
                  <a:pt x="23699" y="0"/>
                </a:moveTo>
                <a:lnTo>
                  <a:pt x="23699" y="21600"/>
                </a:lnTo>
                <a:lnTo>
                  <a:pt x="22299" y="20200"/>
                </a:lnTo>
                <a:lnTo>
                  <a:pt x="22299" y="1400"/>
                </a:lnTo>
                <a:close/>
              </a:path>
              <a:path fill="darkenLess" w="23699" h="21600">
                <a:moveTo>
                  <a:pt x="23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9" y="20200"/>
                </a:lnTo>
                <a:close/>
              </a:path>
              <a:path fill="lighten" w="23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9" h="21600">
                <a:moveTo>
                  <a:pt x="4843" y="3794"/>
                </a:moveTo>
                <a:lnTo>
                  <a:pt x="18856" y="10800"/>
                </a:lnTo>
                <a:lnTo>
                  <a:pt x="484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04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8818"/>
                </a:moveTo>
                <a:lnTo>
                  <a:pt x="7301" y="8818"/>
                </a:lnTo>
                <a:lnTo>
                  <a:pt x="7301" y="14154"/>
                </a:lnTo>
                <a:cubicBezTo>
                  <a:pt x="7301" y="15076"/>
                  <a:pt x="8102" y="15807"/>
                  <a:pt x="9138" y="15807"/>
                </a:cubicBezTo>
                <a:lnTo>
                  <a:pt x="10800" y="15807"/>
                </a:lnTo>
                <a:cubicBezTo>
                  <a:pt x="11836" y="15807"/>
                  <a:pt x="12636" y="15076"/>
                  <a:pt x="12636" y="14154"/>
                </a:cubicBezTo>
                <a:lnTo>
                  <a:pt x="12636" y="8818"/>
                </a:lnTo>
                <a:lnTo>
                  <a:pt x="10800" y="8818"/>
                </a:lnTo>
                <a:lnTo>
                  <a:pt x="14308" y="5311"/>
                </a:lnTo>
                <a:lnTo>
                  <a:pt x="17981" y="8818"/>
                </a:lnTo>
                <a:lnTo>
                  <a:pt x="16144" y="8818"/>
                </a:lnTo>
                <a:lnTo>
                  <a:pt x="16144" y="14154"/>
                </a:lnTo>
                <a:cubicBezTo>
                  <a:pt x="16144" y="16921"/>
                  <a:pt x="13568" y="19480"/>
                  <a:pt x="10800" y="19480"/>
                </a:cubicBezTo>
                <a:lnTo>
                  <a:pt x="9138" y="19480"/>
                </a:lnTo>
                <a:cubicBezTo>
                  <a:pt x="6370" y="19480"/>
                  <a:pt x="3794" y="16921"/>
                  <a:pt x="3794" y="14154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2592360" cy="1871640"/>
          </a:xfrm>
          <a:prstGeom prst="rect">
            <a:avLst/>
          </a:prstGeom>
          <a:ln w="28440">
            <a:solidFill>
              <a:srgbClr val="6ab475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2592360" cy="1859040"/>
          </a:xfrm>
          <a:prstGeom prst="rect">
            <a:avLst/>
          </a:prstGeom>
          <a:ln w="28440">
            <a:solidFill>
              <a:srgbClr val="6ab475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508720" y="4437000"/>
            <a:ext cx="2376360" cy="1709640"/>
          </a:xfrm>
          <a:prstGeom prst="rect">
            <a:avLst/>
          </a:prstGeom>
          <a:ln w="28440">
            <a:solidFill>
              <a:srgbClr val="6ab475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1692360" y="4365720"/>
            <a:ext cx="2663640" cy="1800000"/>
          </a:xfrm>
          <a:prstGeom prst="rect">
            <a:avLst/>
          </a:prstGeom>
          <a:ln w="28440">
            <a:solidFill>
              <a:srgbClr val="6ab475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49440" y="39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472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97800" y="39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60280"/>
            <a:ext cx="25207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ит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6300720" y="1844640"/>
            <a:ext cx="2521080" cy="1882800"/>
          </a:xfrm>
          <a:prstGeom prst="rect">
            <a:avLst/>
          </a:prstGeom>
          <a:ln w="28440">
            <a:solidFill>
              <a:srgbClr val="6ab475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989440" y="630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99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5440" y="630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824360" cy="405108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5367240" y="5589720"/>
            <a:ext cx="150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иб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х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апорот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427640" y="1197000"/>
            <a:ext cx="4462200" cy="35290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860436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189000"/>
            <a:ext cx="46814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порообраз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93ff"/>
                </a:solidFill>
                <a:latin typeface="Imprint MT Shadow"/>
              </a:rPr>
              <a:t>Почкование –</a:t>
            </a:r>
            <a:br>
              <a:rPr sz="2400"/>
            </a:b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 одна из форм бесполого размножения, при котором новая особь образуется в виде выроста (почки) на теле родительской особи, а затем превращается в самостоятельный организ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632720" cy="2927520"/>
          </a:xfrm>
          <a:prstGeom prst="rect">
            <a:avLst/>
          </a:prstGeom>
          <a:ln w="9360">
            <a:solidFill>
              <a:srgbClr val="6ab475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84360" y="4941720"/>
            <a:ext cx="1728720" cy="17161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2376360" cy="16318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2703600" y="60930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ид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23736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анхо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60436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1:11:52Z</dcterms:created>
  <dc:creator>Мама</dc:creator>
  <dc:description/>
  <dc:language>en-US</dc:language>
  <cp:lastModifiedBy>Алекс</cp:lastModifiedBy>
  <dcterms:modified xsi:type="dcterms:W3CDTF">2012-01-30T07:23:41Z</dcterms:modified>
  <cp:revision>63</cp:revision>
  <dc:subject/>
  <dc:title>Бесполое размножение</dc:title>
</cp:coreProperties>
</file>