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2C5-C8A5-4D5C-9876-78B4CF11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514-C84E-4C7E-B3BD-CA11873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3B3-7947-48DD-8BE8-714690FB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E76-EECF-422E-A61C-A8F4EB08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EBE-6E9C-491A-ABDD-5C14019F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EDF-60D4-4F5A-9F39-237C871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441D-6FB4-463A-B8C8-470D26A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B05-991B-41CF-B043-8817131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7C7-C71A-44E4-8461-8C2A79B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CD0F-BCEA-4A73-9F54-F2E348B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086-07BC-4B1E-8BC8-35914D0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598-8D25-470C-A412-8C49FC0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E31B-8499-40A4-8ED9-1F1459C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44E-B8AB-46B1-96AB-04627B2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5659-FB4F-479D-9478-1A5CC21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309B-1291-4D91-AF2F-4E583615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E41-4982-46FC-8066-0A1BACC8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962-1AB0-46F6-A00C-7DCE12AE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F63-3B55-43C9-A181-700257B1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B69-43D2-460C-BDB9-9A002F9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D29-5B99-4F08-B775-08D5385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47E-106F-4FD7-A950-A567762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018-5588-490E-8D80-05D271D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F95-F4AC-4D63-BDAE-6E3CF33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698-6FF3-4D08-9182-FFFE10F380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717-0262-4165-92E4-D9BC18E9BCC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800"/>
            </a:gs>
            <a:gs pos="50000">
              <a:srgbClr val="9da6c1"/>
            </a:gs>
            <a:gs pos="100000">
              <a:srgbClr val="ffb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5867280" cy="3581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0"/>
            <a:ext cx="8077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Благода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85080" y="1600200"/>
            <a:ext cx="72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бы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ак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0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изи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763560" y="23004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ДОБЫВАЮТ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и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78040" y="405360"/>
            <a:ext cx="650916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Почетные граждане гор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693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    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.Петровский Василий Ива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2.Петровский Борис Василье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3.Марченко Александр Василье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4.Катасонов Павел Георгие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5.Елисов Борис Кузьм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6.Сидельников Андрей Никонор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7.Квасов Георгий Захар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8.Нечесов Петр Алексее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9.Грибцов Петр Федор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0.Поветкин Николай Михайл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1.Гончарова Мария Фроловна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2.Червяков Николай Ива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3.Пастухов Николай Демья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4.Чеботарев Дмитрий Родио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5.Головко Зинаида Ивановна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6.Щабельский Петр Андрее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7.Рыбас Николай Михайл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8.Жиганов Виктор Ива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19.Юдин Леонид Ива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20.Сидоров Николай Иван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21.Гринько Анатолий Федорович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22.Рогачева Нина Сергеевна</a:t>
            </a:r>
            <a:br>
              <a:rPr sz="1600"/>
            </a:b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23.Шальнев Владимир Михайлович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 rot="5400000">
            <a:off x="109440" y="3319200"/>
            <a:ext cx="6248520" cy="8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езентацию подготовил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00600" y="2362320"/>
            <a:ext cx="22860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"В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452320"/>
            <a:ext cx="73915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ffff"/>
                </a:solidFill>
                <a:latin typeface="Comic Sans MS"/>
              </a:rPr>
              <a:t>Расположен в Предкавказье, в северной части Ставропольской возвышенности на реке Мокрая Буйвола (приток Кумы),в 150 км к востоку от Ставрополя</a:t>
            </a:r>
            <a:r>
              <a:rPr b="0" i="1" lang="en-US" sz="2800" spc="-1" strike="noStrike">
                <a:solidFill>
                  <a:srgbClr val="cc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Первоначально селение называлось Солдатским. Калмыки и туркмены, которые кочевали на этих землях, называли его Солдутским (Солдус). В народе так и бытовали два названия. Первыми жителями были отставные солдаты, которых правительство поселило на месте сторожевого поста. Предание гласит, что, когда проезжал генерал-губернатор, жители преподнесли ему подарки, на что тот ответил: «Не надо мне, господа служивые, ваших подарков, живите себе на здоровье. А за то, что вы благодарны, пусть селение ваше называется Благодарное». В 1806 г. здесь насчитывалось 39 домов, в которых проживало 211 ревизских душ, а в 1814 г. — уже Харьковской и других губерний Центральной России</a:t>
            </a:r>
            <a:r>
              <a:rPr b="0" lang="en-US" sz="2000" spc="-1" strike="noStrike">
                <a:solidFill>
                  <a:srgbClr val="66ffff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7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3126240"/>
            <a:ext cx="73152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 декабре 1999 года был объявлен городском Советом народных депутатов конкурс "Герб города Благодарного".В конкурсе принимали участие жители города Благодарного, старшеклассники СШ.  №15.  01.12.99г на заседании городского Совета народных депутатов был утвержден Герб муниципального образования города благодарного.  Вся документации по Гербу была отправлена в геральдическую комиссию г. Ставрополя. 01.02.2000г было получено заключение геральдической комиссии. Герб представляет собой геральдический щит лазоревого цвета. В верхнем поле голубого оттенка серебряный летящий голубь червленым оперением. В нижнем поле синего оттенка золотой мост с двумя арками.  Герб разработан в результате открытого конкурса, объявленного Советом народных депутатов г. Благодарного, на котором победил художник Игорь Тихенко, предложивший основные элементы герба, отражающие главные достопримечательности г. Благодарного. Графическая доработка Герба и приведение его в соответствие с геральдическими правилами сделана Ставропольской студией "АРС - дизайн" в лице художника-дизайнера Рената Неверова.  Герб исполнен с учетом основных требований правил геральди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5a97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198800" y="360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уз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04920" y="2057040"/>
            <a:ext cx="9220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узей основан в 1989г. на базе народного музея. Большой вклад в создание музея внес Грибцов П.Ф. почетный гражданин г.Благодарного. Расположен музей в здании - памятники истории и культуры , построенном в 1893 году мастеровым Сапожниковым. В 1918г. с 10 по 27 сентября в здании размещался штаб Стальной дивизии Д.Жлобы. Экспозиция Благодарненского районного музея представляет исторические события, уклад жизни благодарненцев в 19,20 в. в. Большое количество документального и фотографического материала, мемориальные персональные комплексы дают возможность ознакомиться с судьбами наиболее видных людей района, их жизни в контексте истории страны: Российской империи, Советского Союза, России. Экспозиция может быть источниковой базой для уроков краеведения школ района, а местным жителям дает возможность сохранить память о родственниках и уважаемых земляках. Тематическая структура экспозиции : 1 зал – интерьер комнаты мещан; 2 зал – история с. Благодарного конца 19 века – середине 20 века; 3 зал – Великая Отечественная война; 4 зал – Замечательные люди г. Благодарного ; 5 зал – Крестьянская хата. Уникальную часть фонда представляют коллекции знатных земляков.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9677520" y="3276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800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590920" y="2133720"/>
            <a:ext cx="3943080" cy="312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715000" y="3962520"/>
            <a:ext cx="342900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78240" y="338040"/>
            <a:ext cx="22762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амят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мест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66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457200"/>
            <a:ext cx="854388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енность населени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3048120"/>
          <a:ext cx="8153280" cy="2833560"/>
        </p:xfrm>
        <a:graphic>
          <a:graphicData uri="http://schemas.openxmlformats.org/drawingml/2006/table">
            <a:tbl>
              <a:tblPr/>
              <a:tblGrid>
                <a:gridCol w="1081080"/>
                <a:gridCol w="998640"/>
                <a:gridCol w="1082520"/>
                <a:gridCol w="996840"/>
                <a:gridCol w="998640"/>
                <a:gridCol w="916200"/>
                <a:gridCol w="1081080"/>
                <a:gridCol w="99828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14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2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2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2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3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2000" y="213372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годам  ( тыс. жит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ff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400" y="365760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лагодарная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8080" y="251460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тная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19520" y="0"/>
            <a:ext cx="56386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1523880"/>
            <a:ext cx="647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лагодарненска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749880" y="216720"/>
            <a:ext cx="674172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Выращивают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335304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72000" y="24382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562720" y="342900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310440" y="4724280"/>
            <a:ext cx="2833560" cy="2133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61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Пше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ячмен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ов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горо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гречих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плодовые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бахчев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культу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расимова Вера Александровна</cp:lastModifiedBy>
  <dcterms:modified xsi:type="dcterms:W3CDTF">2008-12-17T07:09:0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