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18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.png" ContentType="image/png"/>
  <Override PartName="/ppt/media/image3.gif" ContentType="image/gif"/>
  <Override PartName="/ppt/media/image14.wmf" ContentType="image/x-wmf"/>
  <Override PartName="/ppt/media/image6.gif" ContentType="image/gif"/>
  <Override PartName="/ppt/media/image9.wmf" ContentType="image/x-wmf"/>
  <Override PartName="/ppt/media/image4.wmf" ContentType="image/x-wmf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D88-B819-42FA-8BE7-22D90D27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265-F376-479F-BC03-5388703D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2D8-E318-4CAD-8153-478D0F9E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4FC-9745-4F73-AD08-5BC3D0ED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6E1-3EA2-43EE-B540-0EEC2E93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C857-33F0-4BDE-A7FB-A84F359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E38B-BCD3-4AAA-ABFB-D9A4947F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499A-C799-4666-8C37-ED2364BF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86D8-3C12-4592-AA56-671C445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3206-0E90-48A9-8DC5-9532A2D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1F2-EA35-4B49-A1FF-5262B38B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C93-98FB-4E0B-AB7C-23AE09C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027A-8071-45DD-A96E-E66C1B9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DAC-62DD-41CD-B6E5-D83B12C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393-C76F-43A1-A0CE-F13BEAFD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EDE1-5008-4F95-90A3-764A0791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B7E-73D5-4223-A608-775CA568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DCD-D49E-4080-9B71-08D6971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3DC-EECB-41BA-9477-2B4F0DAE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965-57DE-4AE8-9B99-581AE5C0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E2B-E408-4B73-A52B-62DE1B7D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53E-E496-491A-85B2-D39321B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75F-7F73-4FE1-9A3C-4F439BC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2CF-38C8-456E-BAAF-2756AEE2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436D-1463-40B5-A1D4-7AE8CEB7A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0F3F-B4BA-464B-8F00-2A0B588AF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4;&#1073;&#1088;&#1072;&#1079;&#1094;&#1099;%20&#1088;&#1072;&#1073;&#1086;&#1090;&#1099;.ppt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hyperlink" Target="file:///&#1044;&#1077;&#1090;&#1089;&#1082;&#1072;&#1103;%20&#1087;&#1088;&#1077;&#1079;&#1077;&#1085;&#1090;&#1072;&#1094;&#1080;&#1103;.ppt" TargetMode="External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file:///&#1044;&#1077;&#1090;&#1089;&#1082;&#1072;&#1103;%20&#1087;&#1088;&#1077;&#1079;&#1077;&#1085;&#1090;&#1072;&#1094;&#1080;&#1103;.ppt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373640" cy="4606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92720" y="4508640"/>
            <a:ext cx="4392720" cy="2041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35640" y="2852640"/>
            <a:ext cx="276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Работу выполн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учащие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5 «Б», 6 «Б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10 «В», 11 «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0"/>
            <a:ext cx="77263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шка: домашний дух иль божество.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-171720"/>
            <a:ext cx="69138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Кошка-демо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4130640"/>
            <a:ext cx="331308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</p:pic>
      <p:sp>
        <p:nvSpPr>
          <p:cNvPr id="130" name=""/>
          <p:cNvSpPr/>
          <p:nvPr/>
        </p:nvSpPr>
        <p:spPr>
          <a:xfrm>
            <a:off x="287280" y="90792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В мифологии кошка выступает как воплощение(или помощник, член свиты) чёрта, нечистой силы. Существует поверье об особом кошачьем дьяволе, у которого колдуны заимствуют свою силу. В славянской культуре результатом действия кошки чаще всего становится болезнь, порча, смер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41720"/>
            <a:ext cx="58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У наших предков есть цикл сказок об Иване-Кошкине сыне. Кот предстает 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Наших сказках так же в виде  страшного, зловещего «Котища-вытаращи глазища», угрожающего съесть героя. Нередко в фольклоре можно встретить мотив превращения кота в человека и обратного превращения человека в к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341400">
            <a:off x="5940000" y="3212640"/>
            <a:ext cx="1800360" cy="1184400"/>
          </a:xfrm>
          <a:prstGeom prst="wedgeEllipseCallout">
            <a:avLst>
              <a:gd name="adj1" fmla="val -71430"/>
              <a:gd name="adj2" fmla="val 7398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Мяууу</a:t>
            </a:r>
            <a:r>
              <a:rPr b="1" i="1" lang="en-US" sz="2400" spc="-1" strike="noStrike">
                <a:solidFill>
                  <a:srgbClr val="003366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g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067280" cy="3081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7640" y="260280"/>
            <a:ext cx="4498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В повестях Н.В.Гоголя</a:t>
            </a: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«Майская ночь, или Утопленница», «Вечер накануне Ивана Купала»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кошка выступает в мистической, демонической роли, связанной с нечистой силой, точнее сказать, сама таковой и явля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4005360"/>
            <a:ext cx="86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В повест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«Старосветские помещики»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сбежавшая от хозяйки (Пульхерии Ивановн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кошка не является самостоятельным носителем зла, но она предвещает смер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тем, кто привязан к н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Таким образом, «в мифопоэтике Гоголя приход – уход животного означает раздел мира на живое и мертв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400"/>
                            </p:stCondLst>
                            <p:childTnLst>
                              <p:par>
                                <p:cTn id="2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4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400"/>
                            </p:stCondLst>
                            <p:childTnLst>
                              <p:par>
                                <p:cTn id="2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640" y="188640"/>
            <a:ext cx="5543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Кошка-проводни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89000"/>
          <a:ext cx="29160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916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276720" y="112536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Сильнейшее развитие в 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XX</a:t>
            </a: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веке образ кошки-проводника между миром людей и потусторонним миром получил в романе «Мастер и Маргарита» Михаила Афанасьевича Булгакова: речь идет о коте Бегем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292428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Образ Бегемота – библейский, он появляется в Книге Иова в качестве чудовища, воплощающего Материю. Булгаков дает понять, что за образом сравнительно невинного шута стоит си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куда более могуществен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3440" y="4581360"/>
            <a:ext cx="744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Образ шута в литературной традиции – фигура не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и довольно страшная, восходящая к средневеков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Шут не  имеет смысла существовать, поскольку у 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нет собственного «Я», нет личности. Он старается продл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свою жизнь за счет подражания другим, но на деле 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самость – это только ворох мас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g12" descr=""/>
          <p:cNvPicPr/>
          <p:nvPr/>
        </p:nvPicPr>
        <p:blipFill>
          <a:blip r:embed="rId1"/>
          <a:stretch/>
        </p:blipFill>
        <p:spPr>
          <a:xfrm>
            <a:off x="0" y="412920"/>
            <a:ext cx="3906720" cy="2982600"/>
          </a:xfrm>
          <a:prstGeom prst="rect">
            <a:avLst/>
          </a:prstGeom>
          <a:ln w="0">
            <a:noFill/>
          </a:ln>
        </p:spPr>
      </p:pic>
      <p:pic>
        <p:nvPicPr>
          <p:cNvPr id="143" name="img13" descr=""/>
          <p:cNvPicPr/>
          <p:nvPr/>
        </p:nvPicPr>
        <p:blipFill>
          <a:blip r:embed="rId2"/>
          <a:stretch/>
        </p:blipFill>
        <p:spPr>
          <a:xfrm>
            <a:off x="4967280" y="3573360"/>
            <a:ext cx="4176720" cy="3146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95640" y="260280"/>
            <a:ext cx="46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Бегемот в романе только шутит, скоморошничает. Этот кот-оборотень -любимый шут сатаны, самый забавный и запоминающийся из свиты Волон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Он постоянно крутится возле Геллы (ведьмы), а на балу – вокруг Маргариты, которая исполняет роль хозяйки на балу у Сат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этом просматриваются фольклорные мотивы, то есть использует образ «Ведьма с черной кошк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51840" y="92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414972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ким образом, можно говорить  о т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то «Московские главы» в романе –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епетиция Страшного суда в представлении Булгакова. И Бегемот будет выполнять  роль проводника между двумя ми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ahoma"/>
              </a:rPr>
              <a:t>Выводы</a:t>
            </a: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ahoma"/>
              </a:rPr>
              <a:t>Функции кошки в мифах, легендах, поверьях, литературных произведениях традицион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 литературных произведениях кошка становится проводником человека, помощником в определении жизненного пути; ни одному другому животному такая роль не отводила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ahoma"/>
              </a:rPr>
              <a:t>Невозможно раз и навсегда запечатлеть неизменный устоявшийся образ этого животного: кошка, подобно человеку, полна смыс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>
            <a:hlinkClick r:id="rId1"/>
          </p:cNvPr>
          <p:cNvSpPr/>
          <p:nvPr/>
        </p:nvSpPr>
        <p:spPr>
          <a:xfrm>
            <a:off x="738036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Источники информаци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Литература. 5 кл. Учебник-хрестоматия для общеобразовательных учреждений в 2-х частях. Авт.-сост. В.Я.Коровина. М., Просвещение, 2008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Литература. 6 кл. Учебник-хрестоматия для общеобразовательных учреждений в 2-х частях. Авт.-сост. В.П. Полухина. М., Просвещение, 2008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Русская литература 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 века. Учебник для 10 кл. М., Просвещение, 2008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Русская литература 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XX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 века. Учебник для 11 кл. М., Просвещение, 2007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Н. В. Гоголь. Собрание сочинений. (любое издание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М.А. Булгаков «Мастер и Маргарита» (любое издание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«Большая энциклопедия Кирилла и Мефодия», 2007 (3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CD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cate -  planet.ru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Цель презент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40000" y="3284280"/>
            <a:ext cx="4824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Comic Sans MS"/>
              </a:rPr>
              <a:t>Выяснить, кем ж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Comic Sans MS"/>
              </a:rPr>
              <a:t>на самом деле, является образ кошки в русской литератур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Comic Sans MS"/>
              </a:rPr>
              <a:t>домашним духом иль божеством?..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67280" y="0"/>
          <a:ext cx="4176720" cy="31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7280" y="0"/>
                    <a:ext cx="417672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630600"/>
            <a:ext cx="417672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Rockwell Extra Bold"/>
              </a:rPr>
              <a:t>Гипотез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660066"/>
                </a:solidFill>
                <a:latin typeface="Arial Black"/>
              </a:rPr>
              <a:t>В литературе кошка выполняет разные функц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497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ahoma"/>
              </a:rPr>
              <a:t>Задач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43280" y="3068280"/>
            <a:ext cx="63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Выяснить, какие функции выполняет кошка в мифах, сказках, народных верованиях, художественных произведен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0" y="3141720"/>
            <a:ext cx="2865600" cy="37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08720" y="60480"/>
            <a:ext cx="3635280" cy="2609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6612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ля того, чтобы решить поставленную задачу, мы разбились на несколько возрастных групп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Учащиеся 5-го класса исследовали пословицы, поговорки, народные приметы, связанные с кошко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Учащиеся 6-го класса, выясняли роль образа кота в русских народных сказках, мифах, баснях И.А. Крыл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Десятиклассники рассматривали мистический образ кошки в произведениях Н.В.Гого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Учащиеся 11-го класса рассматривали образ кота Бегемота из романа М.А.Булгакова «Мастер и Маргарит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ahoma"/>
              </a:rPr>
              <a:t>И вот что у нас получилось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3640" y="3774960"/>
          <a:ext cx="3922920" cy="29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774960"/>
                    <a:ext cx="392292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69240" y="5661000"/>
            <a:ext cx="1274760" cy="107964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03640" y="806400"/>
            <a:ext cx="3961080" cy="280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901800"/>
            <a:ext cx="4248360" cy="258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19640" y="981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ошка-демон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5640" y="2924280"/>
            <a:ext cx="27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ошка-домо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79280" y="3573360"/>
            <a:ext cx="2951280" cy="328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350028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Кошка- творец 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840" y="646128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Кошка- разруш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3059280" y="692280"/>
            <a:ext cx="1512720" cy="113004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7"/>
          </p:cNvPr>
          <p:cNvSpPr/>
          <p:nvPr/>
        </p:nvSpPr>
        <p:spPr>
          <a:xfrm>
            <a:off x="2484360" y="5229360"/>
            <a:ext cx="1130400" cy="10792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2421000"/>
            <a:ext cx="1295280" cy="136836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6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600"/>
                            </p:stCondLst>
                            <p:childTnLst>
                              <p:par>
                                <p:cTn id="1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100"/>
                            </p:stCondLst>
                            <p:childTnLst>
                              <p:par>
                                <p:cTn id="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6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5111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Кошка-домово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" y="0"/>
          <a:ext cx="3519360" cy="26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3519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633840" y="198900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Все случаи, которые относятся к эт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группе, связаны с устройством до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с жизнью в нём и с хозяйств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573360"/>
            <a:ext cx="912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На Руси кошка издавна почиталась как хранительница домашн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очага, символ уюта. Не случайно во многих странах была примета: прежде чем войти в новое жилище, надо впереди себя пустить «хозяйку»-кошку. Она обеспечит благополучие. Там, где она ложилась, ставили кр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/>
          </p:cNvPr>
          <p:cNvSpPr/>
          <p:nvPr/>
        </p:nvSpPr>
        <p:spPr>
          <a:xfrm>
            <a:off x="8028000" y="6021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2584440"/>
          <a:ext cx="543564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84440"/>
                    <a:ext cx="54356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img7" descr=""/>
          <p:cNvPicPr/>
          <p:nvPr/>
        </p:nvPicPr>
        <p:blipFill>
          <a:blip r:embed="rId3"/>
          <a:stretch/>
        </p:blipFill>
        <p:spPr>
          <a:xfrm>
            <a:off x="4788000" y="6480"/>
            <a:ext cx="4356000" cy="378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960" y="148428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ошка-разруш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4960" y="4149720"/>
            <a:ext cx="32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Кошка-твор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Кошка-помощни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Мир зверей интересен сам по себе, но в литературных произведениях он «одухотворен и домыслен человеческим воображением». Что бы не делала кошка, она все равно старается помочь хозяину, например, в сказках «Мудрая жена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«Баба-Яг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58136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Кошка может принадлежать злым существам(например, ведьме, Бабе-Яге), красть что-либо у хозяев, но она все рав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Будет помогать или совершать разные другие положительные поступ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38:27Z</dcterms:created>
  <dc:creator>Юля</dc:creator>
  <dc:description/>
  <dc:language>en-US</dc:language>
  <cp:lastModifiedBy>Юля</cp:lastModifiedBy>
  <dcterms:modified xsi:type="dcterms:W3CDTF">2011-02-17T02:12:05Z</dcterms:modified>
  <cp:revision>12</cp:revision>
  <dc:subject/>
  <dc:title>Слайд 1</dc:title>
</cp:coreProperties>
</file>