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2C6-A79D-4EC0-B027-D0A1F00E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699-0914-4239-8A6C-FF7D32A1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EA2-2628-45CB-9748-9C277085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1A4-CA92-4B04-9A3E-9FD16AA0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B33-E065-439E-A39A-498D596E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91C-4D61-4CB5-B40A-82A405D6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467-E2F7-4415-B534-1056B7C5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2BD-5A86-45B6-8549-9E77720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05F-9097-4137-8F8D-3613556A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29C-B150-4997-B017-30885252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27F-5EDD-46A0-86E1-7A0A06D5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3E7-F0AE-4876-9AD0-42E87C7E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0E62-6D28-45D9-8F3A-51BE65EAA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content.foto.mail.ru/bk/alex_zd/_blogs/i-3648.jpg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content.foto.mail.ru/bk/alex_zd/_blogs/i-3648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1052640"/>
            <a:ext cx="554544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"/>
              </a:rPr>
              <a:t>Рептилии и Амфиби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efefe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38920" y="4437000"/>
            <a:ext cx="2305080" cy="1894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Ученица 8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Устан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Кострова Светл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5877000"/>
            <a:ext cx="8229600" cy="792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33ff"/>
                </a:solidFill>
                <a:latin typeface="Arial"/>
              </a:rPr>
              <a:t>      </a:t>
            </a: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Рептилии явились первым по настоящему наземным классом позвоночных животных.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.      К современным рептилиям относятся ящерицы, крокодилы, черепахи, змеи и гаттерия, а из ископаемых форм наиболее известны гигантские динозавры, жившие в мезозойскую эр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411280" y="620640"/>
            <a:ext cx="374508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latin typeface="Times New Roman"/>
              </a:rPr>
              <a:t>Рептили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  <p:transition>
    <p:pull dir="r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Насчитывается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четыре отрядов рептилий: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00 видов черепах ,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около 5500 чешуйчатых,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5 видов крокодилов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и 1 вид клювоголовых.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5405400"/>
            <a:ext cx="1944720" cy="1452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151 из 26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4797360"/>
            <a:ext cx="2419200" cy="1809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703520" cy="124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6021360"/>
            <a:ext cx="6480360" cy="566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У всех рептилий жесткая, сухая кожа, покрытая чешуей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дни виды рептилий живут на земле, другие на деревья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пресной и даже в соленой в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Рептилии  как и земноводные, откладывают яйца. Но земноводные, даже если они все время живут на суше, откладывают яйца в основном в воде или во влажной среде. А рептилии, даже если проводят большую часть жизни в воде и прочно связаны с ней, откладывают яйца только на суш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hecke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5734080"/>
            <a:ext cx="8229600" cy="792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В отличие от амфибий, личинки которых дышат жабрами и обычно живут в воде, рептилии дышат только легк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6040" cy="1109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51 из 26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4800" y="5048280"/>
            <a:ext cx="2419200" cy="180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092280"/>
            <a:ext cx="64990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пахи покрыты костным панцирем, верхняя часть которого называется карапакс, а нижняя - пластр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-360"/>
            <a:ext cx="5908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дленно ползающих черепах охраняет их толстый панцирь. У большинства черепах с ребрами и позвоночником сращены костные пластины панциря  И из-за  этого ребра неподвиж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6360" y="259560"/>
            <a:ext cx="63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еплых океанах встречаются морские змеи и черепах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hecker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559160" cy="1143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23640" y="259560"/>
            <a:ext cx="52740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змей ребра активно способствуют полз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58920" y="5373360"/>
            <a:ext cx="7496280" cy="9169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змей и некоторых ящериц языки длинные, раздвоенные, далеко выдвигающиеся изо рта. Это важные органы обоняния и других чувств. Многие змеи ядови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03280" y="5733720"/>
            <a:ext cx="5267160" cy="93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а и спина крокодилов  защищены от высыхания на солнце, твердыми костными пластинам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ЙМАН"/>
          <p:cNvPicPr/>
          <p:nvPr/>
        </p:nvPicPr>
        <p:blipFill>
          <a:blip r:embed="rId2"/>
          <a:stretch/>
        </p:blipFill>
        <p:spPr>
          <a:xfrm>
            <a:off x="0" y="3549600"/>
            <a:ext cx="2962440" cy="3308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133200"/>
            <a:ext cx="870588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птилии, хотя и не имеют постоянной температуры тела, меньше зависят от окружающей среды: их кожа покрыта защитными приспособлениями, им не  важна влажность воздуха, они не  боятся жары, сухости, прямых лучей солнц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024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У некоторых ящериц удлиненные ребра поддерживают веерообразные            перепонки, позволяющие им                                         планировать в воздух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5516640"/>
            <a:ext cx="8229600" cy="106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ие ящерицы прекрасно двигаются на своих стройных длинных ножках, а есть и такие, что при опасности бегут - и очень быстро - лишь на задних нога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414972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Амфибии делятся на несколько подотряд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Ambistomatoid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Cryptobranchoide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Mean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Proteidea,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56000" y="1197000"/>
            <a:ext cx="345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Times New Roman"/>
              </a:rPr>
              <a:t>Амфиби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Амфибии включают три отряда: безногие, хвост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и бесхвостые земноводные, имеют 25-30 семейств и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4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565272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По строению тела личинки земноводных близки к рыбам, а взрослые особи похожи на пресмыкающихся. У большинства земноводных тело голое, окраска покровительственная, хорошо маскирующая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2233440" cy="1311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570528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cc99ff"/>
                </a:solidFill>
                <a:latin typeface="Arial"/>
              </a:rPr>
              <a:t>Ядовитые виды имеют яркую, предупреждающую окраску. Глаза приспособлены к видению на большом расстоянии.  У большинства земноводных в коже также имеются серозные железы, секрет которых иногда очень токсичен и служит для защиты от врагов и различных микроорганиз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2232000" cy="18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5660640"/>
            <a:ext cx="8229600" cy="792360"/>
          </a:xfrm>
          <a:prstGeom prst="rect">
            <a:avLst/>
          </a:prstGeom>
          <a:gradFill rotWithShape="0">
            <a:gsLst>
              <a:gs pos="0">
                <a:srgbClr val="edfedd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9966ff"/>
                </a:solidFill>
                <a:latin typeface="Arial"/>
              </a:rPr>
              <a:t>Земноводные получают кислород не только через легкие, но и через ко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5084640"/>
            <a:ext cx="8447040" cy="144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ff6600"/>
                </a:solidFill>
                <a:latin typeface="Arial"/>
              </a:rPr>
              <a:t>Амфибии обитают на всех континентах, кроме Антаркти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i="1" lang="ru-RU" sz="1200" spc="-1" strike="noStrike">
                <a:solidFill>
                  <a:srgbClr val="ff6600"/>
                </a:solidFill>
                <a:latin typeface="Arial"/>
              </a:rPr>
              <a:t>Амфибии бывают: наземные и водные. Водные  хвостатые и бесхвостые, например лиопельмы и гладконоги, а в России — озерная лягушка и прудовая лягушка. Среди наземных широко представлены древесные обитатели — квакши, веслоногие лягушки, листолазы, древолазы, представители семейств жаб и узкоротых. Часть наземных амфибий ведет роющий образ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i="1" lang="ru-RU" sz="1200" spc="-1" strike="noStrike">
                <a:solidFill>
                  <a:srgbClr val="ff6600"/>
                </a:solidFill>
                <a:latin typeface="Arial"/>
              </a:rPr>
              <a:t>Земноводные впадают в спячку (до 10 месяцев) по всему ареалу обитания, за исключением тропиков, где в течение всего года сохраняется высокая температура и влажность, следовательно, и обилие пищ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5300640"/>
            <a:ext cx="8229600" cy="1224000"/>
          </a:xfrm>
          <a:prstGeom prst="rect">
            <a:avLst/>
          </a:prstGeom>
          <a:gradFill rotWithShape="0">
            <a:gsLst>
              <a:gs pos="0">
                <a:srgbClr val="fecef2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аземные виды, для которых главным ограничивающим фактором служит влажность, активны ночью. Они активны либо круглые сутки, либо днем, и основным ограничивающим фактором для них являются низкие температуры. Амфибиям свойственно чувство дома , постоянно удерживающее особей на определенной территории. Животные, перемещенные со своего места жительства, возвращаются обратно, преодолевая при этом расстояния до 800 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се амфибии питаются различными беспозвоночными (насекомыми, ракообразными, улитками, червями), а также мелкой рыбой, реагируя на движение. Некоторые наземные амфибии  способны ориентироваться по запах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96160" y="234936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1511280" cy="947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5707080"/>
            <a:ext cx="8964720" cy="961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Большинство земноводных не только безобидны, но и весьма полезны, поскольку уничтожают огромное количество различных вредителей. Жабы поедают вредящих растениям насекомых, улиток и слизней. Среди добычи земноводных немало насекомых, вредящих садам, огородам, полям, лесам и лугам. Поедают они и различных переносчиков и промежуточных хозяев паразитов: комаров, москитов, оводов, слепней и их личинок, а также моллюсков и черв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1904760" cy="133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Среди бесхвостых земноводных рекорды долголетия принадлежат жабам (средний срок жизни серой жабы — 36 лет). Долго живут  жерлянки и квакши (например, краснобрюхая жерлянка 20 лет, а обыкновенная квакша — 15). Другие бесхвостые амфибии живут в неволе меньше, 10-12 лет, а мелкие тропические лягушки — всего около 5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126400"/>
            <a:ext cx="806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Амфибиии первыми из позвоночных животных перешли от водного к водно-наземному образу жизни. Многие амфибии, являясь водными животными на стадии личинки, впоследствии становятся наземными. Земноводные возникли более 300 млн. лет назад. Их предками были древние кистеперые ры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52:03Z</dcterms:created>
  <dc:creator>Школа</dc:creator>
  <dc:description/>
  <dc:language>en-US</dc:language>
  <cp:lastModifiedBy>Школа</cp:lastModifiedBy>
  <dcterms:modified xsi:type="dcterms:W3CDTF">2009-09-12T03:59:10Z</dcterms:modified>
  <cp:revision>9</cp:revision>
  <dc:subject/>
  <dc:title>Слайд 1</dc:title>
</cp:coreProperties>
</file>