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4.gif" ContentType="image/gi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C5D-0239-4D75-979A-64DD2920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638-3E31-43B9-836D-B0C97ED7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AB2-8B91-40FA-81D7-F6B1B70A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E89-3FCE-499C-8EE9-E7F802CB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9493-7EA7-47C3-B95B-0863BBB9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E5AE-15F1-487C-A468-66706257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449C-22E1-49C7-B54D-64C27580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C84D-11D3-4BFD-946E-6559CBD5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D70B-3B78-43E5-8FD4-24D4C988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0C82-82F9-4CFC-9AFF-5BAEC6F2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093F-6D71-450C-86F5-44E3FF31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AE1-6D59-40C6-9AFB-34814642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71CA-CD4A-4649-BF42-ADAE7323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AE4A-4CE0-4861-8BB9-1C06491B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A82F-5BCA-460F-8DD7-5AFBA424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5FBE-A857-41B8-8233-C814E77A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A0B3-8804-4690-BF04-2704138F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1D2-C9C6-4CF3-A645-2C0DF105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607-A2FC-4D25-BE35-2BDBC1DA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50A-F528-4404-8F80-2DAD8616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172-6793-421D-957A-797A8BC9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1D6-ADB9-4751-AC02-F5FF21F4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EC40-B2CB-4B57-92D4-66A19904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BB8-FCDB-46F6-9490-7CF29E46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D392-16CC-4A2D-A478-57B983ED3A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CA26-0373-4E3E-B176-DDA015B529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8"/>
          <p:cNvSpPr txBox="1"/>
          <p:nvPr/>
        </p:nvSpPr>
        <p:spPr>
          <a:xfrm>
            <a:off x="539640" y="2143080"/>
            <a:ext cx="835344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шайники</a:t>
            </a:r>
            <a:endParaRPr b="0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33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Picture 9" descr="AG00628_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0" y="4142880"/>
            <a:ext cx="32004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 учитель би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Устанской СОШ Малышева Наталья Ю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214200" y="42861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змножение, темпы рос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ами, которые образует гри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гетативно- отламыванием кусочков таллома, затем произрастающих на новом мес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ыми образованиями, состоящими из клеток водоросли, формируются под верхней корой слоевища. Растут медленно 1-3 мм в г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642960" y="1357200"/>
            <a:ext cx="6500880" cy="278604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ифы гриба поглощают воду и растворенные в ней минеральные вещества, а водоросль, в которой имеется хлорофилл, образует благодаря фотосинтезу органические ве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стообит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1000080" y="2214720"/>
            <a:ext cx="2714760" cy="5713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н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5429160" y="2143080"/>
            <a:ext cx="2928960" cy="64296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сотун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6" name="Прямая со стрелкой 6"/>
          <p:cNvCxnSpPr/>
          <p:nvPr/>
        </p:nvCxnSpPr>
        <p:spPr>
          <a:xfrm flipH="1">
            <a:off x="2428560" y="1143000"/>
            <a:ext cx="929520" cy="100080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217" name="Прямая со стрелкой 8"/>
          <p:cNvCxnSpPr/>
          <p:nvPr/>
        </p:nvCxnSpPr>
        <p:spPr>
          <a:xfrm>
            <a:off x="5715000" y="1071720"/>
            <a:ext cx="929520" cy="100080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sp>
        <p:nvSpPr>
          <p:cNvPr id="218" name="Прямоугольник 9"/>
          <p:cNvSpPr/>
          <p:nvPr/>
        </p:nvSpPr>
        <p:spPr>
          <a:xfrm>
            <a:off x="928800" y="3286080"/>
            <a:ext cx="2928960" cy="2428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5500800" y="3214800"/>
            <a:ext cx="2786040" cy="25714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928800" y="3286080"/>
            <a:ext cx="3071880" cy="2500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3"/>
          <a:stretch/>
        </p:blipFill>
        <p:spPr>
          <a:xfrm>
            <a:off x="5143680" y="3214800"/>
            <a:ext cx="32144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кологическая ро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уют растительный пок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чиняют вред деревьям (в их талломе поселяются насекомые- вредител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ются пионерами в освоении безжизненных простран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вуют в химическом выветривании горных пор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икаторы чистоты возду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ют важную роль в биогеоценоз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менение лишайников человек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Скругленный прямоугольник 3"/>
          <p:cNvSpPr/>
          <p:nvPr/>
        </p:nvSpPr>
        <p:spPr>
          <a:xfrm>
            <a:off x="571680" y="3071880"/>
            <a:ext cx="2143080" cy="714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Скругленный прямоугольник 4"/>
          <p:cNvSpPr/>
          <p:nvPr/>
        </p:nvSpPr>
        <p:spPr>
          <a:xfrm>
            <a:off x="2214720" y="4786200"/>
            <a:ext cx="2571480" cy="7858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ние в пищу (Япо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Скругленный прямоугольник 5"/>
          <p:cNvSpPr/>
          <p:nvPr/>
        </p:nvSpPr>
        <p:spPr>
          <a:xfrm>
            <a:off x="6143760" y="4286160"/>
            <a:ext cx="2143080" cy="714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сит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Скругленный прямоугольник 6"/>
          <p:cNvSpPr/>
          <p:nvPr/>
        </p:nvSpPr>
        <p:spPr>
          <a:xfrm>
            <a:off x="4000680" y="3000240"/>
            <a:ext cx="2571480" cy="7858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фюмерная 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Стрелка вниз 7"/>
          <p:cNvSpPr/>
          <p:nvPr/>
        </p:nvSpPr>
        <p:spPr>
          <a:xfrm>
            <a:off x="1357200" y="1643040"/>
            <a:ext cx="500040" cy="135720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Стрелка вниз 8"/>
          <p:cNvSpPr/>
          <p:nvPr/>
        </p:nvSpPr>
        <p:spPr>
          <a:xfrm>
            <a:off x="6929280" y="1643040"/>
            <a:ext cx="500400" cy="257184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Стрелка вниз 9"/>
          <p:cNvSpPr/>
          <p:nvPr/>
        </p:nvSpPr>
        <p:spPr>
          <a:xfrm>
            <a:off x="3286080" y="1643040"/>
            <a:ext cx="428760" cy="314316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Стрелка вниз 10"/>
          <p:cNvSpPr/>
          <p:nvPr/>
        </p:nvSpPr>
        <p:spPr>
          <a:xfrm>
            <a:off x="5000760" y="1643040"/>
            <a:ext cx="428400" cy="12859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верим зн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йте определение термину лишайн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виды лишай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представителей лишай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питается лишайни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кажите строение лишай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растут лишайни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размножаются лишайни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а экологическая роль лишайни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ишайники- симбиотические организмы, тело (таллом) которых состоит из двух компонентов: автотрофного (водоросли) и гетеротрофного (гриб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троения лишайников как симбиотических организмов, состоящих из гриба и водорос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 учащихся с особенностями строения и жизнедеятельностью лишай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крыть приспособленность лишайников к различным условиям обитания, их роль в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должить формирование бережного отношения учащихся к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шайники- особая группа организмов, состоящая из гриба и водорослей, которые находятся в симбиотических взаимоотнош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5143680" y="37861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роение лишайн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2857320" cy="356256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6"/>
          <p:cNvSpPr/>
          <p:nvPr/>
        </p:nvSpPr>
        <p:spPr>
          <a:xfrm>
            <a:off x="5072040" y="2857680"/>
            <a:ext cx="3429000" cy="185724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-верхний корковый сл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-слой водорос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-сердцев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нижний корковый сл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-ризо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Прямая со стрелкой 8"/>
          <p:cNvCxnSpPr/>
          <p:nvPr/>
        </p:nvCxnSpPr>
        <p:spPr>
          <a:xfrm flipH="1" flipV="1">
            <a:off x="3714480" y="2499480"/>
            <a:ext cx="1643760" cy="71532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77" name="Прямая со стрелкой 10"/>
          <p:cNvCxnSpPr/>
          <p:nvPr/>
        </p:nvCxnSpPr>
        <p:spPr>
          <a:xfrm flipH="1" flipV="1">
            <a:off x="3714480" y="2999520"/>
            <a:ext cx="1929600" cy="50076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78" name="Прямая со стрелкой 12"/>
          <p:cNvCxnSpPr/>
          <p:nvPr/>
        </p:nvCxnSpPr>
        <p:spPr>
          <a:xfrm flipH="1" flipV="1">
            <a:off x="3714120" y="3785400"/>
            <a:ext cx="2215080" cy="252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79" name="Прямая со стрелкой 14"/>
          <p:cNvCxnSpPr/>
          <p:nvPr/>
        </p:nvCxnSpPr>
        <p:spPr>
          <a:xfrm flipH="1">
            <a:off x="3571200" y="4071960"/>
            <a:ext cx="1857960" cy="35784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80" name="Прямая со стрелкой 16"/>
          <p:cNvCxnSpPr/>
          <p:nvPr/>
        </p:nvCxnSpPr>
        <p:spPr>
          <a:xfrm flipH="1">
            <a:off x="3642840" y="4356720"/>
            <a:ext cx="2501280" cy="78660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ипы лишайни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3" name="Прямая со стрелкой 4"/>
          <p:cNvCxnSpPr/>
          <p:nvPr/>
        </p:nvCxnSpPr>
        <p:spPr>
          <a:xfrm flipH="1">
            <a:off x="1856880" y="1214280"/>
            <a:ext cx="929520" cy="92952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84" name="Прямая со стрелкой 6"/>
          <p:cNvCxnSpPr/>
          <p:nvPr/>
        </p:nvCxnSpPr>
        <p:spPr>
          <a:xfrm flipH="1">
            <a:off x="4570200" y="1143000"/>
            <a:ext cx="3600" cy="92952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85" name="Прямая со стрелкой 8"/>
          <p:cNvCxnSpPr/>
          <p:nvPr/>
        </p:nvCxnSpPr>
        <p:spPr>
          <a:xfrm>
            <a:off x="6500880" y="1143000"/>
            <a:ext cx="929520" cy="64332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sp>
        <p:nvSpPr>
          <p:cNvPr id="186" name="Прямоугольник 9"/>
          <p:cNvSpPr/>
          <p:nvPr/>
        </p:nvSpPr>
        <p:spPr>
          <a:xfrm>
            <a:off x="785880" y="2357280"/>
            <a:ext cx="1928880" cy="71460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кипные (корковы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10"/>
          <p:cNvSpPr/>
          <p:nvPr/>
        </p:nvSpPr>
        <p:spPr>
          <a:xfrm>
            <a:off x="3714840" y="2357280"/>
            <a:ext cx="1928880" cy="71460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стоватые (листовидны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6572160" y="2357280"/>
            <a:ext cx="1857600" cy="71460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стис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857160" y="3571920"/>
            <a:ext cx="1928880" cy="221436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500040" y="3524400"/>
            <a:ext cx="2643120" cy="211932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16"/>
          <p:cNvSpPr/>
          <p:nvPr/>
        </p:nvSpPr>
        <p:spPr>
          <a:xfrm>
            <a:off x="3714840" y="3571920"/>
            <a:ext cx="1928880" cy="207180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3"/>
          <a:stretch/>
        </p:blipFill>
        <p:spPr>
          <a:xfrm>
            <a:off x="3714840" y="3714840"/>
            <a:ext cx="1928880" cy="11430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8"/>
          <p:cNvSpPr/>
          <p:nvPr/>
        </p:nvSpPr>
        <p:spPr>
          <a:xfrm>
            <a:off x="6572160" y="3571920"/>
            <a:ext cx="1785960" cy="19288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4"/>
          <a:stretch/>
        </p:blipFill>
        <p:spPr>
          <a:xfrm>
            <a:off x="6143760" y="350028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кипные-бацид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238400" y="2198520"/>
            <a:ext cx="66672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истоваты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мел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сантор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85880" y="2714760"/>
            <a:ext cx="3286080" cy="2000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4857840" y="2500200"/>
            <a:ext cx="27604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стисты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не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ге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4808520" y="2754360"/>
            <a:ext cx="3714840" cy="2790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642960" y="2246400"/>
            <a:ext cx="300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8:06:45Z</dcterms:created>
  <dc:creator>1</dc:creator>
  <dc:description/>
  <dc:language>en-US</dc:language>
  <cp:lastModifiedBy>Наталья</cp:lastModifiedBy>
  <dcterms:modified xsi:type="dcterms:W3CDTF">2012-01-30T17:11:34Z</dcterms:modified>
  <cp:revision>58</cp:revision>
  <dc:subject/>
  <dc:title>Слайд 1</dc:title>
</cp:coreProperties>
</file>