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6C7-AA43-4EFA-A0A4-1114B050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547-0CD6-43C0-96C2-D27C49C6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1ADCB-6420-4A6E-989D-08CB6C8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3E472-2B65-4B61-AA8F-4133BF2F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DC4C-2E81-42B4-A944-F506D6A7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93FDF-51E4-405C-8D41-B6FD495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3FCC-81BA-49E1-8EED-02F46B4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F0C2A-488D-4FCB-9DB7-674F31D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3F42A-7774-492E-B2FC-DA216D29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B8331-592C-4DFE-B44A-7FB8B543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121C-97ED-42D8-B986-F169E9DE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471F-0DE8-4568-9E2C-4DD02928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2AA-B093-49FD-817C-B8AB0C81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40E96-02FF-4EC8-916E-6026E0DB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93A1C-ABCB-423E-9A1E-07C1D8B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1EF4D-3273-409A-89E3-F0356790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C118-F214-46B9-8AAA-DBB26D8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5D327-1BD9-478B-B5F2-6C0A4BC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03F0D-BE9C-4BEC-A3C0-F8642FA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FC2E9-7F7D-4604-83F9-072A3FF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1C8AF-1F2D-4EAE-9AE6-5B31C24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94975-23A3-40C8-83BE-D8A7ED2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F6B91-2E16-49C7-9111-D1A5F851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535-2B5F-4821-9490-C55DA9F3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79944-C1A6-4B65-A58A-68D4B24A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31AD-66BF-4B24-94C2-6AB42619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A28F-FFBC-4AD2-981E-D1F56BF4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6C9B-2AD7-4D01-AD16-4E509553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B911-E442-4966-A3CE-F4FF3E2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3E2-83E4-4B71-BFF3-D283DEB8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1449-8D38-4847-9D4E-ED4EAA6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7035-801D-425A-BDC0-3FCB50D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ACE-7A21-45BC-AC6D-9AD4027F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4743-8CD4-442F-A380-E8592BC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35F-DE7F-42B7-8765-A371208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1623-B458-46B4-B221-7D2E0B73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8B1D-5569-4F0E-A683-506651B7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C93-D97B-4B86-912B-3CF55A77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DAD1-F796-4906-A888-D267A674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778B-C04E-492D-9301-5D0EB14D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2375-D3D1-4695-B452-08C78D3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1368-E0BE-4973-843B-FC325EB6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5D54-EF77-464A-81A3-0A3BE8F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E27-5797-4399-B7BF-1305CD8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CFD1-DD2D-4B1A-8EFA-2387D12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65D7-8ED5-44CA-B5D9-2DDA559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9BEE-7646-4420-A8AB-0481942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52CD-511A-4028-B6AB-9367E08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1C1B-1AB0-479B-BCE5-F98CDD58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6918-F207-4927-B1A2-0497841A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47D5-E6EE-47F7-BE67-67E09B5B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A7D6-0211-4AC6-8998-9A0DC4AA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28E8F-7DB2-4A2D-9971-7727BF7B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BFCD-73B5-49E7-9B90-A33F332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E98-5219-4267-8246-217FA149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C483-700E-4EBF-923C-623EFF0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FCE1-FC4D-48F0-AD60-FCCBAE32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EE3E-527D-4BFC-9671-A063B1FD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456C-8CCA-438D-8972-046DA364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AB0C-E664-4AB4-92A8-70AF852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EEFD-630F-4728-82E4-FF01E69F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670F5-2FAD-4DBE-B273-823091C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C575-4993-43FC-8AA0-8AA2A04C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0D9C-D811-417F-ADAC-844C259F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9C1D-D75B-41A1-98BD-2F034C45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193-2DBD-4DD0-9BF5-20FD331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E984A-F9A1-474E-B310-EB366A2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A86D-510E-4431-966B-9B891F05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6706-BFB1-41DF-9D95-0DCFB4CE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45B7-71CE-4E64-9EE1-7DBCFAD1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F272-4389-47DF-86ED-78CB93D3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B8C9-7E2A-4E5D-BF71-7EC4B34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D311-C5C9-497E-9733-FB3C796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DEE1-3343-4261-97B5-115012D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B416-64F0-4342-9B84-6DC580FE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C5BE-3548-431F-9FD6-E8185D36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1C7-4986-4BFD-A367-9C6F3024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8BC8-ECCD-44CC-8017-B2993B99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2BF4-8340-486C-9199-72C9177E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323A-C9A2-4810-8D76-B9448D0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1FEC-E0A0-452A-A947-CB6573BD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4C6F-6A34-424C-962A-BF3F8547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F93E-8B25-4BA4-88ED-73881F7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25E5-695A-499A-A8A2-0DC8B11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2485-171B-4F55-9B4E-8305CDF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3978A-47C1-4176-ACE5-42ACAC5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692A-E4A4-4895-A652-389B7B99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DF1-D931-40B7-A201-C34C91B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3576-EC68-4BF0-829A-67553D5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B385A-15DF-431A-A25E-2701B9A4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D0E1-5F0D-401F-B66A-2878C888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A9C8-82DD-4DA9-914D-2BC9DCC6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48F9-C35D-491D-8753-A0F5B5D8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10ABE-2943-4EF9-B922-0790F6A5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ED61-B7BD-41F7-ACAF-A120AE53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660B-CD20-485F-8017-B7C897CE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B3CA3-12DB-4EA0-AA34-0DD07633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06C4-072B-4F6B-AF0C-A1F531E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495-CA5B-4251-A88C-F9FDDBB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FB07-312D-4003-BBAC-C9989D7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99DFB-B96B-4153-9BDA-B92748DA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CB480-FE68-4F46-9EF5-1D2B4D08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805DF-2C56-496B-8BEA-4CE20FAF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44B9-3BB6-4BF8-91A6-E466FCA8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C7A67-A605-45D8-BCAB-05877A3F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20C4-DA39-406B-A53F-CD1D2E6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3DEE-824B-4D0A-8349-314826D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E8B0-69E0-4F8C-930D-B672F10D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8BACB-8FA5-4D03-9921-2B12D77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9B1-3761-47E8-8889-D3C0F64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7C88-E48C-4F8F-9266-48DE767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30CDF-33F0-4C4F-B66F-CEFFB51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0B9E-75D8-48F4-8B1D-2471068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C136-1BC9-4AC3-A989-7134172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2D64C-12BF-45B1-9602-05318FD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96C60-D640-48C2-AFEE-7B03BE71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306E9-E744-4010-B487-369AC268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8B4E7-E5C0-44B1-AADE-1DA0BA27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FD456-F37C-4CCD-8C51-3F4DEF78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77BBB-CFC3-4065-8958-FB6AEFA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AD4-C2E3-47A3-8BDA-B38D8E6B0D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BB23-5820-496E-862B-9FC0BE8D8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F7A-66F7-4623-B516-C044FEF754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7899-BA54-490F-B21F-7D66A6A34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3A2-F908-496C-A60F-8FAB55FB6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1BC-7779-4B6B-88DE-F5971B3D4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8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8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0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2124-9821-4C73-AFF9-8084E37AE5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F32C-49D4-46FD-AB78-267E3DD5A4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AB25-70F2-487D-9EC1-E408C1B0D4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8653-E63F-4C2A-98E8-F9CA7F837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 txBox="1"/>
          <p:nvPr/>
        </p:nvSpPr>
        <p:spPr>
          <a:xfrm>
            <a:off x="971640" y="836640"/>
            <a:ext cx="7777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пьютерные игры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ред или польз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99d5"/>
                </a:solidFill>
                <a:latin typeface="Comic Sans MS"/>
              </a:rPr>
              <a:t>Спасибо</a:t>
            </a:r>
            <a:r>
              <a:rPr b="1" lang="en-US" sz="9600" spc="-1" strike="noStrike">
                <a:solidFill>
                  <a:srgbClr val="e9ddcd"/>
                </a:solidFill>
                <a:latin typeface="Comic Sans MS"/>
              </a:rPr>
              <a:t> </a:t>
            </a:r>
            <a:r>
              <a:rPr b="1" lang="en-US" sz="9600" spc="-1" strike="noStrike">
                <a:solidFill>
                  <a:srgbClr val="1399d5"/>
                </a:solidFill>
                <a:latin typeface="Comic Sans MS"/>
              </a:rPr>
              <a:t>за внимание!</a:t>
            </a:r>
            <a:endParaRPr b="0" lang="en-US" sz="96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324000" y="305280"/>
            <a:ext cx="88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кета для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бите ли вы играть в компьютерные иг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Какие игры вам больше нрав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стрелялки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стратегия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развивающие, обучающ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гон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) приключ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Вы каждый день играете в компьютерные иг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Сколько времени в день вы проводите за компьютер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Ограничивают ли родители время, проводимое за компьютерными игр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920" y="1422360"/>
          <a:ext cx="8877240" cy="487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" y="1422360"/>
                    <a:ext cx="887724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юбите ли вы играть в компьютерные игры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кие игры вам нравятся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0" y="1341360"/>
          <a:ext cx="896472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8964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граничивают ли родители время, проводимое за компьютером?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0" y="1484280"/>
          <a:ext cx="896472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8964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 txBox="1"/>
          <p:nvPr/>
        </p:nvSpPr>
        <p:spPr>
          <a:xfrm>
            <a:off x="971640" y="620640"/>
            <a:ext cx="763272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399d5"/>
                    </a:gs>
                    <a:gs pos="100000">
                      <a:srgbClr val="99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гиена зрения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399d5"/>
                  </a:gs>
                  <a:gs pos="100000">
                    <a:srgbClr val="99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0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49:59Z</dcterms:created>
  <dc:creator>user</dc:creator>
  <dc:description/>
  <dc:language>en-US</dc:language>
  <cp:lastModifiedBy>Постоногова Г В</cp:lastModifiedBy>
  <dcterms:modified xsi:type="dcterms:W3CDTF">2012-01-30T01:24:12Z</dcterms:modified>
  <cp:revision>7</cp:revision>
  <dc:subject/>
  <dc:title>Слайд 1</dc:title>
</cp:coreProperties>
</file>