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3D2-A2AA-417F-ADA6-706F9FCB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CC3-1E8D-485C-AE07-77E3312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13E-42EE-48A6-B523-1E0EF8F4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A81-2CED-41E3-9033-C3F0ED4B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79A-7671-47CD-9F23-4593C96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5A8-D54E-40D7-B59C-C0767E2A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E0E-F2F5-412B-8EB2-E40EC257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1C5-DD87-4B6A-9D7A-17D59864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33C-108A-43DD-9C8F-B8199215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DBD-8F49-4136-AA3B-A4EB0B5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9D3-F195-4C7F-9FCC-1148B91D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7E4-A688-4014-8802-6BA2FBA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F3D-A294-4836-8E6A-391DD1DF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&#1054;&#1073;&#1088;&#1072;&#1079;&#1094;&#1099;%20&#1088;&#1072;&#1073;&#1086;&#1090;&#1099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Мир Раскольник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ория человека-вселен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у выполнили учащиеся 10 «А» класса Павлова Наталья, Динейкина Екатерина,      Дубинин Дмит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4869000"/>
            <a:ext cx="2303280" cy="17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716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Schoolbook"/>
              </a:rPr>
              <a:t>Катерина Иван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05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«Надорвалась кляч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35640" y="1960560"/>
            <a:ext cx="3532320" cy="489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0383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71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Schoolbook"/>
              </a:rPr>
              <a:t>Письмоводи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Это был какой-то особенно взъерошенный человек с неподвижною идеей во взгля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19640" y="5300640"/>
            <a:ext cx="1904760" cy="117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entury Schoolbook"/>
              </a:rPr>
              <a:t>Выво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брать воедино эти осколки, внести в хаос порядок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дача Раскольников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Только так он сможет вернуть свою душу и разум, стать полноценным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40360" y="4938840"/>
            <a:ext cx="2303640" cy="19191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/>
          </p:cNvPr>
          <p:cNvSpPr/>
          <p:nvPr/>
        </p:nvSpPr>
        <p:spPr>
          <a:xfrm>
            <a:off x="1332000" y="5516640"/>
            <a:ext cx="1727280" cy="86508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532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ипотез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Мы считаем, что Раскольников – это  человек-вселенная, в которой царит гармония. Но к началу действия романа вселенная взрывается на множество осколков,   сформировав мир, в котором живет Родион. Каждый осколок – это личность, отображающая ту или иную часть души Раскольни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ef6f1"/>
                </a:solidFill>
                <a:uFillTx/>
                <a:latin typeface="Arial"/>
              </a:rPr>
              <a:t>Оско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155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Мармела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3817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Порфирий Петр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63817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Л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3284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Со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Кате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63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</a:rPr>
              <a:t>Письм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716f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4681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Schoolbook"/>
              </a:rPr>
              <a:t>Мармела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5040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Символизирует собой тупик, безысход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46720" y="620640"/>
            <a:ext cx="3618000" cy="468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0920" y="5373720"/>
            <a:ext cx="1905120" cy="11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716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Schoolbook"/>
              </a:rPr>
              <a:t>Порфирий</a:t>
            </a:r>
            <a:r>
              <a:rPr b="0" lang="en-US" sz="4800" spc="-1" strike="noStrike">
                <a:solidFill>
                  <a:srgbClr val="6600cc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6600cc"/>
                </a:solidFill>
                <a:latin typeface="Century Schoolbook"/>
              </a:rPr>
              <a:t>Петро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5280" y="2060640"/>
            <a:ext cx="5508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Змей-искуситель, идея земной справедливости, идея возмездия, но не справедл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3476520" cy="511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038320" cy="187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entury Schoolbook"/>
              </a:rPr>
              <a:t>Луж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97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Воплощение теории «кафтанов»- благодеяние, жест милостивого «наполеончика». Являет собой подлеца «по убеждению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64000" y="981000"/>
            <a:ext cx="3638880" cy="50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5686560"/>
            <a:ext cx="1905120" cy="117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716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64436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cc0066"/>
                </a:solidFill>
                <a:latin typeface="Century Schoolbook"/>
              </a:rPr>
              <a:t>С</a:t>
            </a:r>
            <a:r>
              <a:rPr b="1" lang="en-US" sz="4400" spc="-1" strike="noStrike">
                <a:solidFill>
                  <a:srgbClr val="cc0066"/>
                </a:solidFill>
                <a:latin typeface="Century Schoolbook"/>
              </a:rPr>
              <a:t>видригай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720" y="1557000"/>
            <a:ext cx="4859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Тонкий реалис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которого диалектика не различения добра и зла довела до смертельной ску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211640" cy="475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105680" y="4984920"/>
            <a:ext cx="20383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716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Schoolbook"/>
              </a:rPr>
              <a:t>Со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0" y="2204640"/>
            <a:ext cx="504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Является символом бесконечн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нерассуждающей добр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097080" cy="518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59640" y="4869000"/>
            <a:ext cx="1904760" cy="11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40:25Z</dcterms:created>
  <dc:creator>Nightmare</dc:creator>
  <dc:description/>
  <dc:language>en-US</dc:language>
  <cp:lastModifiedBy>Юля</cp:lastModifiedBy>
  <dcterms:modified xsi:type="dcterms:W3CDTF">2011-02-17T02:19:40Z</dcterms:modified>
  <cp:revision>26</cp:revision>
  <dc:subject/>
  <dc:title>Мир Раскольникова</dc:title>
</cp:coreProperties>
</file>