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A84-3C90-440B-811C-564189DE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861-14B3-420C-A017-7571225A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43B-6E6F-47A9-A198-3052C141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B95-05B6-4C66-98BC-54CFB731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9AD1-D8F0-4338-B760-5DB3D423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802A-F79E-4BC8-A062-8C09940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B8BD-E436-4277-B4B2-6F1E0C58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FF35-5F17-4B57-958F-68D7606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D85E-AAD2-4315-9F6E-1F5E465F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9BC-3469-4522-96C2-37AB522B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40FE-3BB2-4A9E-81C6-610C140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18C-CDEE-4518-B8C8-22B2E5E2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7420-7939-4A9E-AFA8-33D7746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347-66F5-42C5-8806-A7197DEC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EB9B-A6FE-4020-8C3F-B200846C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C048-F9B2-4D28-8480-D2C2D6FC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2790-6DF9-419B-A4C9-1A522DF6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9F4-91E1-49E1-A60B-D3841A32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9B8-FA87-49FC-87C4-FBBD4C50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505-60DA-4BB3-AA96-E301F400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F56-4C01-47B4-90DC-35F7064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DAA-4FDE-4717-B45F-BA77B2EE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089-EB56-4B38-986E-64EEC47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942-4B73-4372-A3BA-7DB0C9F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50000">
                  <a:srgbClr val="4f4f4f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3A86-571F-4084-BEA0-9A89C17C10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50000">
                  <a:srgbClr val="4f4f4f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8b088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b088"/>
                  </a:gs>
                  <a:gs pos="100000">
                    <a:srgbClr val="2929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C589-3326-4519-9E2B-88CA937E96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7c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7c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«Сложение и вычитание многочленов»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240" y="3203280"/>
            <a:ext cx="694548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Урок - дидактическая игр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 клас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09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96472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ифический персонаж с головой быка и телом человека - минотавр. Существо с головой человека и телом коня – это кентавр. Сфинкс – это персонаж, имеющий голову человека, тело льва и крылья птицы. Мифологическое существо с огнедышащей львиной пастью, туловищем козы и хвостом дракона – это химера. Ше´ду – крылатый бык с человеческим лицом и пятью ног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82600" y="765000"/>
            <a:ext cx="6481800" cy="388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323-2546-4805-AB5D-295B79E58ECC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3). Запишите в клетки каждого квадрата такие выражения, чтобы их сумма в каждом столбце, каждой строке и каждой диагонали была равна выражению, записанному в треугольнике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17560" y="3357720"/>
          <a:ext cx="3312720" cy="2780640"/>
        </p:xfrm>
        <a:graphic>
          <a:graphicData uri="http://schemas.openxmlformats.org/drawingml/2006/table">
            <a:tbl>
              <a:tblPr/>
              <a:tblGrid>
                <a:gridCol w="1104120"/>
                <a:gridCol w="1104480"/>
                <a:gridCol w="1104120"/>
              </a:tblGrid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- b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806400" y="1733400"/>
            <a:ext cx="3313080" cy="1584360"/>
          </a:xfrm>
          <a:prstGeom prst="flowChartExtra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1200" y="1724040"/>
            <a:ext cx="3313080" cy="1584360"/>
          </a:xfrm>
          <a:prstGeom prst="flowChartExtra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935600" y="3357720"/>
          <a:ext cx="3297240" cy="2784240"/>
        </p:xfrm>
        <a:graphic>
          <a:graphicData uri="http://schemas.openxmlformats.org/drawingml/2006/table">
            <a:tbl>
              <a:tblPr/>
              <a:tblGrid>
                <a:gridCol w="1098360"/>
                <a:gridCol w="1100160"/>
                <a:gridCol w="109872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x-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x-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3B7-156E-402C-98F2-8F4B1A750580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2913120"/>
          <a:ext cx="3887280" cy="3252240"/>
        </p:xfrm>
        <a:graphic>
          <a:graphicData uri="http://schemas.openxmlformats.org/drawingml/2006/table">
            <a:tbl>
              <a:tblPr/>
              <a:tblGrid>
                <a:gridCol w="1296360"/>
                <a:gridCol w="1294560"/>
                <a:gridCol w="1296360"/>
              </a:tblGrid>
              <a:tr h="113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- b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 -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a-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a-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+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1225440"/>
            <a:ext cx="3887640" cy="1627200"/>
          </a:xfrm>
          <a:prstGeom prst="flowChartExtra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3280" y="1197000"/>
            <a:ext cx="3745080" cy="1655640"/>
          </a:xfrm>
          <a:prstGeom prst="flowChartExtra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622760" y="2924280"/>
          <a:ext cx="3782880" cy="3252600"/>
        </p:xfrm>
        <a:graphic>
          <a:graphicData uri="http://schemas.openxmlformats.org/drawingml/2006/table">
            <a:tbl>
              <a:tblPr/>
              <a:tblGrid>
                <a:gridCol w="1260360"/>
                <a:gridCol w="1262160"/>
                <a:gridCol w="126036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x-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x-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x+2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3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-2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2x+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+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5B7-D971-4307-AA69-891EB1782DD7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504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4). а). В свободные части «паутины» запишите такие одночлены, чтобы сумма выражений по каждому сектору была равна нулю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73200" y="101448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9F5-5C06-414A-B6D8-31457A442623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б). В свободные кружки запишите буквы, соответствующие в таблице найденным одночленам: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03040" y="1417680"/>
          <a:ext cx="8647200" cy="1726920"/>
        </p:xfrm>
        <a:graphic>
          <a:graphicData uri="http://schemas.openxmlformats.org/drawingml/2006/table">
            <a:tbl>
              <a:tblPr/>
              <a:tblGrid>
                <a:gridCol w="862200"/>
                <a:gridCol w="622440"/>
                <a:gridCol w="776160"/>
                <a:gridCol w="777960"/>
                <a:gridCol w="777600"/>
                <a:gridCol w="933480"/>
                <a:gridCol w="932040"/>
                <a:gridCol w="1089000"/>
                <a:gridCol w="931680"/>
                <a:gridCol w="94464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3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3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xy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3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3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3xy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324000" y="355644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в). Используя все имеющиеся на рисунке буквы, прочитайте имя мыслителя. (С какой буквы начинать чтение – догадайтесь сами.) </a:t>
            </a:r>
            <a:r>
              <a:rPr b="1" i="1" lang="en-US" sz="1800" spc="-1" strike="noStrike">
                <a:solidFill>
                  <a:srgbClr val="99ccff"/>
                </a:solidFill>
                <a:latin typeface="Arial"/>
              </a:rPr>
              <a:t>Этому философу принадлежит высказывание</a:t>
            </a: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508640"/>
            <a:ext cx="8064360" cy="1873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4941720"/>
            <a:ext cx="741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сность – главное достоинство речи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869-9EFA-461A-AC86-3CFA98F84A5B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Аристотел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384 – 322 г. до н.э.) – греческий философ, историк, географ, биолог, физик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здал науку о погоде – метеорологи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200400" cy="43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188-3366-47F3-94EE-074C13313B8F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Ваше мнение об уроке: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17640" y="2433600"/>
            <a:ext cx="1936800" cy="178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105600" y="245124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492360" y="2448000"/>
            <a:ext cx="1989360" cy="17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649-50EC-4C43-8CA6-CFF7B07B44A7}" type="slidenum">
              <a:t>16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Организационный момен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чащиеся садятся по командам (5-6 человек в каждой команде, парты составляются соответствующим образом). Каждая команда придумывает себе название и выбирает капита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Устная работа. Актуализация, фронтальная проверка знаний по тем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чащиеся повторяют определение многочлена стандартного вида, правила сложения и вычитания многочлен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ешение зада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ждой команде предстоит решить 4 задачи, каждая оценивается в 5 баллов. Команда, которая быстрее остальных справляется с задачей, получает дополнительно 3 балла. Задачи представлены в виде слайдов, а также у каждой команды имеются на столах экземпляры в печатном виде,  где учащиеся должны записать решения и ответ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A26-BF35-4CEB-BB9C-3266775D104A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Arial"/>
              </a:rPr>
              <a:t>1). Представьте многочлен в стандартном виде и заполните таблицу буквами в соответствии с найденными ответами: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31640" y="1484280"/>
            <a:ext cx="734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3a – 5ab – 3ab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ab –  5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– 8ba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         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ab  –   2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–  6ba + 5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+ 0,6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 – 5a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+ 3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 – 8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– 2b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4a · ba + 2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 + 0,2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2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+ 5a · 0,2a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4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· 0,5b + 2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                                   ;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468360" y="1484280"/>
            <a:ext cx="86688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19B-AA44-4766-AB98-B2CB3C418B77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14716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Заполните таблицу буквами в соответствии с найденными ответами: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28640"/>
          <a:ext cx="6778800" cy="4900680"/>
        </p:xfrm>
        <a:graphic>
          <a:graphicData uri="http://schemas.openxmlformats.org/drawingml/2006/table">
            <a:tbl>
              <a:tblPr/>
              <a:tblGrid>
                <a:gridCol w="5168880"/>
                <a:gridCol w="160992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1,8 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2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 – 13ab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–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ab – 5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+ 3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+ 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a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,4b</a:t>
                      </a:r>
                      <a:r>
                        <a:rPr b="1" lang="en-US" sz="40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a – 8ab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BB8-5B77-46F2-8A41-4471826E1718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8760"/>
            <a:ext cx="7931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92000" y="1267920"/>
            <a:ext cx="5327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Ахилле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Это герой древнегреческой мифологии, участник Троянской вой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Какое крылатое выражение связано с именем этого героя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2925720" cy="434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A54-FF5F-487A-962A-6670068131CF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8760"/>
            <a:ext cx="7931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48000" y="1267920"/>
            <a:ext cx="5472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ть Ахиллеса, Фетида, окунула младенца в воды подземной реки, делающие человека неуязвимым. При этом погружении она держала Ахиллеса за пятку, которая осталась сухой и, следовательно, уязвимой. Во время Троянской войны стрела врага попала Ахиллесу в пятку, в результате чего он и ум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ражение «Ахиллесова пята» в переносном смысле означает «слабое, уязвимое место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2925720" cy="434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282-3FB1-401E-804E-C42774ABDE03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ff"/>
                </a:solidFill>
                <a:latin typeface="Arial"/>
              </a:rPr>
              <a:t>2).  Облик некоторых мифических персонажей состоит из головы и туловища, взятых от разных существ. Выполните сложение многочленов. Используя найденные ответы и данные таблицы, узнайте, как выглядели эти существа.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вал символически изображает голову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рямоугольник символически изображает туловищ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2133720"/>
            <a:ext cx="2448000" cy="1441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4437000"/>
            <a:ext cx="2735280" cy="1368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9FB-4033-4965-8185-EA83FD8A8AAE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к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ловек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конь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                    =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в                коз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                    =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                       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ловек          лев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тиц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               +               =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           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49360"/>
            <a:ext cx="2448000" cy="79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549360"/>
            <a:ext cx="237492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3x</a:t>
            </a:r>
            <a:r>
              <a:rPr b="1" lang="ru-RU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y – 2 x y</a:t>
            </a:r>
            <a:r>
              <a:rPr b="1" lang="ru-RU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2000" y="6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7x y</a:t>
            </a:r>
            <a:r>
              <a:rPr b="1" lang="ru-RU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– 5 x</a:t>
            </a:r>
            <a:r>
              <a:rPr b="1" lang="ru-RU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060640"/>
            <a:ext cx="237492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3x</a:t>
            </a:r>
            <a:r>
              <a:rPr b="1" lang="ru-RU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y – 2 x y</a:t>
            </a:r>
            <a:r>
              <a:rPr b="1" lang="ru-RU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2060640"/>
            <a:ext cx="244944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2133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 – xy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573360"/>
            <a:ext cx="2374920" cy="935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92320" y="3598920"/>
            <a:ext cx="2448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716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 – 2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5084640"/>
            <a:ext cx="2232000" cy="935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 –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y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5157720"/>
            <a:ext cx="18018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y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5157720"/>
            <a:ext cx="17305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69A-315A-4473-AD4A-2035A811E2F3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88"/>
            </a:gs>
            <a:gs pos="100000">
              <a:srgbClr val="29292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4360" y="1052640"/>
          <a:ext cx="7777080" cy="520380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Код ответа</a:t>
                      </a: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Название мифического персонажа</a:t>
                      </a: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1" lang="ru-RU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ентавр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инотавр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финк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имер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Ше´ду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512-6D9E-4637-914C-2DF089E3E804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1:53:07Z</dcterms:created>
  <dc:creator>LS</dc:creator>
  <dc:description/>
  <dc:language>en-US</dc:language>
  <cp:lastModifiedBy>LS</cp:lastModifiedBy>
  <dcterms:modified xsi:type="dcterms:W3CDTF">2012-01-30T07:44:50Z</dcterms:modified>
  <cp:revision>25</cp:revision>
  <dc:subject/>
  <dc:title>Слайд 1</dc:title>
</cp:coreProperties>
</file>