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FEF4-384D-4BD7-A473-BBFD38857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697536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397240" y="4435200"/>
            <a:ext cx="697536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79F4-44DD-48D1-BE51-0B3C922B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71680" y="197136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397240" y="443520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71680" y="443520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C41C-4A80-43C9-A74C-A577E03C5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224568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55600" y="1971360"/>
            <a:ext cx="224568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113960" y="1971360"/>
            <a:ext cx="224568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397240" y="4435200"/>
            <a:ext cx="224568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755600" y="4435200"/>
            <a:ext cx="224568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113960" y="4435200"/>
            <a:ext cx="224568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871A-EFB8-4418-956E-502DFB8A8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078B-CA5E-41F6-B5AB-980681998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397240" y="1971360"/>
            <a:ext cx="697536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876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DB19-BC04-4A9A-9902-362A2017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697536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5E0C-8A47-45D1-AF40-B853615A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340380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71680" y="1971360"/>
            <a:ext cx="340380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CB12-BA01-4FF5-94F4-993CC061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E42C4-CF1B-493A-8713-ECD3EF1F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417760" y="1131840"/>
            <a:ext cx="67896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876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2A0D-96BE-4EE6-8C4E-C75B2C05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1680" y="1971360"/>
            <a:ext cx="340380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397240" y="443520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8839-BD4C-4549-BBD7-6A07F3F7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397240" y="1971360"/>
            <a:ext cx="697536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876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C5FF-F5DF-4354-B116-72BA3EDA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340380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71680" y="197136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71680" y="443520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2296-ABEC-4B5E-857E-8C4E3772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71680" y="197136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397240" y="4435200"/>
            <a:ext cx="697536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5E9F3-7C09-4933-B67B-C9FFE7C3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697536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397240" y="4435200"/>
            <a:ext cx="697536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34F0-B2F4-48C9-89B5-BCA736B1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71680" y="197136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397240" y="443520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71680" y="443520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8507-15CE-44E6-BDC0-EA061F767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224568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5600" y="1971360"/>
            <a:ext cx="224568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113960" y="1971360"/>
            <a:ext cx="224568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397240" y="4435200"/>
            <a:ext cx="224568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755600" y="4435200"/>
            <a:ext cx="224568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113960" y="4435200"/>
            <a:ext cx="224568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30BC-2EC2-45AF-82D6-7DBD3CBC1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697536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CD7F-D2B0-4FA7-BDFD-A6B3983C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340380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71680" y="1971360"/>
            <a:ext cx="340380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E3CB-5529-49C2-B25E-4012F5F5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9E4C-5E5B-436A-A4AC-76A919DF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417760" y="1131840"/>
            <a:ext cx="67896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876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C622-15A3-4A15-8B87-F7812D68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71680" y="1971360"/>
            <a:ext cx="340380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397240" y="443520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75F2-F8EB-46B0-A2A8-6EB78129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340380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71680" y="197136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71680" y="443520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A95F-226E-421F-94EB-36BD23F7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71680" y="197136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397240" y="4435200"/>
            <a:ext cx="697536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8AAD-454B-45F1-BA1E-E18624A2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1f4ca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97240" y="1971360"/>
            <a:ext cx="697536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225360" indent="-225360"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25360"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41360" indent="-253800">
              <a:spcAft>
                <a:spcPts val="876"/>
              </a:spcAft>
              <a:buClr>
                <a:srgbClr val="000000"/>
              </a:buClr>
              <a:buFont typeface="45 Helvetica Light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82720" indent="-253800">
              <a:spcAft>
                <a:spcPts val="876"/>
              </a:spcAft>
              <a:buClr>
                <a:srgbClr val="000000"/>
              </a:buClr>
              <a:buFont typeface="45 Helvetica Light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92480" indent="-254160">
              <a:spcAft>
                <a:spcPts val="876"/>
              </a:spcAft>
              <a:buClr>
                <a:srgbClr val="000000"/>
              </a:buClr>
              <a:buFont typeface="45 Helvetica Light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292480" indent="-254160">
              <a:spcAft>
                <a:spcPts val="876"/>
              </a:spcAft>
              <a:buClr>
                <a:srgbClr val="000000"/>
              </a:buClr>
              <a:buFont typeface="45 Helvetica Light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292480" indent="-254160">
              <a:spcAft>
                <a:spcPts val="876"/>
              </a:spcAft>
              <a:buClr>
                <a:srgbClr val="000000"/>
              </a:buClr>
              <a:buFont typeface="45 Helvetica Light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4E7793E-1C5B-4877-A042-1E546805481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87020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1f4ca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61760" y="708660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29000" y="708660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520" y="708660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D006C6F-0489-41A4-A519-649601F0E8D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0" t="84" r="0" b="0"/>
          <a:stretch/>
        </p:blipFill>
        <p:spPr>
          <a:xfrm>
            <a:off x="228600" y="228600"/>
            <a:ext cx="18716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/../evaluation_tools/kriterii_ocenki_presentation.doc" TargetMode="External"/><Relationship Id="rId2" Type="http://schemas.openxmlformats.org/officeDocument/2006/relationships/hyperlink" Target="file:///&#1054;&#1073;&#1088;&#1072;&#1079;&#1094;&#1099;%20&#1088;&#1072;&#1073;&#1086;&#1090;&#1099;.ppt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267680" y="2301840"/>
            <a:ext cx="2790720" cy="44499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436840" y="501480"/>
            <a:ext cx="72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45 Helvetica Light"/>
              </a:rPr>
              <a:t>Межшкольный методический цент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76480" y="1509840"/>
            <a:ext cx="576108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45 Helvetica Light"/>
              </a:rPr>
              <a:t>Учебный проект</a:t>
            </a:r>
            <a:r>
              <a:rPr b="1" lang="ru-RU" sz="2400" spc="-1" strike="noStrike">
                <a:solidFill>
                  <a:srgbClr val="000000"/>
                </a:solidFill>
                <a:latin typeface="45 Helvetica Ligh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Bodoni MT Black"/>
              </a:rPr>
              <a:t>«Человек и «сверхчеловек» (по роману Ф.М.Достоевского «Преступление и наказание»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49560" y="5398920"/>
            <a:ext cx="5761080" cy="8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45 Helvetica Light"/>
              </a:rPr>
              <a:t>Автор: Кудинова Л. 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45 Helvetica Light"/>
              </a:rPr>
              <a:t>учитель МОУ «СОШ №6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60840" y="430200"/>
            <a:ext cx="44640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3600" spc="-1" strike="noStrike">
                <a:solidFill>
                  <a:srgbClr val="1f4ca1"/>
                </a:solidFill>
                <a:latin typeface="Arial Black"/>
              </a:rPr>
              <a:t>Аннотация</a:t>
            </a:r>
            <a:br>
              <a:rPr sz="3600"/>
            </a:b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397240" y="790560"/>
            <a:ext cx="6975360" cy="417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225360" indent="0" algn="just">
              <a:spcAft>
                <a:spcPts val="876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 algn="just">
              <a:lnSpc>
                <a:spcPct val="110000"/>
              </a:lnSpc>
              <a:spcAft>
                <a:spcPts val="876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 algn="just">
              <a:lnSpc>
                <a:spcPct val="110000"/>
              </a:lnSpc>
              <a:spcAft>
                <a:spcPts val="876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 algn="just">
              <a:lnSpc>
                <a:spcPct val="110000"/>
              </a:lnSpc>
              <a:spcAft>
                <a:spcPts val="876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24480" y="4246560"/>
            <a:ext cx="287964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3200" spc="-1" strike="noStrike">
                <a:solidFill>
                  <a:srgbClr val="1f4ca1"/>
                </a:solidFill>
                <a:latin typeface="Arial Black"/>
              </a:rPr>
              <a:t>Участники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81200" y="5038560"/>
            <a:ext cx="747720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3600" spc="-1" strike="noStrike">
                <a:solidFill>
                  <a:srgbClr val="1f4ca1"/>
                </a:solidFill>
                <a:latin typeface="Arial Black"/>
              </a:rPr>
              <a:t>Предметная облас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49560" y="1006560"/>
            <a:ext cx="79088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45 Helvetica Light"/>
              </a:rPr>
              <a:t>Цель данного проекта – привлечь внимание учащихся к детальному изучению художественного произведения, вызвать интерес к русской классической литературе. Проект предназначен для развития творческого развития потенциала учащихся: предполагает развитие образного и логического мышления при решении поставленных проблем, формирует навыки сравнительно-сопоставительного анализа как способа изучения художественного произведения. Таким образом, у учащихся формируется представление о значении классической литературы в целом. Проблемные вопросы, поставленные перед учащимися, требуют проведения исследовательских работ. Опираясь на различные источники информации и дидактические материалы проекта учащиеся приходят к необходимым выводам и создают свои творческие работ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60840" y="460692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45 Helvetica Light"/>
              </a:rPr>
              <a:t>Учащиеся старших класс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583092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45 Helvetica Light"/>
              </a:rPr>
              <a:t>Литература, информатика, ИЗ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92480" y="646200"/>
            <a:ext cx="6789600" cy="503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3200" spc="-1" strike="noStrike">
                <a:solidFill>
                  <a:srgbClr val="1f4ca1"/>
                </a:solidFill>
                <a:latin typeface="Arial Black"/>
              </a:rPr>
              <a:t>Методические задачи</a:t>
            </a:r>
            <a:endParaRPr b="0" lang="en-US" sz="32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364840" y="1077840"/>
            <a:ext cx="6975720" cy="266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225360" indent="-225360">
              <a:spcAft>
                <a:spcPts val="788"/>
              </a:spcAft>
              <a:buClr>
                <a:srgbClr val="8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Научить учащихся сопоставлять реальные события и их художественное воплощение в произведен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Aft>
                <a:spcPts val="788"/>
              </a:spcAft>
              <a:buClr>
                <a:srgbClr val="8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Продолжить формирование литературоведческих навыков при сравнительно-сопоставительном анализе нескольких произвед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Aft>
                <a:spcPts val="788"/>
              </a:spcAft>
              <a:buClr>
                <a:srgbClr val="8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формировать навыки грамотной устной и письменной реч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Aft>
                <a:spcPts val="788"/>
              </a:spcAft>
              <a:buClr>
                <a:srgbClr val="8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Научить учащихся оформлять результаты исследований с помощью компью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65200" y="3598920"/>
            <a:ext cx="67899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3200" spc="-1" strike="noStrike">
                <a:solidFill>
                  <a:srgbClr val="1f4ca1"/>
                </a:solidFill>
                <a:latin typeface="Arial Black"/>
              </a:rPr>
              <a:t>Дидактические</a:t>
            </a:r>
            <a:r>
              <a:rPr b="0" lang="ru-RU" sz="3600" spc="-1" strike="noStrike">
                <a:solidFill>
                  <a:srgbClr val="1f4ca1"/>
                </a:solidFill>
                <a:latin typeface="Arial Black"/>
              </a:rPr>
              <a:t>  задач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65200" y="4965840"/>
            <a:ext cx="697572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65200" y="1509840"/>
            <a:ext cx="697572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65200" y="4173480"/>
            <a:ext cx="7336080" cy="23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 fontScale="86000"/>
          </a:bodyPr>
          <a:p>
            <a:pPr marL="193680" indent="-193680">
              <a:lnSpc>
                <a:spcPct val="100000"/>
              </a:lnSpc>
              <a:spcAft>
                <a:spcPts val="876"/>
              </a:spcAft>
              <a:buClr>
                <a:srgbClr val="8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Формирование исследовательских навыков и информационной культуры учащихс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Aft>
                <a:spcPts val="876"/>
              </a:spcAft>
              <a:buClr>
                <a:srgbClr val="8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приобретение навыков самостоятельной работы с тексто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Aft>
                <a:spcPts val="876"/>
              </a:spcAft>
              <a:buClr>
                <a:srgbClr val="8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формирование понимания нравственного смысла произведения, мотивированной оценки поступков герое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Aft>
                <a:spcPts val="876"/>
              </a:spcAft>
              <a:buClr>
                <a:srgbClr val="8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формирование личностного восприятия авторской позиц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Aft>
                <a:spcPts val="876"/>
              </a:spcAft>
              <a:buClr>
                <a:srgbClr val="8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воспитание интереса к родной литератур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20840" y="430200"/>
            <a:ext cx="763272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3600" spc="-1" strike="noStrike">
                <a:solidFill>
                  <a:srgbClr val="1f4ca1"/>
                </a:solidFill>
                <a:latin typeface="Arial Black"/>
              </a:rPr>
              <a:t>Учебные темы программы</a:t>
            </a: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6480" y="3094200"/>
            <a:ext cx="7056360" cy="72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58000"/>
          </a:bodyPr>
          <a:p>
            <a:pPr marL="220680" indent="0" algn="ctr">
              <a:lnSpc>
                <a:spcPct val="80000"/>
              </a:lnSpc>
              <a:spcAft>
                <a:spcPts val="1225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  <a:ea typeface="Arial"/>
              </a:rPr>
              <a:t>Основополагающий вопрос</a:t>
            </a: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0680" indent="0" algn="ctr">
              <a:lnSpc>
                <a:spcPct val="80000"/>
              </a:lnSpc>
              <a:spcAft>
                <a:spcPts val="788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0680" indent="0">
              <a:lnSpc>
                <a:spcPct val="80000"/>
              </a:lnSpc>
              <a:spcAft>
                <a:spcPts val="349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0680" indent="0">
              <a:lnSpc>
                <a:spcPct val="80000"/>
              </a:lnSpc>
              <a:spcAft>
                <a:spcPts val="349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0680" indent="0" algn="ctr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0680" indent="0">
              <a:lnSpc>
                <a:spcPct val="80000"/>
              </a:lnSpc>
              <a:spcAft>
                <a:spcPts val="349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0680" indent="0">
              <a:lnSpc>
                <a:spcPct val="80000"/>
              </a:lnSpc>
              <a:spcAft>
                <a:spcPts val="349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57560" y="2157480"/>
            <a:ext cx="525636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3600" spc="-1" strike="noStrike">
                <a:solidFill>
                  <a:srgbClr val="1f4ca1"/>
                </a:solidFill>
                <a:latin typeface="Arial Black"/>
              </a:rPr>
              <a:t>Вопрос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08120" y="4317840"/>
            <a:ext cx="705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0880" indent="-380880" algn="ctr">
              <a:lnSpc>
                <a:spcPct val="100000"/>
              </a:lnSpc>
              <a:spcAft>
                <a:spcPts val="1225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Проблемные вопрос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97200" y="150984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45 Helvetica Light"/>
              </a:rPr>
              <a:t>История создания и идейно-художественное своеобразие романа Ф.М.Достоевского «Преступление и наказание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28840" y="388620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45 Helvetica Light"/>
              </a:rPr>
              <a:t>Было ли покаяние Раскольникова истинным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20840" y="5181480"/>
            <a:ext cx="748836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800000"/>
              </a:buClr>
              <a:buFont typeface="45 Helvetica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45 Helvetica Light"/>
              </a:rPr>
              <a:t>Каковы социальные и философские истоки  преступления Раскольникова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800000"/>
              </a:buClr>
              <a:buFont typeface="45 Helvetica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45 Helvetica Light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45 Helvetica Light"/>
              </a:rPr>
              <a:t>Что такое «кровь по совести», «простая арифметика» в теории Раскольникова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800000"/>
              </a:buClr>
              <a:buFont typeface="45 Helvetica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45 Helvetica Light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45 Helvetica Light"/>
              </a:rPr>
              <a:t>Какова роль снов и видений в романе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800000"/>
              </a:buClr>
              <a:buFont typeface="45 Helvetica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45 Helvetica Light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45 Helvetica Light"/>
              </a:rPr>
              <a:t>Можно ли считать Раскольникова человеком-вселенной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20480" y="573120"/>
            <a:ext cx="678996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3600" spc="-1" strike="noStrike">
                <a:solidFill>
                  <a:srgbClr val="1f4ca1"/>
                </a:solidFill>
                <a:latin typeface="Arial Black"/>
              </a:rPr>
              <a:t>Деятельность учащихся</a:t>
            </a:r>
            <a:r>
              <a:rPr b="0" lang="ru-RU" sz="3600" spc="-1" strike="noStrike">
                <a:solidFill>
                  <a:srgbClr val="1f4ca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697536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225360" indent="-225360">
              <a:spcAft>
                <a:spcPts val="876"/>
              </a:spcAft>
              <a:buClr>
                <a:srgbClr val="8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самостоятельный поиск учащимися информ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spcAft>
                <a:spcPts val="876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Aft>
                <a:spcPts val="876"/>
              </a:spcAft>
              <a:buClr>
                <a:srgbClr val="8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групповая работа учащихся над исследования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spcAft>
                <a:spcPts val="876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Aft>
                <a:spcPts val="876"/>
              </a:spcAft>
              <a:buClr>
                <a:srgbClr val="8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обсуждение полученной информации в рамках круглого сто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spcAft>
                <a:spcPts val="876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7760" y="646200"/>
            <a:ext cx="678996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3200" spc="-1" strike="noStrike">
                <a:solidFill>
                  <a:srgbClr val="1f4ca1"/>
                </a:solidFill>
                <a:latin typeface="Arial Black"/>
              </a:rPr>
              <a:t>Темы самостоятельных исследований учащихся</a:t>
            </a:r>
            <a:endParaRPr b="0" lang="en-US" sz="32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697536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225360" indent="-225360">
              <a:lnSpc>
                <a:spcPct val="100000"/>
              </a:lnSpc>
              <a:spcAft>
                <a:spcPts val="876"/>
              </a:spcAft>
              <a:buClr>
                <a:srgbClr val="800000"/>
              </a:buClr>
              <a:buFont typeface="Arial Black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 Black"/>
              </a:rPr>
              <a:t>1. «Суть философии Раскольникова и его путь к преступлению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Aft>
                <a:spcPts val="876"/>
              </a:spcAft>
              <a:buClr>
                <a:srgbClr val="800000"/>
              </a:buClr>
              <a:buFont typeface="Arial Black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Arial Black"/>
              </a:rPr>
              <a:t>2. «Крушение теории Родиона Раскольников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Aft>
                <a:spcPts val="876"/>
              </a:spcAft>
              <a:buClr>
                <a:srgbClr val="800000"/>
              </a:buClr>
              <a:buFont typeface="Arial Black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Arial Black"/>
              </a:rPr>
              <a:t>3. «Какова роль снов и видений в романе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Aft>
                <a:spcPts val="876"/>
              </a:spcAft>
              <a:buClr>
                <a:srgbClr val="800000"/>
              </a:buClr>
              <a:buFont typeface="Arial Black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 Black"/>
              </a:rPr>
              <a:t>4. «Петербург в изображении Достоевского. Влияние города на теорию Раскольников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49560" y="356760"/>
            <a:ext cx="7619760" cy="57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2800" spc="-1" strike="noStrike">
                <a:solidFill>
                  <a:srgbClr val="1f4ca1"/>
                </a:solidFill>
                <a:latin typeface="Arial"/>
                <a:ea typeface="Arial"/>
              </a:rPr>
              <a:t>Материалы учебно-методического пакета </a:t>
            </a:r>
            <a:endParaRPr b="0" lang="en-US" sz="28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92120" y="1006200"/>
            <a:ext cx="7345080" cy="56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225360" indent="-225360"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исание  учебного проекта и материалов УМП к нему («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изит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»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ы работ учащих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41360" indent="-253800">
              <a:lnSpc>
                <a:spcPct val="80000"/>
              </a:lnSpc>
              <a:buClr>
                <a:srgbClr val="000000"/>
              </a:buClr>
              <a:buFont typeface="45 Helvetica Light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45 Helvetica Ligh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45 Helvetica Light"/>
              </a:rPr>
              <a:t>презентация ученика «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45 Helvetica Light"/>
              </a:rPr>
              <a:t>Название</a:t>
            </a:r>
            <a:r>
              <a:rPr b="0" lang="ru-RU" sz="1800" spc="-1" strike="noStrike">
                <a:solidFill>
                  <a:srgbClr val="000000"/>
                </a:solidFill>
                <a:latin typeface="45 Helvetica Light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45 Helvetica Light"/>
            </a:endParaRPr>
          </a:p>
          <a:p>
            <a:pPr lvl="2" marL="1341360" indent="-253800">
              <a:lnSpc>
                <a:spcPct val="80000"/>
              </a:lnSpc>
              <a:buClr>
                <a:srgbClr val="000000"/>
              </a:buClr>
              <a:buFont typeface="45 Helvetica Light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45 Helvetica Ligh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45 Helvetica Light"/>
              </a:rPr>
              <a:t>публикация ученика  «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45 Helvetica Light"/>
              </a:rPr>
              <a:t>Название</a:t>
            </a:r>
            <a:r>
              <a:rPr b="0" lang="ru-RU" sz="1800" spc="-1" strike="noStrike">
                <a:solidFill>
                  <a:srgbClr val="000000"/>
                </a:solidFill>
                <a:latin typeface="45 Helvetica Light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45 Helvetica Light"/>
            </a:endParaRPr>
          </a:p>
          <a:p>
            <a:pPr lvl="2" marL="1341360" indent="0">
              <a:lnSpc>
                <a:spcPct val="80000"/>
              </a:lnSpc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45 Helvetica Light"/>
              </a:rPr>
              <a:t>   </a:t>
            </a:r>
            <a:r>
              <a:rPr b="0" lang="ru-RU" sz="1400" spc="-1" strike="noStrike">
                <a:solidFill>
                  <a:srgbClr val="339933"/>
                </a:solidFill>
                <a:latin typeface="45 Helvetica Ligh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45 Helvetica Light"/>
            </a:endParaRPr>
          </a:p>
          <a:p>
            <a:pPr marL="225360" indent="-225360">
              <a:lnSpc>
                <a:spcPct val="85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сайт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5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итерии оценки работ учащихс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езент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ублик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5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дактические материалы для самостоятельной работы учащихс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ес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дание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дание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5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ические материалы учител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езентация уро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брошю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журна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5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ционные документы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нструк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авила рабо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грамо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ла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рименения учебного проекта в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писо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нформационных материалов, необходимых для поддержки самостоятельных исследований учащихся в ходе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2"/>
          </p:cNvPr>
          <p:cNvSpPr/>
          <p:nvPr/>
        </p:nvSpPr>
        <p:spPr>
          <a:xfrm>
            <a:off x="8485200" y="70549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9T23:12:51Z</dcterms:created>
  <dc:creator>.</dc:creator>
  <dc:description/>
  <dc:language>en-US</dc:language>
  <cp:lastModifiedBy>Admin</cp:lastModifiedBy>
  <cp:lastPrinted>2001-07-20T22:27:51Z</cp:lastPrinted>
  <dcterms:modified xsi:type="dcterms:W3CDTF">2012-01-15T02:10:01Z</dcterms:modified>
  <cp:revision>265</cp:revision>
  <dc:subject/>
  <dc:title>No Slide Title</dc:title>
</cp:coreProperties>
</file>