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2A47C-5326-409A-88E6-B99948E97F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9734F-4648-4B1A-8EE5-383D2A6AA4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7269B-484B-4D37-9B7C-031E9C2590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A97-FD3F-4669-8D48-0CD80780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09D-0DB7-48E1-983A-E1A464E1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1180-398B-4A88-9E33-8B84A374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9F1-8770-4C9C-A7B0-6F431784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F30-37EB-44B9-B757-123DF489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56F-986B-4922-88B6-36319CCE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7FC-4A90-486A-8017-D9EA04A9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8C6-E9DE-4B60-884F-74D7AC64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974-7E4B-4EA4-8052-2B1280C9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F9D-73A2-40D7-B5D0-FABB5452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CF7A-B1E1-4BE7-A9A8-86160F5F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DA0-50AF-4D51-8D28-A256CED7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ED939B-C166-4FDA-92B3-2A2177CB87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 rot="723600">
            <a:off x="1422000" y="4370400"/>
            <a:ext cx="27986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Исследовательская 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«Редкая птиц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СТЕПНОЙ ОРЁ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19800" y="0"/>
            <a:ext cx="5982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ыполнил: ученик  1 «Б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МОУ «Красноуральская СОШ Оренбургского рай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дилов Амир Булат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уководитель: Верховцева Татьяна Пав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3600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280" y="5280120"/>
            <a:ext cx="9037800" cy="14731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580760"/>
            <a:ext cx="8464680" cy="3341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ная книга Оренбургской области /Оренбургское книжное издательство, 1998год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ская энциклопедия о животных /Кириленко, Пиринов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я животных Кирилла и Мефодия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«Животные нашей планеты» №1-10, 201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«В мире животных», архив 1999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«Юный натуралист», архив 1997-200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512640" y="851040"/>
            <a:ext cx="9568080" cy="71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– казах. У нашего народа особое отношение к степному орл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л - царь - птица, парящая выше всех живых существ, близко к Небу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нцу - древним божествам, а значит, тоже -  божественная . Он обознач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дрость и зоркость, чистоту мыслей казах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е очень понравилось изображение этой гордой птицы. Я захотел узнать  о ней подроб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р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тепной орел парит над облак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зирая на земную су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н словно демонстрирует пред 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рлиного полета кра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 высот заоблачных незримо наблю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згляд немигающий огромного ор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з тысяч жизней жертву выбир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разит ее затем он, как стр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Гаврюшкин А. 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\Рабочий стол\Новая папка\141-1.jpg"/>
          <p:cNvPicPr/>
          <p:nvPr/>
        </p:nvPicPr>
        <p:blipFill>
          <a:blip r:embed="rId1"/>
          <a:stretch/>
        </p:blipFill>
        <p:spPr>
          <a:xfrm>
            <a:off x="5754600" y="3065400"/>
            <a:ext cx="39672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82520" y="1422360"/>
            <a:ext cx="8975880" cy="51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дачи  исследования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 со Степным орл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есённым в Красную книг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Научить   выделять и назы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характерные особ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Сформировать интерес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вь к природ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Научить защищать брать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их меньш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Admin\Рабочий стол\1 класс\3 тур Амир\P1030885.JPG"/>
          <p:cNvPicPr/>
          <p:nvPr/>
        </p:nvPicPr>
        <p:blipFill>
          <a:blip r:embed="rId1"/>
          <a:stretch/>
        </p:blipFill>
        <p:spPr>
          <a:xfrm>
            <a:off x="6257880" y="2279520"/>
            <a:ext cx="382284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1897200" y="493560"/>
            <a:ext cx="764352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етоды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атривание иллюстр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ство с Красной кни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енбург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еда с учителем биологии  Кондаковой С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энциклопедий о животном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интернет.материа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ация с классным руководи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\Рабочий стол\1 класс\3 тур Амир\P1030889.JPG"/>
          <p:cNvPicPr/>
          <p:nvPr/>
        </p:nvPicPr>
        <p:blipFill>
          <a:blip r:embed="rId1"/>
          <a:stretch/>
        </p:blipFill>
        <p:spPr>
          <a:xfrm>
            <a:off x="7094520" y="279360"/>
            <a:ext cx="2057400" cy="21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Admin\Рабочий стол\1 класс\3 тур Амир\P1030887.JPG"/>
          <p:cNvPicPr/>
          <p:nvPr/>
        </p:nvPicPr>
        <p:blipFill>
          <a:blip r:embed="rId2"/>
          <a:stretch/>
        </p:blipFill>
        <p:spPr>
          <a:xfrm>
            <a:off x="254160" y="2494080"/>
            <a:ext cx="1628640" cy="1785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Admin\Рабочий стол\1 класс\3 тур Амир\P1030888.JPG"/>
          <p:cNvPicPr/>
          <p:nvPr/>
        </p:nvPicPr>
        <p:blipFill>
          <a:blip r:embed="rId3"/>
          <a:stretch/>
        </p:blipFill>
        <p:spPr>
          <a:xfrm>
            <a:off x="6969240" y="5494320"/>
            <a:ext cx="2262240" cy="169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Documents and Settings\Admin\Рабочий стол\1 класс\3 тур Амир\P1030884.JPG"/>
          <p:cNvPicPr/>
          <p:nvPr/>
        </p:nvPicPr>
        <p:blipFill>
          <a:blip r:embed="rId4"/>
          <a:stretch/>
        </p:blipFill>
        <p:spPr>
          <a:xfrm>
            <a:off x="896760" y="5565600"/>
            <a:ext cx="21909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ЕПНОЙ ОРЁЛ</a:t>
            </a:r>
            <a:br>
              <a:rPr sz="44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ряд  Соколообразн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емейство  Ястреби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170784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ной орёл в нашей области редко гнездящийся и пролетный ви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ИСАНИЕ П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пный орел, но уступает в размерах могильнику и беркуту. Общая длина птицы 60—85 см, длина крыла 51—65 см, вес птиц 2,7—4,8 кг. Размах крыльев около 2 метров. Оперение птицы темно-бур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897520" y="4923000"/>
            <a:ext cx="3062160" cy="223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7826400" y="851040"/>
            <a:ext cx="19000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6720" y="1351080"/>
            <a:ext cx="6786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39000"/>
          </a:bodyPr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тели открытых сухих нераспаханных степей, реже селятся на обработанных землях. Прилетают во второй половине марта — апрел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незда располагаются на земле или низко на деревьях, копнах соломы у полей. Чаще всего занимают старые гнезда, лишь немного их подновив. Диаметр гнезд— 0,9—1,3 м, высота — от 0,1 до 1 м. Они построены из сучьев и кустиков, палок, грубых степных трав, а также из костей, обломков пластика и прочего мусора. Лоток выстлан шерстью, растительной ветошью и разным мягким мусором, сухим конским пометом. Находили гнездо, удобно устроенное на брошенном автомобильном кол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стах высокой численности сусликов могут встречаться чаще, так что гнезда располагаются в 0,5—1 км одно от другого. Выводят 2-3 пте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rcRect l="0" t="1906" r="0" b="1906"/>
          <a:stretch/>
        </p:blipFill>
        <p:spPr>
          <a:xfrm>
            <a:off x="6897600" y="4476600"/>
            <a:ext cx="2786040" cy="208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7183440" y="208080"/>
            <a:ext cx="272088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039680" y="1494000"/>
            <a:ext cx="828684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ной орел кормится грызунами средней величины, главным образом сусликами, также зайцами, мелкими грызунами и т. д., иногда птенцами или подлетками птиц. Кроме того, он охотно ест падаль, иногда и пресмыкающихся. Для степного орла характерен весьма необычный для пернатых хищников способ охоты, а именно - подкарауливание грызунов у выходов из нор. При этом орел ложится на землю головой к норке и может часами, не двигаясь, поджидать выхода из нее суслика, даурской пищухи (еще один представитель степных грызунов) или полевки Брандта. Короткий бросок и удар клювом или когтями завершают долгое ожидание обе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и степной орел — одна из полезнейших п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1076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41280" y="4280040"/>
            <a:ext cx="5635800" cy="2473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581120"/>
            <a:ext cx="8607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539640" y="779400"/>
            <a:ext cx="914400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храна птиц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есен в Приложение 2 СИТЕС, Приложение 2 Боннской Конвенции, Приложение 2 Бернской Конвенции, Приложение соглашения, заключенного Россией с Индией об охране мигрирующих птиц. Степные орлы содержатся и иногда предпринимают попытки размножаться в некоторых зоопарках , но целевое их разведение в вольерных центрах России не практикуется. Обитает в заповеднике Черные Земли (Калмыкия) и Оренбургском, в степных заказни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1065240"/>
            <a:ext cx="90694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ной орел – красивая и свободная птица. Большиство этих птиц погибает из-за деятельности человека: гибнут от электрических проводов, разорения гнезд, распашки мест их обита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юдям надо осторожно пользоваться природными ресурсами, потому что животные не могут постоять за себя, не могут изменить свою жизнь, как человек. Мы должны подумать как жить рядом с дикими животными, чтобы они совсем не исчезли с лица нашей Зем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 узнал, что раньше жили много разных животных, которые вымерли из-за человека. Я и мои друзья решили помогать нашим меньшим братьям, защищать их, чтобы когда-нибудь наши дети могли увидеть таких красивых птиц и зверей, за которыми наблюдаем сейчас 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9:28:27Z</dcterms:created>
  <dc:creator/>
  <dc:description/>
  <dc:language>en-US</dc:language>
  <cp:lastModifiedBy>Admin</cp:lastModifiedBy>
  <dcterms:modified xsi:type="dcterms:W3CDTF">2012-01-30T17:30:38Z</dcterms:modified>
  <cp:revision>19</cp:revision>
  <dc:subject/>
  <dc:title>Слайд 1</dc:title>
</cp:coreProperties>
</file>