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26D-A013-42E6-A250-0E3AE1AA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032-6D41-4C39-A959-1A9879D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D37-C7E0-4377-8098-F4E199D0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AE2-6C70-4FB1-BBC2-BFCE7B37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BC6E-EC23-4CE6-910F-DE1760E8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8E6-A445-4DDF-8150-CFE24C71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5996-D237-44F5-889C-3874647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1F5-D64F-4410-9F85-5E949C70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F69E-06E9-4C87-A333-A6AC8B74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E670-2AED-447F-865E-8C7A265C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612-6179-45D5-8D90-5FCBE07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33A-3974-4CEC-9E7E-09F0219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F525-BC1E-4E06-81E2-00A9961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F0BE-314A-4668-8160-5C637DD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59B-126C-4891-938C-7B7FC4E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F5A-D2A2-4E83-80C8-1A49999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D99-06D5-4A09-B963-4DD0C33B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506-A396-4918-8AA7-F977ABE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27C-41A8-4DF0-B31D-86C66940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F04-4666-4975-9859-1E48770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B8F-6C4D-4908-B0D5-19FC4ACE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533-FDC0-47AE-BC34-ACCB096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E7B-EB8C-438D-9D1C-F1FCC0B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728-18FD-4ADC-95A0-C0F4279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E50-ECF5-40DF-8E55-72DA5A76E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60DB-FCD4-434E-BF9F-2DD443B901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file:///&#1054;&#1073;&#1088;&#1072;&#1079;&#1094;&#1099;%20&#1088;&#1072;&#1073;&#1086;&#1090;&#1099;.ppt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3278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Arial"/>
              </a:rPr>
              <a:t>Учебный проект</a:t>
            </a:r>
            <a:br>
              <a:rPr sz="2400"/>
            </a:br>
            <a:br>
              <a:rPr sz="3600"/>
            </a:br>
            <a:r>
              <a:rPr b="1" lang="en-US" sz="4000" spc="-1" strike="noStrike">
                <a:solidFill>
                  <a:srgbClr val="6c7624"/>
                </a:solidFill>
                <a:latin typeface="Arial Black"/>
              </a:rPr>
              <a:t>«Образ кошки в мифологии, фольклоре и русской литературе»</a:t>
            </a:r>
            <a:br>
              <a:rPr sz="4000"/>
            </a:b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560" y="4076280"/>
            <a:ext cx="7116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Arial"/>
              </a:rPr>
              <a:t>Автор:  Кудинова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Arial"/>
              </a:rPr>
              <a:t>учитель МОУ «СОШ №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605a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30605a"/>
                </a:solidFill>
                <a:latin typeface="Arial Black"/>
              </a:rPr>
              <a:t>Аннотаци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698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f7d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Цель данного проекта – привлечь внимание учащихся к детальному изучению художественного произведения, вызвать интерес к русской литературе. Проект предназначен для развития творческого потенциала учащихся: предполагает развитие образного и логического мышления при решении поставленных проблем, формирует навыки сравнительно-сопоставительного анализа как способа изучения художественного произведения. Таким образом, у учащихся формируется представление о значении литературы в целом. Проблемные вопросы, поставленные перед учащимися, требуют проведения исследовательских работ. Опираясь на различные источники информации и дидактические материалы проекта, учащиеся приходят к необходимым выводам и создают свои творчески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08440" y="443700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605a"/>
                </a:solidFill>
                <a:latin typeface="Arial Black"/>
              </a:rPr>
              <a:t>Участник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941720"/>
            <a:ext cx="58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Учащиеся 5, 6, 10, 11,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35800" y="535464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605a"/>
                </a:solidFill>
                <a:latin typeface="Arial Black"/>
              </a:rPr>
              <a:t>Предметн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2520" y="6040440"/>
            <a:ext cx="61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Литература, история, ИЗО, информатика, биоло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740120" y="4462560"/>
            <a:ext cx="2880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605a"/>
                </a:solidFill>
                <a:latin typeface="Arial Black"/>
              </a:rPr>
              <a:t>Методическ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0526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Научить учащихся сопоставлять реальные события и их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художественное воплощение в произве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Продолжить формирование литературоведческих навыков пр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но-сопоставительном анализе нескольки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Формировать навыки грамотной устной и письменной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Научить учащихся оформлять результаты исследований 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помощью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71760" y="299736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605a"/>
                </a:solidFill>
                <a:latin typeface="Arial Black"/>
              </a:rPr>
              <a:t>Дидактические 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393372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Формирование исследовательских навыков  информационно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культуры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Приобретение навыков самостоятельной работы с тек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Формирование понимания смысла   произведения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мотивированной оценки поступков геро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Формирование личностного восприятия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3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15331e"/>
                </a:solidFill>
                <a:latin typeface="Arial"/>
              </a:rPr>
              <a:t>Воспитание интереса к родной лит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52640" y="189000"/>
            <a:ext cx="55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 Black"/>
              </a:rPr>
              <a:t>Учебные темы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54640" y="2708280"/>
            <a:ext cx="5927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 Black"/>
              </a:rPr>
              <a:t>Основополагающий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96440" y="407664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605a"/>
                </a:solidFill>
                <a:latin typeface="Arial Black"/>
              </a:rPr>
              <a:t>Проблем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620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533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Пословицы и поговорки, как малый жанр фольклора, их народная мудрость (5 клас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533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Аллегория и мораль в баснях И.А.Крылова (6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533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Реальность и фантастика в произведениях Н.В. Гоголя (10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533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Основные образы романа М.А.Булгакова «Мастер и Маргари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533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5331e"/>
                </a:solidFill>
                <a:latin typeface="Arial"/>
              </a:rPr>
              <a:t>(11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760" y="3213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0e37"/>
                </a:solidFill>
                <a:latin typeface="Arial"/>
              </a:rPr>
              <a:t>Кошка: домашний дух иль бож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400" y="4687920"/>
            <a:ext cx="7311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533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Comic Sans MS"/>
              </a:rPr>
              <a:t>Кто она: мягкая и пушистая или демон?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5331e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Comic Sans MS"/>
              </a:rPr>
              <a:t>Кто в доме хозяин?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5331e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331e"/>
                </a:solidFill>
                <a:latin typeface="Comic Sans MS"/>
              </a:rPr>
              <a:t>Стоит ли бояться черного кота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5331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 Black"/>
              </a:rPr>
              <a:t>Деятельность учащихс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598760"/>
            <a:ext cx="77040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самостоятельный поиск учащимися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331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групповая работа учащихся над исследован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обсуждение полученной информации в рамках круглого ст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 Black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331e"/>
                </a:solidFill>
                <a:latin typeface="Arial"/>
              </a:rPr>
              <a:t>«Образ кошки в устном народном творчестве, славянской мифологии, баснях И.А.Крыло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331e"/>
                </a:solidFill>
                <a:latin typeface="Arial"/>
              </a:rPr>
              <a:t>«Мистический образ кошки в произведениях Н.В.Гого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331e"/>
                </a:solidFill>
                <a:latin typeface="Arial"/>
              </a:rPr>
              <a:t>«Кот Бегемот Михаила Булгако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0605a"/>
                </a:solidFill>
                <a:latin typeface="Arial"/>
              </a:rPr>
              <a:t>Форма представления проекта и критерии их оцени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Презент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0e37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3e0e37"/>
                </a:solidFill>
                <a:latin typeface="Arial"/>
              </a:rPr>
              <a:t>Кошка: домашний дух иль божество?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Критерии оценивания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0e37"/>
                </a:solidFill>
                <a:latin typeface="Arial"/>
              </a:rPr>
              <a:t>Буклет «Что за чудо кошка-звер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331e"/>
                </a:solidFill>
                <a:latin typeface="Arial"/>
              </a:rPr>
              <a:t>Критерии оценивания бук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6"/>
          </p:cNvPr>
          <p:cNvSpPr/>
          <p:nvPr/>
        </p:nvSpPr>
        <p:spPr>
          <a:xfrm>
            <a:off x="399564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 Black"/>
              </a:rPr>
              <a:t>Информационные ресурсы: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. 5 кл. Учебник-хрестоматия для общеобразовательных учреждений в 2-х частях. Авт.-сост. В.Я.Коровина. М., Просвещение,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. 6 кл. Учебник-хрестоматия для общеобразовательных учреждений в 2-х частях. Авт.-сост. В.П. Полухина. М., Просвещение,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ая литера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а. Учебник для 10 кл. М., Просвещение,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ая литера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а. Учебник для 11 кл. М., Просвещение,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. В. Гоголь. Собрание сочинений. (любое изд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.А. Булгаков «Мастер и Маргарита» (любое изд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Большая энциклопедия Кирилла и Мефодия», 2007 (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1c177"/>
                </a:solidFill>
                <a:uFillTx/>
                <a:latin typeface="Arial"/>
                <a:hlinkClick r:id="rId1"/>
              </a:rPr>
              <a:t>http://ww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ate -  planet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0605a"/>
                </a:solidFill>
                <a:latin typeface="Arial"/>
              </a:rPr>
              <a:t>Изучайте! </a:t>
            </a:r>
            <a:br>
              <a:rPr sz="3600"/>
            </a:br>
            <a:r>
              <a:rPr b="1" lang="en-US" sz="3600" spc="-1" strike="noStrike">
                <a:solidFill>
                  <a:srgbClr val="30605a"/>
                </a:solidFill>
                <a:latin typeface="Arial"/>
              </a:rPr>
              <a:t>Творите! </a:t>
            </a:r>
            <a:br>
              <a:rPr sz="3600"/>
            </a:br>
            <a:r>
              <a:rPr b="1" lang="en-US" sz="3600" spc="-1" strike="noStrike">
                <a:solidFill>
                  <a:srgbClr val="30605a"/>
                </a:solidFill>
                <a:latin typeface="Arial"/>
              </a:rPr>
              <a:t>Пробуйте! </a:t>
            </a:r>
            <a:br>
              <a:rPr sz="3600"/>
            </a:br>
            <a:r>
              <a:rPr b="1" lang="en-US" sz="3600" spc="-1" strike="noStrike">
                <a:solidFill>
                  <a:srgbClr val="30605a"/>
                </a:solidFill>
                <a:latin typeface="Arial"/>
              </a:rPr>
              <a:t>Желаю успехов!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3864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31e"/>
                </a:solidFill>
                <a:latin typeface="Arial"/>
              </a:rPr>
              <a:t>Автор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31e"/>
                </a:solidFill>
                <a:latin typeface="Arial"/>
              </a:rPr>
              <a:t>Кудинова Любовь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31e"/>
                </a:solidFill>
                <a:latin typeface="Arial"/>
              </a:rPr>
              <a:t>учитель русского языка и литературы высше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331e"/>
                </a:solidFill>
                <a:latin typeface="Arial"/>
              </a:rPr>
              <a:t>МОУ «СОШ № 6» г. Благода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04:35Z</dcterms:created>
  <dc:creator>Юля</dc:creator>
  <dc:description/>
  <dc:language>en-US</dc:language>
  <cp:lastModifiedBy>Admin</cp:lastModifiedBy>
  <dcterms:modified xsi:type="dcterms:W3CDTF">2012-01-15T02:09:03Z</dcterms:modified>
  <cp:revision>14</cp:revision>
  <dc:subject/>
  <dc:title>Учебный проект  «Образ кошки в мифологии, фольклоре и русской литературе» </dc:title>
</cp:coreProperties>
</file>