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4647-A966-45B0-8B81-B0ACB64E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499-81FB-4C61-A6F9-329B37CB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BEA-C19C-4114-A4E5-939F3C8C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113-EE92-46E6-80F9-94B10220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2D12-6E4A-449D-BBB3-61BA30C3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B309-CF38-42E6-A1ED-0AAE08B2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68E5-4B50-4BCD-BE01-BE459EFD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321D-E096-4010-84C1-A6E24D94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D0D2-FF78-46A6-B409-89259518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8A2E-4B38-492B-9F90-5A74B5FE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6CE3-EF79-4CD1-840D-9BBD568A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A257-C367-4134-8EF4-550DCF85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2867-020F-456C-8C16-8DC1025E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6FCB-58C7-4330-B7E8-1ACADD25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26C4-5019-48AC-81B4-2F041AEE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B8FB-669B-4A09-A9C1-719462C2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9E3B-55C7-4773-A842-0E26174D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028A-F8D2-48CF-A723-8F1AEB23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BDA5-F9B9-4771-B986-AB4BD1B0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DED-FE0C-4A46-A818-F7C46C98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A1D-FEA8-4132-AE1A-56BFEF36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BF7-6095-41BC-B53B-7CD685ED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CA32-509D-40C9-9479-7F7A6602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9AE-C161-4C19-AE35-90EACA21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ED80-AEB7-41B4-A517-0BBF97DB56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A5EB-55F4-4AE1-B63C-663F73A9F7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</a:rPr>
              <a:t>Тренировочные упражнения по культуре речи (грамматика)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33"/>
                </a:solidFill>
                <a:latin typeface="Verdana"/>
              </a:rPr>
              <a:t>Подготовка к ЕГ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33"/>
                </a:solidFill>
                <a:latin typeface="Verdana"/>
              </a:rPr>
              <a:t>По русскому язык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Garamond"/>
              </a:rPr>
              <a:t>Укажите пример с ошибкой в образовании формы слова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699920"/>
            <a:ext cx="4546440" cy="22035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Трое щеня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Бухгалтера готовили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езжайте на ю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рупнейшее месторожд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48000" y="1412640"/>
            <a:ext cx="3538440" cy="2490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Лягте на трав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Двое подру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ладите быстр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амый приветливый челове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4055760"/>
            <a:ext cx="3754440" cy="2397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ятеро артис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се  докто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Четверо школьниц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аиболее интересный похо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427280" y="3946320"/>
            <a:ext cx="4259160" cy="2184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лубочайшее озер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клади на мест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вара вкусно готови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Трое суто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4356000" y="3284640"/>
            <a:ext cx="505080" cy="43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7885080" y="3357720"/>
            <a:ext cx="504720" cy="43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3635280" y="5877000"/>
            <a:ext cx="505080" cy="43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7956720" y="5516640"/>
            <a:ext cx="504720" cy="43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25" descr="AMDOUBT"/>
          <p:cNvPicPr/>
          <p:nvPr/>
        </p:nvPicPr>
        <p:blipFill>
          <a:blip r:embed="rId1"/>
          <a:stretch/>
        </p:blipFill>
        <p:spPr>
          <a:xfrm>
            <a:off x="6732720" y="5445000"/>
            <a:ext cx="511200" cy="9813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26">
            <a:hlinkClick r:id="rId2" action="ppaction://hlinksldjump"/>
          </p:cNvPr>
          <p:cNvSpPr/>
          <p:nvPr/>
        </p:nvSpPr>
        <p:spPr>
          <a:xfrm>
            <a:off x="8388360" y="6308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Garamond"/>
              </a:rPr>
              <a:t>Укажите пример с ошибкой в образовании формы слова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55280"/>
            <a:ext cx="3610080" cy="2187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Трое медвежа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офессоры совещалис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Ляжьте отдохну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ратчайший пу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27280" y="1412640"/>
            <a:ext cx="4259160" cy="2490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амый красивейший пейзаж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Четверо сан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бжаривайте со всех сторо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женеры зав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4056120"/>
            <a:ext cx="3970440" cy="2325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амая длинная дорог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Займись дел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боих подру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Тормоза автомобил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859280" y="4056120"/>
            <a:ext cx="3827520" cy="2109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Заграничные паспор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Ложите на сто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едчайший ви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ятеро футболис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3492360" y="3500280"/>
            <a:ext cx="505080" cy="432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8028000" y="3357720"/>
            <a:ext cx="504720" cy="43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3708360" y="6021360"/>
            <a:ext cx="504720" cy="432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8101080" y="6021360"/>
            <a:ext cx="504720" cy="432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564000" y="3516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4" descr="AMDOUBT"/>
          <p:cNvPicPr/>
          <p:nvPr/>
        </p:nvPicPr>
        <p:blipFill>
          <a:blip r:embed="rId1"/>
          <a:stretch/>
        </p:blipFill>
        <p:spPr>
          <a:xfrm>
            <a:off x="8172360" y="4076640"/>
            <a:ext cx="5112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Garamond"/>
              </a:rPr>
              <a:t>Укажите пример с ошибкой в образовании формы слова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4038480" cy="21844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емеро волча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стречайтеся чащ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амое простое реш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Финансовые догов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1600200"/>
            <a:ext cx="4038480" cy="2184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таршие офице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 обоим сторонам дорог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лушай вниматель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аиболее строг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3946320"/>
            <a:ext cx="4038480" cy="218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рамотные инспекто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Богатейший кра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 тысяча восемьсот двенадцатом год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е повышайте голо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3946320"/>
            <a:ext cx="4038480" cy="2184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теряна пара сапо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амая тонкая ткан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свободи мест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 пятиста цвет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4067280" y="3429000"/>
            <a:ext cx="504720" cy="43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Oval 9"/>
          <p:cNvSpPr/>
          <p:nvPr/>
        </p:nvSpPr>
        <p:spPr>
          <a:xfrm>
            <a:off x="8028000" y="3284640"/>
            <a:ext cx="504720" cy="43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Oval 10"/>
          <p:cNvSpPr/>
          <p:nvPr/>
        </p:nvSpPr>
        <p:spPr>
          <a:xfrm>
            <a:off x="3851280" y="5661000"/>
            <a:ext cx="504720" cy="432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7667640" y="5589720"/>
            <a:ext cx="504720" cy="43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2" descr="AMDOUBT"/>
          <p:cNvPicPr/>
          <p:nvPr/>
        </p:nvPicPr>
        <p:blipFill>
          <a:blip r:embed="rId1"/>
          <a:stretch/>
        </p:blipFill>
        <p:spPr>
          <a:xfrm>
            <a:off x="6588000" y="5589720"/>
            <a:ext cx="5112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Garamond"/>
              </a:rPr>
              <a:t>Укажите пример с ошибкой в образовании формы слова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628280"/>
            <a:ext cx="3970440" cy="25923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Шестиста тридцати яблок не был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упили ябло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есите вещ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амый быстрый самол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413000"/>
            <a:ext cx="4038480" cy="223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амый щедрый из все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лтораста рублей в кассе не был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еши задач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Урожай помид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4292280"/>
            <a:ext cx="4038480" cy="20890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аздничные тор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демте  гуля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амый тихий ребено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лтора метра ткан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3739680"/>
            <a:ext cx="4038480" cy="23907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ягчайший пирог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Цепляясь за отвесные скал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 продаже нет чуло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Двухстами больниц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780000" y="3500280"/>
            <a:ext cx="576000" cy="5050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7956720" y="3141720"/>
            <a:ext cx="504720" cy="43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8028000" y="5661000"/>
            <a:ext cx="504720" cy="432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3851280" y="5805360"/>
            <a:ext cx="504720" cy="43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12" descr="AMDOUBT"/>
          <p:cNvPicPr/>
          <p:nvPr/>
        </p:nvPicPr>
        <p:blipFill>
          <a:blip r:embed="rId1"/>
          <a:stretch/>
        </p:blipFill>
        <p:spPr>
          <a:xfrm>
            <a:off x="6443640" y="5589720"/>
            <a:ext cx="5112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Garamond"/>
              </a:rPr>
              <a:t>Укажите пример с ошибкой в образовании формы слова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4038480" cy="2184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Четверо рабочи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е видно селенье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Тихо смеяс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трожайший запр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600200"/>
            <a:ext cx="4038480" cy="21844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амый веселый праздн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ятеро учител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ет носо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делав работ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3946320"/>
            <a:ext cx="4038480" cy="2184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Более интересне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осемьюстами рубля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овая пара ботино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Заперев двер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3946320"/>
            <a:ext cx="4038480" cy="218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Танцы грузин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Это пирожное слащ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Замер от восторг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а полутораста рубл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851280" y="3284640"/>
            <a:ext cx="504720" cy="43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3851280" y="5516640"/>
            <a:ext cx="504720" cy="43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7885080" y="3284640"/>
            <a:ext cx="504720" cy="43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7956720" y="5589720"/>
            <a:ext cx="504720" cy="43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12" descr="AMDOUBT"/>
          <p:cNvPicPr/>
          <p:nvPr/>
        </p:nvPicPr>
        <p:blipFill>
          <a:blip r:embed="rId1"/>
          <a:stretch/>
        </p:blipFill>
        <p:spPr>
          <a:xfrm>
            <a:off x="6227640" y="5589720"/>
            <a:ext cx="5112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Garamond"/>
              </a:rPr>
              <a:t>Укажите пример с ошибкой в образовании формы слова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28280"/>
            <a:ext cx="4043520" cy="25923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ациональное блюдо болга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Этот спуск более опасне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ильно промо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коло девяноста кни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8320" y="1341360"/>
            <a:ext cx="4038480" cy="223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адел пару чул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Более холодный вете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стретясь в пу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ного поместье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4292640"/>
            <a:ext cx="4043520" cy="2160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Держаться обоими руками за кру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Услышав нов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тало более груст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узыка цыга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3740040"/>
            <a:ext cx="4038480" cy="22003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Худший от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Увидев друг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строение солда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 двухста чертеж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8"/>
          <p:cNvSpPr/>
          <p:nvPr/>
        </p:nvSpPr>
        <p:spPr>
          <a:xfrm>
            <a:off x="3924360" y="3716280"/>
            <a:ext cx="504720" cy="432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3780000" y="5805360"/>
            <a:ext cx="504720" cy="432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10"/>
          <p:cNvSpPr/>
          <p:nvPr/>
        </p:nvSpPr>
        <p:spPr>
          <a:xfrm>
            <a:off x="8028000" y="5373720"/>
            <a:ext cx="504720" cy="43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Oval 11"/>
          <p:cNvSpPr/>
          <p:nvPr/>
        </p:nvSpPr>
        <p:spPr>
          <a:xfrm>
            <a:off x="7885080" y="3068640"/>
            <a:ext cx="504720" cy="43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12" descr="AMDOUBT"/>
          <p:cNvPicPr/>
          <p:nvPr/>
        </p:nvPicPr>
        <p:blipFill>
          <a:blip r:embed="rId1"/>
          <a:stretch/>
        </p:blipFill>
        <p:spPr>
          <a:xfrm>
            <a:off x="6588000" y="5589720"/>
            <a:ext cx="5112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Garamond"/>
              </a:rPr>
              <a:t>Укажите пример с ошибкой в образовании формы слова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4038480" cy="21844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бычаи армя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Двое ножниц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ставайтесь на концер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хняя трениров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8320" y="1600200"/>
            <a:ext cx="4038480" cy="2184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илограмм апельсин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очтя книг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Четверо аспиранто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ысочайший горный п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3946320"/>
            <a:ext cx="4038480" cy="218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бота подмастерье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ахмурь бров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амый счастливейший челове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Тремястами сутк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3946320"/>
            <a:ext cx="4038480" cy="2184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 тысяча семьсот шестом год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Тарелка макаро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х поезд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Ящик мандар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3851280" y="3213000"/>
            <a:ext cx="504720" cy="432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3924360" y="5589720"/>
            <a:ext cx="504720" cy="43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8028000" y="3284640"/>
            <a:ext cx="504720" cy="43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7956720" y="5589720"/>
            <a:ext cx="504720" cy="43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12" descr="AMDOUBT"/>
          <p:cNvPicPr/>
          <p:nvPr/>
        </p:nvPicPr>
        <p:blipFill>
          <a:blip r:embed="rId1"/>
          <a:stretch/>
        </p:blipFill>
        <p:spPr>
          <a:xfrm>
            <a:off x="6588000" y="5734080"/>
            <a:ext cx="5112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Garamond"/>
              </a:rPr>
              <a:t>Ответы</a:t>
            </a:r>
            <a:endParaRPr b="0" lang="en-US" sz="4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114800" cy="46465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  –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2  –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3  –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4  –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5  –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6  –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7  –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8  –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9  –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0 –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1 –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2 –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0" y="1483920"/>
            <a:ext cx="4114800" cy="46465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3 –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4 –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5 –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6 –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7 –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8 –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9 –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20 –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21 –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22 –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23 –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24 -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6" descr="AMSURPRI"/>
          <p:cNvPicPr/>
          <p:nvPr/>
        </p:nvPicPr>
        <p:blipFill>
          <a:blip r:embed="rId1"/>
          <a:stretch/>
        </p:blipFill>
        <p:spPr>
          <a:xfrm>
            <a:off x="3564000" y="1773360"/>
            <a:ext cx="2301840" cy="37447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7">
            <a:hlinkClick r:id="" action="ppaction://hlinkshowjump?jump=firstslide"/>
          </p:cNvPr>
          <p:cNvSpPr/>
          <p:nvPr/>
        </p:nvSpPr>
        <p:spPr>
          <a:xfrm>
            <a:off x="8101080" y="5734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0:51:53Z</dcterms:created>
  <dc:creator>1</dc:creator>
  <dc:description/>
  <dc:language>en-US</dc:language>
  <cp:lastModifiedBy>Сергей</cp:lastModifiedBy>
  <dcterms:modified xsi:type="dcterms:W3CDTF">2012-01-30T19:36:55Z</dcterms:modified>
  <cp:revision>13</cp:revision>
  <dc:subject/>
  <dc:title>Укажите пример с ошибкой в образовании формы сло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