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1F4-D87F-4A6A-A76E-A811C196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FA2-8FFC-4CF2-84AF-3BC12048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3A4-CBA5-4019-87EB-F4B6564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28A-9337-4919-A6CE-E89E6635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C35-3AD4-4E3C-BCCD-4DEEA15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849-7141-42DA-B027-8B17324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5DF-325B-4AF0-A574-58462BE7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053D-8514-4BF4-BAAE-4070298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351-8937-4233-A818-B5DE45F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70EC-6585-4768-8042-78C15D8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D32A-E78E-4A76-90E3-F403BD6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75E-30EE-41CE-868F-36733D3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8F83-D198-4296-84DF-A94B9DE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361F-1A7D-4C44-8F57-7E16007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200-0DAE-4B5C-8E17-0DADE21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118-7D1F-4F15-BAD7-CF002482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A86-7F22-4CDA-8BE7-ED524E20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9D4-42F9-43C9-B29C-59C2CBB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D47-1E2F-477D-95F7-0F97550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06C-8987-4135-9686-6477A56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F60-AB33-474A-8FF3-BE0C6F9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92B-FA00-4E5E-9E87-5B0E91F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B15-D50B-4E2E-A352-B5051F50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77F-C231-494B-A733-B9D8F71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60E-4279-4C5C-9F40-94CA5C8A13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62E5-27F3-4453-BBC1-CE1C35FE3B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Garamond"/>
              </a:rPr>
              <a:t>Тренировочные упражнения по орфоэпии</a:t>
            </a:r>
            <a:endParaRPr b="0" lang="en-US" sz="4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Verdana"/>
              </a:rPr>
              <a:t>для подготовки к ЕГ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Verdana"/>
              </a:rPr>
              <a:t>по русскому язы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бАрм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А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А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вАрт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с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м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г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цЕ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Ереж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рА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кауч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намЕ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ргУ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омбардИ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ефтеп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3708360" y="3068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8028000" y="292428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8101080" y="566100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708360" y="5516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бал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з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 д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Ав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ш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(вы) п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з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лЕ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испАн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Осты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с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м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блегч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щА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лок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ш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п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эксперИ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бодр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8101080" y="566100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3924360" y="566100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8101080" y="299736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3851280" y="3068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атА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лИзк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кл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 т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фл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азмИ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ь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ломбИ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сугУб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п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столЯ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аз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нУ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рЕ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эска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вО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доку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8244000" y="530064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8172360" y="3068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3924360" y="5300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3780000" y="299736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краИн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ртф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 т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фл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п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х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фенОмен (явле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бОд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густОв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п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б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ы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вО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ра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илО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м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экспЕ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8244000" y="551664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8172360" y="3068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3492360" y="544500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3492360" y="299736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жалюз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ртф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ефтеп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емИ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знАм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ф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Ы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утеп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ств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пАмяту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истематиз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крА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Ибы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Оз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ы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подрОстков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8101080" y="566100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7956720" y="292428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4067280" y="566100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4067280" y="299736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нач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А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ю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ю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ы п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переня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звО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ул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жИм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ю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тня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И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Исп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нЕсе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Издр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зАня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7812000" y="530064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7812000" y="292428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3635280" y="522936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3635280" y="299736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Синим цветом  </a:t>
            </a:r>
            <a:r>
              <a:rPr b="1" i="1" lang="ru-RU" sz="3600" spc="-1" strike="noStrike">
                <a:solidFill>
                  <a:srgbClr val="6600cc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.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прИзв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ерЕт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ч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еревЕде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нЯ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поня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А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Иб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ы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птОв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г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ивЕзен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лЕп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азопрОв</a:t>
            </a: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Verdana"/>
              </a:rPr>
              <a:t>хлОпков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7885080" y="515772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7812000" y="292428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3851280" y="5157720"/>
            <a:ext cx="57636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3780000" y="2997360"/>
            <a:ext cx="576000" cy="5540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век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м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лу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ид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сведо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ата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ц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ежли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ау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рг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омбар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ефте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Oval 9"/>
          <p:cNvSpPr/>
          <p:nvPr/>
        </p:nvSpPr>
        <p:spPr>
          <a:xfrm>
            <a:off x="8101080" y="522936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3780000" y="515772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810108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6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ало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зят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 доск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ниш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(вы) пра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бс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злоб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ис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ты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сведо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блег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щ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локиро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шом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экспе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бод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8028000" y="508464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3780000" y="515772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028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7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ат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о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ла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 туф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аз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у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льк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лом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суг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про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то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азог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эскалат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и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оку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8101080" y="508464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817236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3780000" y="515772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0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кра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т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 туф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ер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ух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фе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 (явле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р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вгуст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ер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ыч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ща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я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раси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и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ме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экс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8028000" y="479736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8101080" y="285264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3780000" y="479736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7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жалюз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т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ефте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ем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уф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и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Ы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уте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редст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яту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истематизиро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к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ин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ы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ы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д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тков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14036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211640" y="566100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7956720" y="566100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788508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8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век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ую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ю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ы пра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ереня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з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и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уло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виж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ю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ня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п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древ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я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7812000" y="537372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7812000" y="299736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51280" y="544500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7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В каком слове </a:t>
            </a:r>
            <a:r>
              <a:rPr b="1" i="1" lang="ru-RU" sz="3600" spc="-1" strike="noStrike">
                <a:solidFill>
                  <a:srgbClr val="cc3300"/>
                </a:solidFill>
                <a:latin typeface="Garamond"/>
              </a:rPr>
              <a:t>верно</a:t>
            </a:r>
            <a:r>
              <a:rPr b="1" i="1" lang="ru-RU" sz="2800" spc="-1" strike="noStrike">
                <a:solidFill>
                  <a:srgbClr val="996633"/>
                </a:solidFill>
                <a:latin typeface="Garamond"/>
              </a:rPr>
              <a:t> выделена буква, обозначающая ударный звук?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в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е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ча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ере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дн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оня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у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ч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я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бывш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опт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рив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з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сос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газопр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в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601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хл</a:t>
            </a:r>
            <a:r>
              <a:rPr b="1" lang="ru-RU" sz="2400" spc="-1" strike="noStrike">
                <a:solidFill>
                  <a:srgbClr val="6633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пков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378000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8028000" y="508464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7885080" y="2924280"/>
            <a:ext cx="647640" cy="6490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157720"/>
            <a:ext cx="647640" cy="649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8" descr="AMDOUBT"/>
          <p:cNvPicPr/>
          <p:nvPr/>
        </p:nvPicPr>
        <p:blipFill>
          <a:blip r:embed="rId1"/>
          <a:stretch/>
        </p:blipFill>
        <p:spPr>
          <a:xfrm>
            <a:off x="7164360" y="333360"/>
            <a:ext cx="5637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Garamond"/>
              </a:rPr>
              <a:t>Ответы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3 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4 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5 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6 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7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8 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9 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0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1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2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3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4 -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5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6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7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8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19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0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1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2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3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4 –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5 –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6 –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7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Verdana"/>
              </a:rPr>
              <a:t>28 -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6" descr="AMSURPRI"/>
          <p:cNvPicPr/>
          <p:nvPr/>
        </p:nvPicPr>
        <p:blipFill>
          <a:blip r:embed="rId1"/>
          <a:stretch/>
        </p:blipFill>
        <p:spPr>
          <a:xfrm>
            <a:off x="3995640" y="3645000"/>
            <a:ext cx="1505160" cy="24480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>
            <a:hlinkClick r:id="rId2" action="ppaction://hlinksldjump"/>
          </p:cNvPr>
          <p:cNvSpPr/>
          <p:nvPr/>
        </p:nvSpPr>
        <p:spPr>
          <a:xfrm>
            <a:off x="8101080" y="6497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8">
            <a:hlinkClick r:id="" action="ppaction://hlinkshowjump?jump=nextslide"/>
          </p:cNvPr>
          <p:cNvSpPr/>
          <p:nvPr/>
        </p:nvSpPr>
        <p:spPr>
          <a:xfrm>
            <a:off x="8639280" y="6497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0:51:53Z</dcterms:created>
  <dc:creator>1</dc:creator>
  <dc:description/>
  <dc:language>en-US</dc:language>
  <cp:lastModifiedBy>Сергей</cp:lastModifiedBy>
  <dcterms:modified xsi:type="dcterms:W3CDTF">2012-01-30T19:37:17Z</dcterms:modified>
  <cp:revision>14</cp:revision>
  <dc:subject/>
  <dc:title>Укажите пример с ошибкой в образовании формы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