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3EC-868B-4344-B811-1AAA4406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F48-DF31-4ED6-BEB1-CA89C96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0A2-23D6-4268-9A38-2A6F57A3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2E1-0592-402C-916D-B8117ED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B166-55B5-40DD-9563-85574245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630-0527-4F49-BABF-62184766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2338-2CCD-479E-9D5B-5DA668F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4B80-1698-4343-B7C4-DBDBE3B9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C616-8835-4282-93C1-145F817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2454-FE11-47F7-8B03-D0329C3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B13-3C32-403E-AE54-1AC721B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3E6-86B3-4CCC-AA7C-049FC07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632B-45F2-487B-9D55-A6EE195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9410-4C69-497C-9EAD-4F0ADF5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F406-06A8-44DD-8F4C-19EAFE9E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5DF7-C5BA-44B5-92BA-B6917F35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857A-75A6-4E74-ADE6-6C6FDB4D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02A-6D0B-411E-91BE-A868DB1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97C-FD2B-4523-93D6-E0B52716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F5C-5A62-455F-A506-C2B2A15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611-951A-4158-9FFE-A711768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A8C-2736-460F-BAFC-388285C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A27-7AC8-4CAD-A83E-E60DD91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458-588D-4166-9A7B-2500A92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73B-4211-4F99-B77C-DE2E55D1637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734-346F-4A27-A044-6BED31346F9F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6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3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8.jpeg"/><Relationship Id="rId20" Type="http://schemas.openxmlformats.org/officeDocument/2006/relationships/image" Target="../media/image5.jpeg"/><Relationship Id="rId21" Type="http://schemas.openxmlformats.org/officeDocument/2006/relationships/image" Target="../media/image6.jpeg"/><Relationship Id="rId22" Type="http://schemas.openxmlformats.org/officeDocument/2006/relationships/image" Target="../media/image11.jpeg"/><Relationship Id="rId23" Type="http://schemas.openxmlformats.org/officeDocument/2006/relationships/image" Target="../media/image15.jpeg"/><Relationship Id="rId2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81440" y="695772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6760" y="450036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Выполнила:  ученица 10 класса МКОУ «Бабежская СОШ»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Михайлюк Ангелина</a:t>
            </a:r>
            <a:br>
              <a:rPr sz="1800"/>
            </a:b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Руководитель:  учитель физики Тетенькина Екатерина Владимировна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79280" y="907920"/>
            <a:ext cx="1584360" cy="1584360"/>
          </a:xfrm>
          <a:custGeom>
            <a:avLst/>
            <a:gdLst>
              <a:gd name="textAreaLeft" fmla="*/ 399240 w 1584360"/>
              <a:gd name="textAreaRight" fmla="*/ 1185120 w 1584360"/>
              <a:gd name="textAreaTop" fmla="*/ 399240 h 1584360"/>
              <a:gd name="textAreaBottom" fmla="*/ 11851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4" y="11460"/>
                </a:lnTo>
                <a:lnTo>
                  <a:pt x="198" y="12861"/>
                </a:lnTo>
                <a:lnTo>
                  <a:pt x="3518" y="12888"/>
                </a:lnTo>
                <a:lnTo>
                  <a:pt x="786" y="14846"/>
                </a:lnTo>
                <a:lnTo>
                  <a:pt x="4112" y="14356"/>
                </a:lnTo>
                <a:lnTo>
                  <a:pt x="1742" y="16682"/>
                </a:lnTo>
                <a:lnTo>
                  <a:pt x="4913" y="15567"/>
                </a:lnTo>
                <a:lnTo>
                  <a:pt x="3163" y="18437"/>
                </a:lnTo>
                <a:lnTo>
                  <a:pt x="5931" y="16603"/>
                </a:lnTo>
                <a:lnTo>
                  <a:pt x="4761" y="19754"/>
                </a:lnTo>
                <a:lnTo>
                  <a:pt x="7128" y="17425"/>
                </a:lnTo>
                <a:lnTo>
                  <a:pt x="6580" y="20741"/>
                </a:lnTo>
                <a:lnTo>
                  <a:pt x="8585" y="18044"/>
                </a:lnTo>
                <a:lnTo>
                  <a:pt x="8555" y="21364"/>
                </a:lnTo>
                <a:lnTo>
                  <a:pt x="10008" y="18334"/>
                </a:lnTo>
                <a:lnTo>
                  <a:pt x="10800" y="21600"/>
                </a:lnTo>
                <a:lnTo>
                  <a:pt x="11460" y="18346"/>
                </a:lnTo>
                <a:lnTo>
                  <a:pt x="12861" y="21402"/>
                </a:lnTo>
                <a:lnTo>
                  <a:pt x="12888" y="18082"/>
                </a:lnTo>
                <a:lnTo>
                  <a:pt x="14846" y="20814"/>
                </a:lnTo>
                <a:lnTo>
                  <a:pt x="14356" y="17488"/>
                </a:lnTo>
                <a:lnTo>
                  <a:pt x="16682" y="19858"/>
                </a:lnTo>
                <a:lnTo>
                  <a:pt x="15567" y="16687"/>
                </a:lnTo>
                <a:lnTo>
                  <a:pt x="18437" y="18437"/>
                </a:lnTo>
                <a:lnTo>
                  <a:pt x="16603" y="15669"/>
                </a:lnTo>
                <a:lnTo>
                  <a:pt x="19754" y="16839"/>
                </a:lnTo>
                <a:lnTo>
                  <a:pt x="17425" y="14472"/>
                </a:lnTo>
                <a:lnTo>
                  <a:pt x="20741" y="15020"/>
                </a:lnTo>
                <a:lnTo>
                  <a:pt x="18044" y="13015"/>
                </a:lnTo>
                <a:lnTo>
                  <a:pt x="21364" y="13045"/>
                </a:lnTo>
                <a:lnTo>
                  <a:pt x="18334" y="11592"/>
                </a:lnTo>
                <a:lnTo>
                  <a:pt x="21600" y="10800"/>
                </a:lnTo>
                <a:lnTo>
                  <a:pt x="18346" y="10140"/>
                </a:lnTo>
                <a:lnTo>
                  <a:pt x="21402" y="8739"/>
                </a:lnTo>
                <a:lnTo>
                  <a:pt x="18082" y="8712"/>
                </a:lnTo>
                <a:lnTo>
                  <a:pt x="20814" y="6754"/>
                </a:lnTo>
                <a:lnTo>
                  <a:pt x="17488" y="7244"/>
                </a:lnTo>
                <a:lnTo>
                  <a:pt x="19858" y="4918"/>
                </a:lnTo>
                <a:lnTo>
                  <a:pt x="16687" y="6033"/>
                </a:lnTo>
                <a:lnTo>
                  <a:pt x="18437" y="3163"/>
                </a:lnTo>
                <a:lnTo>
                  <a:pt x="15669" y="4997"/>
                </a:lnTo>
                <a:lnTo>
                  <a:pt x="16839" y="1846"/>
                </a:lnTo>
                <a:lnTo>
                  <a:pt x="14472" y="4175"/>
                </a:lnTo>
                <a:lnTo>
                  <a:pt x="15020" y="859"/>
                </a:lnTo>
                <a:lnTo>
                  <a:pt x="13015" y="3556"/>
                </a:lnTo>
                <a:lnTo>
                  <a:pt x="13045" y="236"/>
                </a:lnTo>
                <a:lnTo>
                  <a:pt x="11592" y="3266"/>
                </a:lnTo>
                <a:lnTo>
                  <a:pt x="10800" y="0"/>
                </a:lnTo>
                <a:lnTo>
                  <a:pt x="10140" y="3254"/>
                </a:lnTo>
                <a:lnTo>
                  <a:pt x="8739" y="198"/>
                </a:lnTo>
                <a:lnTo>
                  <a:pt x="8712" y="3518"/>
                </a:lnTo>
                <a:lnTo>
                  <a:pt x="6754" y="786"/>
                </a:lnTo>
                <a:lnTo>
                  <a:pt x="7244" y="4112"/>
                </a:lnTo>
                <a:lnTo>
                  <a:pt x="4918" y="1742"/>
                </a:lnTo>
                <a:lnTo>
                  <a:pt x="6033" y="4913"/>
                </a:lnTo>
                <a:lnTo>
                  <a:pt x="3163" y="3163"/>
                </a:lnTo>
                <a:lnTo>
                  <a:pt x="4997" y="5931"/>
                </a:lnTo>
                <a:lnTo>
                  <a:pt x="1846" y="4761"/>
                </a:lnTo>
                <a:lnTo>
                  <a:pt x="4175" y="7128"/>
                </a:lnTo>
                <a:lnTo>
                  <a:pt x="859" y="6580"/>
                </a:lnTo>
                <a:lnTo>
                  <a:pt x="3556" y="8585"/>
                </a:lnTo>
                <a:lnTo>
                  <a:pt x="236" y="8555"/>
                </a:lnTo>
                <a:lnTo>
                  <a:pt x="3266" y="10008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692360" y="0"/>
            <a:ext cx="1584360" cy="1844640"/>
          </a:xfrm>
          <a:prstGeom prst="irregularSeal2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771640" y="836640"/>
            <a:ext cx="1657440" cy="14414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067280" y="0"/>
            <a:ext cx="1585800" cy="1368360"/>
          </a:xfrm>
          <a:custGeom>
            <a:avLst/>
            <a:gdLst>
              <a:gd name="textAreaLeft" fmla="*/ 361800 w 1585800"/>
              <a:gd name="textAreaRight" fmla="*/ 1224000 w 158580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724360" y="1197000"/>
            <a:ext cx="1368720" cy="1295280"/>
          </a:xfrm>
          <a:custGeom>
            <a:avLst/>
            <a:gdLst>
              <a:gd name="textAreaLeft" fmla="*/ 312480 w 1368720"/>
              <a:gd name="textAreaRight" fmla="*/ 1056240 w 13687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 rot="10800000">
            <a:off x="6300720" y="0"/>
            <a:ext cx="1656000" cy="1774800"/>
          </a:xfrm>
          <a:prstGeom prst="irregularSeal2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7308720" y="907920"/>
            <a:ext cx="1511280" cy="1513080"/>
          </a:xfrm>
          <a:prstGeom prst="irregularSeal1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0" y="2637000"/>
            <a:ext cx="1187280" cy="1008000"/>
          </a:xfrm>
          <a:prstGeom prst="irregularSeal2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539640" y="3500280"/>
            <a:ext cx="935280" cy="936720"/>
          </a:xfrm>
          <a:custGeom>
            <a:avLst/>
            <a:gdLst>
              <a:gd name="textAreaLeft" fmla="*/ 213480 w 935280"/>
              <a:gd name="textAreaRight" fmla="*/ 721800 w 93528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1187280" y="2637000"/>
            <a:ext cx="936720" cy="936360"/>
          </a:xfrm>
          <a:prstGeom prst="irregularSeal2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1547640" y="3429000"/>
            <a:ext cx="1008360" cy="93672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2195640" y="2637000"/>
            <a:ext cx="1008000" cy="10080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"/>
          <p:cNvSpPr/>
          <p:nvPr/>
        </p:nvSpPr>
        <p:spPr>
          <a:xfrm>
            <a:off x="2771640" y="3573360"/>
            <a:ext cx="936720" cy="792360"/>
          </a:xfrm>
          <a:custGeom>
            <a:avLst/>
            <a:gdLst>
              <a:gd name="textAreaLeft" fmla="*/ 213840 w 936720"/>
              <a:gd name="textAreaRight" fmla="*/ 722880 w 9367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3348000" y="2708280"/>
            <a:ext cx="934920" cy="863640"/>
          </a:xfrm>
          <a:custGeom>
            <a:avLst/>
            <a:gdLst>
              <a:gd name="textAreaLeft" fmla="*/ 213480 w 934920"/>
              <a:gd name="textAreaRight" fmla="*/ 721440 w 93492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2"/>
          <p:cNvSpPr/>
          <p:nvPr/>
        </p:nvSpPr>
        <p:spPr>
          <a:xfrm>
            <a:off x="3924360" y="3429000"/>
            <a:ext cx="1008000" cy="1006560"/>
          </a:xfrm>
          <a:prstGeom prst="irregularSeal1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4500720" y="2637000"/>
            <a:ext cx="1008000" cy="93816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4"/>
          <p:cNvSpPr/>
          <p:nvPr/>
        </p:nvSpPr>
        <p:spPr>
          <a:xfrm>
            <a:off x="5148360" y="3429000"/>
            <a:ext cx="1008000" cy="93672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5867280" y="2637000"/>
            <a:ext cx="936720" cy="936360"/>
          </a:xfrm>
          <a:custGeom>
            <a:avLst/>
            <a:gdLst>
              <a:gd name="textAreaLeft" fmla="*/ 213840 w 936720"/>
              <a:gd name="textAreaRight" fmla="*/ 722880 w 936720"/>
              <a:gd name="textAreaTop" fmla="*/ 213840 h 936360"/>
              <a:gd name="textAreaBottom" fmla="*/ 7225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6443640" y="3500280"/>
            <a:ext cx="936720" cy="865440"/>
          </a:xfrm>
          <a:custGeom>
            <a:avLst/>
            <a:gdLst>
              <a:gd name="textAreaLeft" fmla="*/ 213840 w 936720"/>
              <a:gd name="textAreaRight" fmla="*/ 722880 w 9367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7"/>
          <p:cNvSpPr/>
          <p:nvPr/>
        </p:nvSpPr>
        <p:spPr>
          <a:xfrm>
            <a:off x="7020000" y="2637000"/>
            <a:ext cx="1079280" cy="1081080"/>
          </a:xfrm>
          <a:prstGeom prst="irregularSeal1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8"/>
          <p:cNvSpPr/>
          <p:nvPr/>
        </p:nvSpPr>
        <p:spPr>
          <a:xfrm>
            <a:off x="7596360" y="3429000"/>
            <a:ext cx="1079280" cy="1081080"/>
          </a:xfrm>
          <a:prstGeom prst="irregularSeal2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9"/>
          <p:cNvSpPr/>
          <p:nvPr/>
        </p:nvSpPr>
        <p:spPr>
          <a:xfrm>
            <a:off x="8136000" y="2637000"/>
            <a:ext cx="1008000" cy="93492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2" descr="image_thumb[2]"/>
          <p:cNvPicPr/>
          <p:nvPr/>
        </p:nvPicPr>
        <p:blipFill>
          <a:blip r:embed="rId23"/>
          <a:stretch/>
        </p:blipFill>
        <p:spPr>
          <a:xfrm>
            <a:off x="7358040" y="5572080"/>
            <a:ext cx="1474920" cy="11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50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5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327348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ПЫТ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ЗВОЛИВШИЙ ОБНАРУЖИТЬ СЛОЖНЫЙ СОСТАВ РАДИО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КТИВНОГО ИЗЛУЧЕНИЯ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24000" y="7532280"/>
            <a:ext cx="4786560" cy="1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Picture 4" descr="Белый мрамор"/>
          <p:cNvPicPr/>
          <p:nvPr/>
        </p:nvPicPr>
        <p:blipFill>
          <a:blip r:embed="rId1"/>
          <a:stretch/>
        </p:blipFill>
        <p:spPr>
          <a:xfrm>
            <a:off x="3780000" y="115920"/>
            <a:ext cx="49482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ЯДЕРНЫЙ РЕАКТОР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1" name="Picture 10" descr="Отсканировано 23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6360" y="2133720"/>
            <a:ext cx="727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24000" y="2205000"/>
            <a:ext cx="32403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Times New Roman"/>
              </a:rPr>
              <a:t>ДЕЛЕНИЕ ЯДЕР УРАН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3" name="Picture 4" descr="Отсканировано 23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6360" y="620640"/>
            <a:ext cx="4052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ЯДЕРНЫЙ РЕАКТОР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5" name="Picture 3" descr="Отсканировано 23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6360" y="2133720"/>
            <a:ext cx="727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66920" y="4581000"/>
            <a:ext cx="2737080" cy="10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Times New Roman"/>
              </a:rPr>
              <a:t>секунда до взрыв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620640"/>
            <a:ext cx="403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Чернобыльская АЭС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Picture 6" descr="75"/>
          <p:cNvPicPr/>
          <p:nvPr/>
        </p:nvPicPr>
        <p:blipFill>
          <a:blip r:embed="rId1"/>
          <a:stretch/>
        </p:blipFill>
        <p:spPr>
          <a:xfrm>
            <a:off x="1908000" y="3789360"/>
            <a:ext cx="3527640" cy="266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29502080"/>
          <p:cNvPicPr/>
          <p:nvPr/>
        </p:nvPicPr>
        <p:blipFill>
          <a:blip r:embed="rId2"/>
          <a:stretch/>
        </p:blipFill>
        <p:spPr>
          <a:xfrm>
            <a:off x="5219640" y="549360"/>
            <a:ext cx="35035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360" y="2565360"/>
            <a:ext cx="3168720" cy="6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«ФУКУСИМА»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40000" y="4941360"/>
            <a:ext cx="284004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ЗР ЫВ РЕАКТОР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51280" y="188640"/>
            <a:ext cx="28810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Д ИЗ САМОЛЕТА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3" name="Picture 4" descr="b_498007"/>
          <p:cNvPicPr/>
          <p:nvPr/>
        </p:nvPicPr>
        <p:blipFill>
          <a:blip r:embed="rId1"/>
          <a:stretch/>
        </p:blipFill>
        <p:spPr>
          <a:xfrm>
            <a:off x="1763640" y="404640"/>
            <a:ext cx="2855880" cy="214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5049"/>
          <p:cNvPicPr/>
          <p:nvPr/>
        </p:nvPicPr>
        <p:blipFill>
          <a:blip r:embed="rId2"/>
          <a:stretch/>
        </p:blipFill>
        <p:spPr>
          <a:xfrm>
            <a:off x="2700360" y="4292640"/>
            <a:ext cx="2855880" cy="2052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9220"/>
          <p:cNvPicPr/>
          <p:nvPr/>
        </p:nvPicPr>
        <p:blipFill>
          <a:blip r:embed="rId3"/>
          <a:stretch/>
        </p:blipFill>
        <p:spPr>
          <a:xfrm>
            <a:off x="5796000" y="1197000"/>
            <a:ext cx="28558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0:52:57Z</dcterms:created>
  <dc:creator>Admin</dc:creator>
  <dc:description/>
  <dc:language>en-US</dc:language>
  <cp:lastModifiedBy>Екатерина</cp:lastModifiedBy>
  <dcterms:modified xsi:type="dcterms:W3CDTF">2012-01-30T06:45:15Z</dcterms:modified>
  <cp:revision>6</cp:revision>
  <dc:subject/>
  <dc:title>Слайд 1</dc:title>
</cp:coreProperties>
</file>