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0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28.gif" ContentType="image/gif"/>
  <Override PartName="/ppt/media/image14.jpeg" ContentType="image/jpeg"/>
  <Override PartName="/ppt/media/image8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32.gif" ContentType="image/gif"/>
  <Override PartName="/ppt/media/image25.png" ContentType="image/png"/>
  <Override PartName="/ppt/media/image6.jpeg" ContentType="image/jpeg"/>
  <Override PartName="/ppt/media/image33.gif" ContentType="image/gif"/>
  <Override PartName="/ppt/media/image18.jpeg" ContentType="image/jpeg"/>
  <Override PartName="/ppt/media/image3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29.gif" ContentType="image/gif"/>
  <Override PartName="/ppt/media/image15.jpeg" ContentType="image/jpeg"/>
  <Override PartName="/ppt/media/image16.png" ContentType="image/png"/>
  <Override PartName="/ppt/media/image27.jpeg" ContentType="image/jpeg"/>
  <Override PartName="/ppt/media/image17.gif" ContentType="image/gif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4811-23BA-4DE9-8F7B-8D52B1DC2D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32F8-8F46-4607-8C8A-AA9C0B7BE5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88D0-53AF-48A1-89FE-4CBBE8514A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D17F-8A81-45DF-8FF6-DFB34A957E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85C6-9E1D-46AE-9032-B55F2C8F23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5F50-B55D-4637-9B9D-B59CB2B458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37F5-5CA6-4DC8-A341-EDE820065A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77F5-7B47-4FEA-9ACA-971202D102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CCCE-B3A1-496B-94A4-A0D3D5045D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642F-F5E4-49EF-B8B8-E54E07251C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1F10-6F10-4534-99C7-B3F9966199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7C2E-F8A1-49AB-BBE0-73823ECB28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07A7-5825-422D-98DB-429845C633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268F-7034-4074-B66B-E3112A4E7B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3F52-5FA1-4EAE-8474-165921661E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012A-918D-45D4-BE5D-F06F174474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CD96-5E6E-42D4-A6CF-3EB417F586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FFCF-3A60-429A-8387-35E1D97E29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E127-B265-44DD-9164-56B3835DD1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23A9-0BC8-4BB3-B9AB-5E53A94FBA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ABD6-429C-447F-AB13-E0ADE23C99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51A0-00CB-4D57-BACF-67A8117281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DC39-D68A-463D-A876-95422C659C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FF51-2DF0-4672-A3B5-3F85DA7274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E467-E8F5-4CB6-BA72-1A4A6A422F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A922-E9DB-475B-9BC6-9D5C39BC52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21D0-A661-49A7-917B-C90BA2F2E9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3FAF-2AFB-47AC-8C46-86BEF77912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5181-763A-460A-B533-D5427180C2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4F28-FA42-4A9C-A25E-8A8C5463CF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2D4-9BE8-41DA-9543-84E12A74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CC9-6186-4B66-B72F-53E4853C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053-CDA4-44A6-97A4-70C9B7A1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449-8DB1-4094-ACC4-219BFBAB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DFD8-BC5C-4219-8934-8F759E9B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DF17-14E4-4EA6-B2EA-4D3AE07C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8948-DD4F-42ED-AC22-27FE5C53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EFBF-69FB-46FD-B2E3-BB2E2793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B201-309A-419C-9479-29C6662F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F1A6-12D6-4F35-91AB-21AB3986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8B0C-7711-44FA-A5AA-F6C425EC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058-5979-46CF-99FC-F144CBD7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88CC-3815-4CB7-9FDE-64A01942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B7C3-B0DC-43DF-9827-8259A42A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E071-EFE1-4E3D-BAFA-5F7CC5CD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D6D3-CBE3-444E-B3DD-F8FEE9C8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E907-EF44-4E4A-97C5-44629602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C44-A2F9-4F4F-8A22-69980B27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E9B-F9B0-4BB0-9853-DE637D42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9A5-0EB7-4108-994F-A9B05EA8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A78-5532-4982-A24F-2E96A9DC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48F3-1685-49FC-A763-EF933C31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96C-BF90-485E-A76B-FA9583B2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C35-94F7-425A-9BEB-4CCE8146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7195-4861-4F08-900C-22E8DE230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D84C-9922-40B7-ACF4-EB921EC746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00391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ш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f8f8"/>
                </a:solidFill>
                <a:latin typeface="Arial Black"/>
              </a:rPr>
              <a:t> </a:t>
            </a:r>
            <a:r>
              <a:rPr b="1" i="1" lang="ru-RU" sz="5400" spc="-1" strike="noStrike">
                <a:solidFill>
                  <a:srgbClr val="f8f8f8"/>
                </a:solidFill>
                <a:latin typeface="Arial Black"/>
              </a:rPr>
              <a:t>ст.</a:t>
            </a:r>
            <a:r>
              <a:rPr b="1" i="1" lang="ru-RU" sz="7200" spc="-1" strike="noStrike">
                <a:solidFill>
                  <a:srgbClr val="f8f8f8"/>
                </a:solidFill>
                <a:latin typeface="Arial Black"/>
              </a:rPr>
              <a:t> Всезнайкино</a:t>
            </a:r>
            <a:endParaRPr b="1" lang="en-US" sz="7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22" name="Picture 4" descr="00039243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рогие мальчишки и девчонки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аша школа приветствует вас! Вы будете учиться  в 1 «А» классе. И это прекрасно! Знаете ли вы, сколько знаменитых, добрых и хороших людей учились именно в 1 «А» классе? Я - ваша школа, не дам вас в обиду и никогда вас не подведу! Я надеюсь, что вы будете активно участвовать в делах школы, с интересом учиться, с уважением относиться к учителям! Вперёд! В страну Знаний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аша 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25" name="Picture 4" descr="SL3810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S6000089"/>
          <p:cNvPicPr/>
          <p:nvPr/>
        </p:nvPicPr>
        <p:blipFill>
          <a:blip r:embed="rId2"/>
          <a:stretch/>
        </p:blipFill>
        <p:spPr>
          <a:xfrm>
            <a:off x="2057400" y="213372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SL381070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сканирование0008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ш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школьн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8f8f8"/>
                </a:solidFill>
                <a:latin typeface="Arial Black"/>
              </a:rPr>
              <a:t>Советы парты</a:t>
            </a:r>
            <a:endParaRPr b="1" lang="en-US" sz="8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34" name="Picture 4" descr="a288"/>
          <p:cNvPicPr/>
          <p:nvPr/>
        </p:nvPicPr>
        <p:blipFill>
          <a:blip r:embed="rId1"/>
          <a:stretch/>
        </p:blipFill>
        <p:spPr>
          <a:xfrm>
            <a:off x="4648320" y="1600200"/>
            <a:ext cx="4495680" cy="3386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ш6"/>
          <p:cNvPicPr/>
          <p:nvPr/>
        </p:nvPicPr>
        <p:blipFill>
          <a:blip r:embed="rId2"/>
          <a:stretch/>
        </p:blipFill>
        <p:spPr>
          <a:xfrm>
            <a:off x="533520" y="1143000"/>
            <a:ext cx="3429000" cy="2438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портфель"/>
          <p:cNvPicPr/>
          <p:nvPr/>
        </p:nvPicPr>
        <p:blipFill>
          <a:blip r:embed="rId3"/>
          <a:stretch/>
        </p:blipFill>
        <p:spPr>
          <a:xfrm>
            <a:off x="2362320" y="3809880"/>
            <a:ext cx="2857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Растениям необходимы для жизни вода, воздух, свет и тепло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main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сканирование0024"/>
          <p:cNvPicPr/>
          <p:nvPr/>
        </p:nvPicPr>
        <p:blipFill>
          <a:blip r:embed="rId1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5"/>
          <p:cNvSpPr txBox="1"/>
          <p:nvPr/>
        </p:nvSpPr>
        <p:spPr>
          <a:xfrm>
            <a:off x="0" y="4724280"/>
            <a:ext cx="9144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дравствуй,школа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Arial Black"/>
              </a:rPr>
              <a:t>Тетрадь, ручка, карандаш, линейка, ластик, закладка, книга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41" name="Picture 4" descr="p4004"/>
          <p:cNvPicPr/>
          <p:nvPr/>
        </p:nvPicPr>
        <p:blipFill>
          <a:blip r:embed="rId1"/>
          <a:stretch/>
        </p:blipFill>
        <p:spPr>
          <a:xfrm>
            <a:off x="4343400" y="2209680"/>
            <a:ext cx="2362320" cy="2793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карандаш"/>
          <p:cNvPicPr/>
          <p:nvPr/>
        </p:nvPicPr>
        <p:blipFill>
          <a:blip r:embed="rId2"/>
          <a:stretch/>
        </p:blipFill>
        <p:spPr>
          <a:xfrm>
            <a:off x="2133720" y="4000680"/>
            <a:ext cx="2124000" cy="2857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PH02750U"/>
          <p:cNvPicPr/>
          <p:nvPr/>
        </p:nvPicPr>
        <p:blipFill>
          <a:blip r:embed="rId3"/>
          <a:stretch/>
        </p:blipFill>
        <p:spPr>
          <a:xfrm>
            <a:off x="0" y="198108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links2"/>
          <p:cNvPicPr/>
          <p:nvPr/>
        </p:nvPicPr>
        <p:blipFill>
          <a:blip r:embed="rId4"/>
          <a:stretch/>
        </p:blipFill>
        <p:spPr>
          <a:xfrm>
            <a:off x="6324480" y="4419720"/>
            <a:ext cx="25909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8f8f8"/>
                </a:solidFill>
                <a:latin typeface="Arial Black"/>
              </a:rPr>
              <a:t>Собери портфель</a:t>
            </a:r>
            <a:endParaRPr b="1" lang="en-US" sz="6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46" name="Picture 4" descr="ш4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f8f8"/>
                </a:solidFill>
                <a:latin typeface="Arial Black"/>
              </a:rPr>
              <a:t>ст.</a:t>
            </a:r>
            <a:r>
              <a:rPr b="1" lang="ru-RU" sz="7200" spc="-1" strike="noStrike">
                <a:solidFill>
                  <a:srgbClr val="f8f8f8"/>
                </a:solidFill>
                <a:latin typeface="Arial Black"/>
              </a:rPr>
              <a:t> Переменкино</a:t>
            </a:r>
            <a:endParaRPr b="1" lang="en-US" sz="7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00009876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8f8f8"/>
                </a:solidFill>
                <a:latin typeface="Arial Black"/>
              </a:rPr>
              <a:t>Физкультминутка</a:t>
            </a:r>
            <a:endParaRPr b="1" lang="en-US" sz="6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38"/>
          <p:cNvPicPr/>
          <p:nvPr/>
        </p:nvPicPr>
        <p:blipFill>
          <a:blip r:embed="rId1"/>
          <a:stretch/>
        </p:blipFill>
        <p:spPr>
          <a:xfrm>
            <a:off x="457200" y="342900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PENGUI_1"/>
          <p:cNvPicPr/>
          <p:nvPr/>
        </p:nvPicPr>
        <p:blipFill>
          <a:blip r:embed="rId2"/>
          <a:stretch/>
        </p:blipFill>
        <p:spPr>
          <a:xfrm>
            <a:off x="3809880" y="1523880"/>
            <a:ext cx="51055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Перемена – 4 А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агм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8f8f8"/>
                </a:solidFill>
                <a:latin typeface="Arial Black"/>
              </a:rPr>
              <a:t>ст.</a:t>
            </a:r>
            <a:r>
              <a:rPr b="1" i="1" lang="ru-RU" sz="8000" spc="-1" strike="noStrike">
                <a:solidFill>
                  <a:srgbClr val="f8f8f8"/>
                </a:solidFill>
                <a:latin typeface="Arial Black"/>
              </a:rPr>
              <a:t> Оценочкино</a:t>
            </a:r>
            <a:endParaRPr b="1" lang="en-US" sz="8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57" name="Picture 4" descr="00039265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8f8f8"/>
                </a:solidFill>
                <a:latin typeface="Arial Black"/>
              </a:rPr>
              <a:t>Чему учат в школе?</a:t>
            </a:r>
            <a:endParaRPr b="1" lang="en-US" sz="6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Мы научимся читать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исовать, писать, считать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И всегда по всем предметам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олучать мы будем пять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ш6"/>
          <p:cNvPicPr/>
          <p:nvPr/>
        </p:nvPicPr>
        <p:blipFill>
          <a:blip r:embed="rId1"/>
          <a:stretch/>
        </p:blipFill>
        <p:spPr>
          <a:xfrm>
            <a:off x="1676520" y="2057400"/>
            <a:ext cx="5867280" cy="3505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8f8f8"/>
                </a:solidFill>
                <a:latin typeface="Arial Black"/>
              </a:rPr>
              <a:t>Клятва первоклассников</a:t>
            </a:r>
            <a:endParaRPr b="1" lang="en-US" sz="6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80880" y="542592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f8f8"/>
                </a:solidFill>
                <a:latin typeface="Arial Black"/>
              </a:rPr>
              <a:t>Клянёмся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cveti_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f8f8"/>
                </a:solidFill>
                <a:latin typeface="Arial Black"/>
              </a:rPr>
              <a:t>Спасибо за внимание!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65" name="Picture 4" descr="Копия sun"/>
          <p:cNvPicPr/>
          <p:nvPr/>
        </p:nvPicPr>
        <p:blipFill>
          <a:blip r:embed="rId1"/>
          <a:stretch/>
        </p:blipFill>
        <p:spPr>
          <a:xfrm>
            <a:off x="914400" y="243828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419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8f8f8"/>
                </a:solidFill>
                <a:latin typeface="Arial Black"/>
              </a:rPr>
              <a:t>День Знаний!</a:t>
            </a:r>
            <a:endParaRPr b="1" lang="en-US" sz="8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9" name="Picture 4" descr="колокольчик1"/>
          <p:cNvPicPr/>
          <p:nvPr/>
        </p:nvPicPr>
        <p:blipFill>
          <a:blip r:embed="rId1"/>
          <a:stretch/>
        </p:blipFill>
        <p:spPr>
          <a:xfrm>
            <a:off x="2362320" y="0"/>
            <a:ext cx="4572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8f8f8"/>
                </a:solidFill>
                <a:latin typeface="Arial Black"/>
              </a:rPr>
              <a:t>Станции:</a:t>
            </a:r>
            <a:endParaRPr b="1" lang="en-US" sz="8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45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«Знакомкино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«Всезнайкино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«Переменкино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«Оценочкино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clouds_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00040914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8f8f8"/>
                </a:solidFill>
                <a:latin typeface="Arial Black"/>
              </a:rPr>
              <a:t> </a:t>
            </a:r>
            <a:r>
              <a:rPr b="1" lang="ru-RU" sz="6000" spc="-1" strike="noStrike">
                <a:solidFill>
                  <a:srgbClr val="f8f8f8"/>
                </a:solidFill>
                <a:latin typeface="Arial Black"/>
              </a:rPr>
              <a:t>ст.</a:t>
            </a:r>
            <a:r>
              <a:rPr b="1" lang="ru-RU" sz="8000" spc="-1" strike="noStrike">
                <a:solidFill>
                  <a:srgbClr val="f8f8f8"/>
                </a:solidFill>
                <a:latin typeface="Arial Black"/>
              </a:rPr>
              <a:t> Знакомкино</a:t>
            </a:r>
            <a:endParaRPr b="1" lang="en-US" sz="8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18" name="Picture 4" descr="ш9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шко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31T01:41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