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447-93ED-4B2D-A785-B0DC8A76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81D-3346-4A15-B267-EACC9C80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B72-0EBB-4976-90FD-03074BF0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732-F6BA-40D9-BD6E-8101A403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29D-927C-4596-BB02-C7F1100B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083-E677-433A-84AF-21F92302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6C6-769F-4BCA-BE7E-F19F7F05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D75-B897-4D66-905B-51619123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E8E-1D3E-4734-9CEB-B5D39ACF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D41-3EBA-40DD-939D-ED49242B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736-D46D-469C-916D-FB5E8B9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408-87B1-4878-96E1-4C5C02B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910E-B39F-4E6F-A613-0C4CE82F4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571760" y="3286080"/>
            <a:ext cx="4533840" cy="1310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Есть святое место в каждом доме,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де хранится памятная вещь,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у а орден — к дедовской иконе,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Чтоб для внуков, правнуков сбе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TextBox 3"/>
          <p:cNvGrpSpPr/>
          <p:nvPr/>
        </p:nvGrpSpPr>
        <p:grpSpPr>
          <a:xfrm>
            <a:off x="311040" y="4724280"/>
            <a:ext cx="3864240" cy="1457280"/>
            <a:chOff x="311040" y="4724280"/>
            <a:chExt cx="3864240" cy="1457280"/>
          </a:xfrm>
        </p:grpSpPr>
        <p:pic>
          <p:nvPicPr>
            <p:cNvPr id="43" name="TextBox 3" descr=""/>
            <p:cNvPicPr/>
            <p:nvPr/>
          </p:nvPicPr>
          <p:blipFill>
            <a:blip r:embed="rId1"/>
            <a:stretch/>
          </p:blipFill>
          <p:spPr>
            <a:xfrm>
              <a:off x="311040" y="4724280"/>
              <a:ext cx="38642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33440" y="4786200"/>
              <a:ext cx="3654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Исследовательская  рабо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Участники локальных воин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Подготовила: Бубнова  Ан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Преподаватель: Сидоренко Н.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Box 4"/>
          <p:cNvSpPr/>
          <p:nvPr/>
        </p:nvSpPr>
        <p:spPr>
          <a:xfrm>
            <a:off x="2517480" y="1928880"/>
            <a:ext cx="5278680" cy="1099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Calibri"/>
              </a:rPr>
              <a:t>Служу Росси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60480" y="1357200"/>
            <a:ext cx="129384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214800" y="571680"/>
            <a:ext cx="2452680" cy="328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888840" y="2857680"/>
            <a:ext cx="1003320" cy="13572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4"/>
          <a:stretch/>
        </p:blipFill>
        <p:spPr>
          <a:xfrm>
            <a:off x="1592280" y="4000680"/>
            <a:ext cx="1511280" cy="103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5"/>
          <a:stretch/>
        </p:blipFill>
        <p:spPr>
          <a:xfrm>
            <a:off x="2357280" y="4714920"/>
            <a:ext cx="1285920" cy="1136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6"/>
          <a:stretch/>
        </p:blipFill>
        <p:spPr>
          <a:xfrm>
            <a:off x="357120" y="5000760"/>
            <a:ext cx="1763640" cy="111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Общественная медаль «За верность долгу и Отечеству»"/>
          <p:cNvPicPr/>
          <p:nvPr/>
        </p:nvPicPr>
        <p:blipFill>
          <a:blip r:embed="rId1"/>
          <a:stretch/>
        </p:blipFill>
        <p:spPr>
          <a:xfrm>
            <a:off x="0" y="357120"/>
            <a:ext cx="1486080" cy="214308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457200" y="274680"/>
            <a:ext cx="4543560" cy="5112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да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За верность долгу и Отечеств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2286000" y="2357280"/>
            <a:ext cx="45720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дителями меда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За верность долгу и Отечеству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ются: Всероссийский Союз общественных объединений ветеранов десантных войск «Союз десантников России»; Ассоциация Героев Советского Союза, Российской Федерации и Социалистического труда; Региональная общественная организация «Академия русской символики «МАР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925880" y="1566720"/>
            <a:ext cx="1865520" cy="22669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500720" y="714240"/>
            <a:ext cx="42861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нкин Василий Васильеви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Общественная медаль «За верность долгу и Отечеству»"/>
          <p:cNvPicPr/>
          <p:nvPr/>
        </p:nvPicPr>
        <p:blipFill>
          <a:blip r:embed="rId2"/>
          <a:stretch/>
        </p:blipFill>
        <p:spPr>
          <a:xfrm>
            <a:off x="7072200" y="1500120"/>
            <a:ext cx="1338480" cy="1928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571680" y="407196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Территориальное отделение Волчихинского  района Рубцовского общественного благотворительного фонда инвалидов вой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dmin\Рабочий стол\сидоренко\SDC10046.JPG"/>
          <p:cNvPicPr/>
          <p:nvPr/>
        </p:nvPicPr>
        <p:blipFill>
          <a:blip r:embed="rId1"/>
          <a:stretch/>
        </p:blipFill>
        <p:spPr>
          <a:xfrm>
            <a:off x="5214960" y="228600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Admin\Рабочий стол\сидоренко\SDC10048.JPG"/>
          <p:cNvPicPr/>
          <p:nvPr/>
        </p:nvPicPr>
        <p:blipFill>
          <a:blip r:embed="rId2"/>
          <a:stretch/>
        </p:blipFill>
        <p:spPr>
          <a:xfrm>
            <a:off x="4786200" y="785880"/>
            <a:ext cx="1619280" cy="121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Admin\Рабочий стол\сидоренко\SDC10292.JPG"/>
          <p:cNvPicPr/>
          <p:nvPr/>
        </p:nvPicPr>
        <p:blipFill>
          <a:blip r:embed="rId3"/>
          <a:stretch/>
        </p:blipFill>
        <p:spPr>
          <a:xfrm>
            <a:off x="3429000" y="2928960"/>
            <a:ext cx="2190600" cy="1643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Admin\Рабочий стол\сидоренко\SDC10294.JPG"/>
          <p:cNvPicPr/>
          <p:nvPr/>
        </p:nvPicPr>
        <p:blipFill>
          <a:blip r:embed="rId4"/>
          <a:stretch/>
        </p:blipFill>
        <p:spPr>
          <a:xfrm>
            <a:off x="2666880" y="1928880"/>
            <a:ext cx="1762200" cy="132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Admin\Рабочий стол\сидоренко\SDC10238.JPG"/>
          <p:cNvPicPr/>
          <p:nvPr/>
        </p:nvPicPr>
        <p:blipFill>
          <a:blip r:embed="rId5"/>
          <a:stretch/>
        </p:blipFill>
        <p:spPr>
          <a:xfrm>
            <a:off x="1714680" y="3429000"/>
            <a:ext cx="2000160" cy="1846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743040" y="1225440"/>
            <a:ext cx="6456240" cy="3333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:</a:t>
            </a: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любые времена люди стремились знать и помнить тех, кто удостоен  наград. Я считаю, что это моральный долг каждого человека. Но зачастую те кто удостоен этих наград, живущие рядом, остаются в тени. Мы встречаем их на улице проходим мимо даже не подозревая о их существовании, тем более не знаем за что получены эти наград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2124000" y="2000160"/>
            <a:ext cx="65628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цели и задач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исследования:   изучить когда появилась данная наград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а что её давал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к она выглядит.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ыяснить сколько человек родом из нашего района награждены этой наградой и за чт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ить биографию этих люд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7480" y="213840"/>
            <a:ext cx="29718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ект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его исследования являю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наши земляки, проходившие службу в горячих точках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500120" y="2214720"/>
            <a:ext cx="367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 архивными материа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857160" y="1214280"/>
            <a:ext cx="35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51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ста участия в военных конфликтах наших земляков: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РА - 35 человек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Чечне – 82 человека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Таджикистане – 2 человека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Дагестане – 6 человек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Карабахе – 1 человек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Осетий – 3 человека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Преднистровье – 2 человека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Персидском заливе – 1 человек.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и в нашем селе те кто удостоен такой почётной награды. Их 2 человека.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33640" y="2852640"/>
            <a:ext cx="1450800" cy="1567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153240" y="3214800"/>
            <a:ext cx="3951360" cy="1861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деном муж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 нас в районе награжд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ляев Сергей Вита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тапенко Вадим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57160" y="4000680"/>
            <a:ext cx="809640" cy="85716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4143240" y="214200"/>
            <a:ext cx="4043520" cy="642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а муж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111276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3880" y="499680"/>
            <a:ext cx="8015400" cy="63579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монов Николай Владимирович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лся 8 декабря 1960 года, в Селивёрстово. В 1978 -1980 году проходил службу в Афганистане. Имеет награду «За мужество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ле того, как отслужил поступил в Славгородский техникум. Работал агрономом в колхозе Родино, Волчихинского района. В 1985 году поступает заочно в сельхоз институт в г. Барнауле. В 2000 году переехал вместе с семьёй в с. Харлово, Краснощёковского района. Сначала работал главным агрономом, а потом менеджером по продажам. В 2010 году ум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99760" y="856800"/>
            <a:ext cx="7086600" cy="3786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даль “За отвагу” - вторая, после медали “ХХ лет РККА”, по времени учреждения в СССР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даль “За отвагу” является высшей советской медалью и располагается при ношении перед остальными медаля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1571760" y="1285920"/>
            <a:ext cx="6329160" cy="439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аль «За Отваг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  Медаль &quot;За отвагу&quot;  "/>
          <p:cNvPicPr/>
          <p:nvPr/>
        </p:nvPicPr>
        <p:blipFill>
          <a:blip r:embed="rId1"/>
          <a:stretch/>
        </p:blipFill>
        <p:spPr>
          <a:xfrm>
            <a:off x="285840" y="285840"/>
            <a:ext cx="106200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едалью «За отвагу». в Волчихинском районе награждены 7 человек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рнышё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ргей Валерьевич (ДРА)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чиха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ф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Юрий Эвольдович (Чечня), (Правда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ум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дуард Владимирович(Чечня), (Селевёрстово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шин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гений Иванович (Чечня), (Приборовое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еденю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ександр Геннадьевич (ДРА), (Волчиха)</a:t>
            </a: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мён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Юрий Николаевич (ДРА), (Волчиха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лк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ександр Васильевич (ДРА), (Солоновк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28960" cy="939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ргей Валерьевич Чернышё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47800" y="1517760"/>
            <a:ext cx="1895400" cy="246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  Медаль &quot;За отвагу&quot;  "/>
          <p:cNvPicPr/>
          <p:nvPr/>
        </p:nvPicPr>
        <p:blipFill>
          <a:blip r:embed="rId2"/>
          <a:stretch/>
        </p:blipFill>
        <p:spPr>
          <a:xfrm>
            <a:off x="1805040" y="2298600"/>
            <a:ext cx="1309680" cy="136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4492800" y="2206800"/>
            <a:ext cx="2682720" cy="2011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4515120" y="2000160"/>
            <a:ext cx="3958560" cy="459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мёнов Юрий Николаеви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4"/>
          <a:stretch/>
        </p:blipFill>
        <p:spPr>
          <a:xfrm>
            <a:off x="6924600" y="3500280"/>
            <a:ext cx="1433520" cy="135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1:20:37Z</dcterms:created>
  <dc:creator>SPA</dc:creator>
  <dc:description/>
  <dc:language>en-US</dc:language>
  <cp:lastModifiedBy>Admin</cp:lastModifiedBy>
  <dcterms:modified xsi:type="dcterms:W3CDTF">2012-01-31T22:23:45Z</dcterms:modified>
  <cp:revision>69</cp:revision>
  <dc:subject/>
  <dc:title>Слайд 1</dc:title>
</cp:coreProperties>
</file>