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E3E-CBC8-44C6-8256-32D7438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96D-88CC-4A21-ACCB-2D8F1F26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A0E-48D4-4B12-8BF6-0CD21197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C38-1CF8-4FBE-AE89-BD7A2005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ECE-17B2-40E4-B0F1-54B3E57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A15-6E1B-4564-BF3A-A9D4490F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4FA-2BFD-45EC-8D2B-918F6527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632-C396-433A-94E0-D46515D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7E0-3831-47A4-9B6E-61E0D121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10A-5DAC-4556-B0F2-65C6AAA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C1E-D28E-4D14-B337-F6705A7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3CC-C2F5-4854-9E6B-05DA019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A3E4-35CB-4807-AD4D-AAA3BEBF6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hyperlink" Target="http://moikompas.ru/img/compas/2008-03-25/bezopasnost_deti/52149311_orig.jpg" TargetMode="External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о ПП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Чтоб город стал кра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принял сто 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тец и началь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орода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:\МАМА\клипарт\354e7d61dc69.png"/>
          <p:cNvPicPr/>
          <p:nvPr/>
        </p:nvPicPr>
        <p:blipFill>
          <a:blip r:embed="rId1"/>
          <a:stretch/>
        </p:blipFill>
        <p:spPr>
          <a:xfrm>
            <a:off x="5857920" y="2428920"/>
            <a:ext cx="275112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131caf61acf.png"/>
          <p:cNvPicPr/>
          <p:nvPr/>
        </p:nvPicPr>
        <p:blipFill>
          <a:blip r:embed="rId1"/>
          <a:stretch/>
        </p:blipFill>
        <p:spPr>
          <a:xfrm>
            <a:off x="5572080" y="1785960"/>
            <a:ext cx="319104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главный на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важный, как дире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 смотрит взглядом стр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 всех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дорожная загадк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овется та лошадк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легла на переход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шагают пешех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, а если пешеход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туар не по пути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ужно пешеход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товую перейти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ищет пешехо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 дорожный … 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озно мчат автомобил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железная река!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тебя не раздавил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но хрупкого жучка,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дорогой, словно грот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не катится автобу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трамваи не пройду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спокойно пешеход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оль по улице иду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машин и для трам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ть-дорога есть друг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moikompas.ru/img/compas/2008-03-25/bezopasnost_deti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Вязникова М. Н., классный руководитель 4 класса, учитель МБОУ «Тотемская СОШ № 1», г.Тотьм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Admin</cp:lastModifiedBy>
  <dcterms:modified xsi:type="dcterms:W3CDTF">2012-01-31T19:34:15Z</dcterms:modified>
  <cp:revision>69</cp:revision>
  <dc:subject/>
  <dc:title>Слайд 1</dc:title>
</cp:coreProperties>
</file>