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DD4-CA47-41BF-9B60-2494D8ED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C82-E2C1-4337-8EC0-CCF80890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421-FAE9-4188-9B9E-C97D3AC5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793-A715-484A-9EEB-C3B564CA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3F3-5B02-4DCE-8F11-771F8F4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2F3-956C-40C5-B8A1-2DDF555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3D2-8B58-41A9-9926-3742FD2C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923-963F-4FAC-A016-3CF9D2E8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BE3-885D-4BDC-916E-D3B43F22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294-9807-4066-BC44-74A7919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299-00FD-4517-939A-D20060B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6FE-2AFE-4C81-BBA6-A5513ED8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CEFA-833D-4A48-9CF5-BCE338359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hyperlink" Target="http://moikompas.ru/img/compas/2008-03-25/bezopasnost_deti/52149311_orig.jpg" TargetMode="External"/><Relationship Id="rId1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 по ПП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Чтоб город стал кра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н принял сто 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тец и началь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орода -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:\МАМА\клипарт\354e7d61dc69.png"/>
          <p:cNvPicPr/>
          <p:nvPr/>
        </p:nvPicPr>
        <p:blipFill>
          <a:blip r:embed="rId1"/>
          <a:stretch/>
        </p:blipFill>
        <p:spPr>
          <a:xfrm>
            <a:off x="5857920" y="2428920"/>
            <a:ext cx="275112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2131caf61acf.png"/>
          <p:cNvPicPr/>
          <p:nvPr/>
        </p:nvPicPr>
        <p:blipFill>
          <a:blip r:embed="rId1"/>
          <a:stretch/>
        </p:blipFill>
        <p:spPr>
          <a:xfrm>
            <a:off x="5572080" y="1785960"/>
            <a:ext cx="3191040" cy="478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н главный на д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н важный, как дире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 смотрит взглядом стро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 всех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дорожная загадк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овется та лошадк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легла на переход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шагают пешех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, а если пешеход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туар не по пути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нужно пешеход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товую перейти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зу ищет пешехо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 дорожный … ?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озно мчат автомобили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железная река!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 тебя не раздавили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но хрупкого жучка,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 дорогой, словно грот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есь не катится автобу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есь трамваи не пройду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есь спокойно пешеход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доль по улице иду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машин и для трамв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ть-дорога есть друг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moikompas.ru/img/compas/2008-03-25/bezopasnost_deti/52149311_orig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Вязникова М. Н., классный руководитель 4 класса, учитель МБОУ «Тотемская СОШ № 1», г.Тотьм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Admin</cp:lastModifiedBy>
  <dcterms:modified xsi:type="dcterms:W3CDTF">2012-01-31T19:34:15Z</dcterms:modified>
  <cp:revision>69</cp:revision>
  <dc:subject/>
  <dc:title>Слайд 1</dc:title>
</cp:coreProperties>
</file>