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5.png" ContentType="image/png"/>
  <Override PartName="/ppt/media/image20.png" ContentType="image/png"/>
  <Override PartName="/ppt/media/image18.png" ContentType="image/png"/>
  <Override PartName="/ppt/media/image21.png" ContentType="image/png"/>
  <Override PartName="/ppt/media/image16.gif" ContentType="image/gif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2CCC-5C79-4107-879B-55D50F57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482F-B9BC-461F-BC86-C955D70E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5594-F2E8-4717-9332-AE60385E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4516-452B-437B-8B9C-1B397540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5954-4821-4BD7-95C0-D0D3A18C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5639-A9D9-419F-A2FD-D8D60245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B2CE-D656-40D9-BAD6-C3CF09EE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4264-446E-42E9-81F0-0D3A6B51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F992-4099-43F1-BADF-C8203554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535C-B4D3-4A6E-8CD9-84C4E3B7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CA23-E4AF-4C19-998C-7B11765A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EC3F-2751-44D9-8E14-68663E56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FD59-DD47-4BE2-A232-331C8EA0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8DF9-E354-48D5-9F86-CDA32F72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941C-C0EF-491D-A70C-200F7C33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22ED-11D2-463B-9A16-AEBE1CDB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2514-0C04-4483-A792-751816BA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110C9-2991-4AF0-9AD1-1BBD0361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B7EE5-DEA1-437C-96FF-E557B8A9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F638D-6EDF-44FA-B7D0-07F04D7F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61E0F-C778-4D06-838E-054B979A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A651A-4980-491C-AAEB-1CD84986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D685-9EF1-4B9D-9112-F271393F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81C95-3312-453C-B7ED-61E5E578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8144C-4E31-48E6-BB7C-5E2E2671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CCE66-409E-490B-98D0-8F411C62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DEBCB-4277-469D-AEFE-59F4CF55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641FD-8B36-4C2E-AD42-16D8F86C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D3508-5366-48BD-B5D6-D251548B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E9F29-D8D0-488B-9C64-F17AEBEE6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B620C-C57A-4FD9-8B51-9A7058DA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E6867-E4CD-4D08-BCBA-49DE240A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58F37-62F5-4C67-9A05-3760333A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C57-2C5E-48B9-9EC5-67B83CB0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16CDC-8FAD-45F7-9442-BCABBB67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EC4AC-EF25-4BF0-AE77-69F8F1E5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C3891-E812-4031-B254-E8CDB1FE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7E74E-9801-45B8-9EE0-009F7613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331D4-D5BD-4B2D-BD4F-57DBBD81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9E91C-DEC2-4D46-B5AF-C1FB1DD4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03FF8-EEA8-4198-BFDF-24A5E777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90D2E-0146-4CE7-B72E-9E2EF781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3A6EA-6F07-4461-8A88-CC3CCDD5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2A57A-53D2-435C-B9AA-6D222091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D465-26C6-42C2-95C9-DF70088D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DBE16-181D-4769-8BB1-469267F4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68EDD-1B7E-4263-BFE9-81A67F7D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26CBF-40BD-4429-B6D1-7B5A7A68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9FF28-8595-4005-864F-F535310B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CE9BC-9C82-4952-82DD-A498F12F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85358-DC13-4915-93C8-C76AD95B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9554C-D28A-4205-A6E0-FC0017E9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DE045-E231-4003-9EE9-A5921202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CAB6D-FA99-4333-ADE7-EFA541C8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ED73C-F420-47BE-AD05-CEF8AEEC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E45B-466D-4D01-80F7-779F70ED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6927D-8EFE-4B05-8F90-822B9F0C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3FAA-F277-4803-A16B-19D7BB09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89CA-BB9D-45DB-BAA1-4D9DD344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C639-9DB6-4B41-9595-EE852B88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9644-CE98-4CDF-A359-4B15CE1F01CE}" type="slidenum">
              <a:rPr b="0" lang="ru-RU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562B-A0EE-467C-A78D-E1CC32A6D9BE}" type="slidenum">
              <a:rPr b="0" lang="ru-RU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7DA9-2CE2-4689-B443-1733DD271E78}" type="slidenum">
              <a:rPr b="0" lang="ru-RU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2392-B862-47E7-BC7A-27DFF379E845}" type="slidenum">
              <a:rPr b="0" lang="ru-RU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376F-4BC4-44AC-8C90-7BBAB4B512ED}" type="slidenum">
              <a:rPr b="0" lang="ru-RU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hyperlink" Target="file:///&#1054;&#1093;&#1088;&#1072;&#1085;&#1103;&#1077;&#1084;&#1099;&#1077;%20&#1090;&#1077;&#1088;&#1080;&#1090;&#1086;&#1088;&#1088;&#1080;&#1080;.ppt" TargetMode="External"/><Relationship Id="rId5" Type="http://schemas.openxmlformats.org/officeDocument/2006/relationships/hyperlink" Target="file:///&#1055;&#1088;&#1077;&#1079;&#1077;&#1085;&#1090;&#1072;&#1094;&#1080;&#1103;1.ppt" TargetMode="External"/><Relationship Id="rId6" Type="http://schemas.openxmlformats.org/officeDocument/2006/relationships/hyperlink" Target="file:///&#1042;&#1086;&#1079;&#1088;&#1072;&#1089;&#1090;%20&#1076;&#1077;&#1090;&#1077;&#1081;.doc" TargetMode="Externa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2"/>
          <a:stretch/>
        </p:blipFill>
        <p:spPr>
          <a:xfrm>
            <a:off x="536400" y="122400"/>
            <a:ext cx="7858440" cy="4437000"/>
          </a:xfrm>
          <a:prstGeom prst="rect">
            <a:avLst/>
          </a:prstGeom>
          <a:ln w="0">
            <a:noFill/>
          </a:ln>
        </p:spPr>
      </p:pic>
      <p:sp>
        <p:nvSpPr>
          <p:cNvPr id="246" name="TextBox 1"/>
          <p:cNvSpPr/>
          <p:nvPr/>
        </p:nvSpPr>
        <p:spPr>
          <a:xfrm>
            <a:off x="6588000" y="4394160"/>
            <a:ext cx="2468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ed46c"/>
                </a:solidFill>
                <a:latin typeface="Arial"/>
              </a:rPr>
              <a:t>Ткачен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ed46c"/>
                </a:solidFill>
                <a:latin typeface="Arial"/>
              </a:rPr>
              <a:t>Свет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ed46c"/>
                </a:solidFill>
                <a:latin typeface="Arial"/>
              </a:rPr>
              <a:t>Геннад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6156360" y="595008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d46c"/>
                </a:solidFill>
                <a:latin typeface="Arial"/>
              </a:rPr>
              <a:t>МОУ «СОШ п. Ни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5b6f"/>
                </a:solidFill>
                <a:latin typeface="Calibri"/>
              </a:rPr>
              <a:t>Планируемые образовательные результаты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Рисунок 2" descr="пррр.JPG"/>
          <p:cNvPicPr/>
          <p:nvPr/>
        </p:nvPicPr>
        <p:blipFill>
          <a:blip r:embed="rId1"/>
          <a:stretch/>
        </p:blipFill>
        <p:spPr>
          <a:xfrm>
            <a:off x="539640" y="1484280"/>
            <a:ext cx="7920000" cy="49672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6"/>
          <p:cNvSpPr/>
          <p:nvPr/>
        </p:nvSpPr>
        <p:spPr>
          <a:xfrm>
            <a:off x="6804000" y="24210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моциональ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увстве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7"/>
          <p:cNvSpPr/>
          <p:nvPr/>
        </p:nvSpPr>
        <p:spPr>
          <a:xfrm>
            <a:off x="6877080" y="3284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лерант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8"/>
          <p:cNvSpPr/>
          <p:nvPr/>
        </p:nvSpPr>
        <p:spPr>
          <a:xfrm>
            <a:off x="6948360" y="52293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мение дел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й выб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"/>
          <p:cNvSpPr/>
          <p:nvPr/>
        </p:nvSpPr>
        <p:spPr>
          <a:xfrm>
            <a:off x="3924360" y="34290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ктив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ворческ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5b6f"/>
                </a:solidFill>
                <a:latin typeface="Calibri"/>
              </a:rPr>
              <a:t>Результативность образовательного процесса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Object 17" descr=""/>
          <p:cNvPicPr/>
          <p:nvPr/>
        </p:nvPicPr>
        <p:blipFill>
          <a:blip r:embed="rId1"/>
          <a:stretch/>
        </p:blipFill>
        <p:spPr>
          <a:xfrm>
            <a:off x="2195640" y="3716280"/>
            <a:ext cx="3825720" cy="28479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21"/>
          <p:cNvSpPr/>
          <p:nvPr/>
        </p:nvSpPr>
        <p:spPr>
          <a:xfrm>
            <a:off x="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Object 20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4694400" cy="28213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I:\рис\Изображение\Изображение 672.gif"/>
          <p:cNvPicPr/>
          <p:nvPr/>
        </p:nvPicPr>
        <p:blipFill>
          <a:blip r:embed="rId3"/>
          <a:stretch/>
        </p:blipFill>
        <p:spPr>
          <a:xfrm flipH="1">
            <a:off x="5651640" y="1052640"/>
            <a:ext cx="302400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Рисунок 6" descr="iCA9OOBXF.jpg"/>
          <p:cNvPicPr/>
          <p:nvPr/>
        </p:nvPicPr>
        <p:blipFill>
          <a:blip r:embed="rId1"/>
          <a:stretch/>
        </p:blipFill>
        <p:spPr>
          <a:xfrm>
            <a:off x="5508720" y="5084640"/>
            <a:ext cx="2307960" cy="152424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4e5b6f"/>
                </a:solidFill>
                <a:latin typeface="Calibri"/>
              </a:rPr>
              <a:t>Достижения</a:t>
            </a:r>
            <a:endParaRPr b="0" lang="en-US" sz="45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2"/>
          <a:srcRect l="4492" t="16553" r="21998" b="18250"/>
          <a:stretch/>
        </p:blipFill>
        <p:spPr>
          <a:xfrm>
            <a:off x="6000840" y="2571840"/>
            <a:ext cx="2448000" cy="133992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4"/>
          <p:cNvSpPr/>
          <p:nvPr/>
        </p:nvSpPr>
        <p:spPr>
          <a:xfrm>
            <a:off x="755640" y="1700280"/>
            <a:ext cx="53290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места  на муниципальн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курс школьных проектов по географ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следовательский проект «Дрофа – царица степей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следовательский проект  «Красная тетрадь природы родного кра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8" descr="Изображение 016"/>
          <p:cNvPicPr/>
          <p:nvPr/>
        </p:nvPicPr>
        <p:blipFill>
          <a:blip r:embed="rId3"/>
          <a:stretch/>
        </p:blipFill>
        <p:spPr>
          <a:xfrm>
            <a:off x="7551720" y="3933720"/>
            <a:ext cx="1271520" cy="1511280"/>
          </a:xfrm>
          <a:prstGeom prst="rect">
            <a:avLst/>
          </a:prstGeom>
          <a:ln w="0">
            <a:noFill/>
          </a:ln>
        </p:spPr>
      </p:pic>
      <p:sp>
        <p:nvSpPr>
          <p:cNvPr id="284" name="TextBox 6"/>
          <p:cNvSpPr/>
          <p:nvPr/>
        </p:nvSpPr>
        <p:spPr>
          <a:xfrm>
            <a:off x="2627280" y="6237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8803"/>
                </a:solidFill>
                <a:uFillTx/>
                <a:latin typeface="Arial"/>
                <a:hlinkClick r:id="rId4"/>
              </a:rPr>
              <a:t>Прило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eb8803"/>
                </a:solidFill>
                <a:uFillTx/>
                <a:latin typeface="Arial"/>
                <a:hlinkClick r:id="rId5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eb8803"/>
                </a:solidFill>
                <a:uFillTx/>
                <a:latin typeface="Arial"/>
                <a:hlinkClick r:id="rId6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5812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4e5b6f"/>
                </a:solidFill>
                <a:latin typeface="Calibri"/>
              </a:rPr>
              <a:t>Минусы и плюсы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286" name="Содержимое 6" descr=""/>
          <p:cNvPicPr/>
          <p:nvPr/>
        </p:nvPicPr>
        <p:blipFill>
          <a:blip r:embed="rId1"/>
          <a:stretch/>
        </p:blipFill>
        <p:spPr>
          <a:xfrm>
            <a:off x="444600" y="1920960"/>
            <a:ext cx="4066920" cy="4430520"/>
          </a:xfrm>
          <a:prstGeom prst="rect">
            <a:avLst/>
          </a:prstGeom>
          <a:ln w="0">
            <a:noFill/>
          </a:ln>
        </p:spPr>
      </p:pic>
      <p:pic>
        <p:nvPicPr>
          <p:cNvPr id="287" name="Содержимое 7" descr=""/>
          <p:cNvPicPr/>
          <p:nvPr/>
        </p:nvPicPr>
        <p:blipFill>
          <a:blip r:embed="rId2"/>
          <a:stretch/>
        </p:blipFill>
        <p:spPr>
          <a:xfrm>
            <a:off x="4608360" y="1139760"/>
            <a:ext cx="4316400" cy="57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WordArt 7"/>
          <p:cNvSpPr txBox="1"/>
          <p:nvPr/>
        </p:nvSpPr>
        <p:spPr>
          <a:xfrm>
            <a:off x="2438280" y="990720"/>
            <a:ext cx="65534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9" name="WordArt 8"/>
          <p:cNvSpPr txBox="1"/>
          <p:nvPr/>
        </p:nvSpPr>
        <p:spPr>
          <a:xfrm>
            <a:off x="1476360" y="1700280"/>
            <a:ext cx="7308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0" name="WordArt 11"/>
          <p:cNvSpPr txBox="1"/>
          <p:nvPr/>
        </p:nvSpPr>
        <p:spPr>
          <a:xfrm>
            <a:off x="1187280" y="2637000"/>
            <a:ext cx="75438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1" name="WordArt 12"/>
          <p:cNvSpPr txBox="1"/>
          <p:nvPr/>
        </p:nvSpPr>
        <p:spPr>
          <a:xfrm>
            <a:off x="971640" y="3573360"/>
            <a:ext cx="78278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2" name="WordArt 13"/>
          <p:cNvSpPr txBox="1"/>
          <p:nvPr/>
        </p:nvSpPr>
        <p:spPr>
          <a:xfrm>
            <a:off x="826920" y="4005360"/>
            <a:ext cx="8066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3" name="WordArt 14"/>
          <p:cNvSpPr txBox="1"/>
          <p:nvPr/>
        </p:nvSpPr>
        <p:spPr>
          <a:xfrm>
            <a:off x="468360" y="4724280"/>
            <a:ext cx="7128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4" name="WordArt 15"/>
          <p:cNvSpPr txBox="1"/>
          <p:nvPr/>
        </p:nvSpPr>
        <p:spPr>
          <a:xfrm>
            <a:off x="430200" y="5705640"/>
            <a:ext cx="8713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95" name="Схема 10" descr=""/>
          <p:cNvPicPr/>
          <p:nvPr/>
        </p:nvPicPr>
        <p:blipFill>
          <a:blip r:embed="rId1"/>
          <a:stretch/>
        </p:blipFill>
        <p:spPr>
          <a:xfrm>
            <a:off x="1042920" y="-6480"/>
            <a:ext cx="7704360" cy="6870960"/>
          </a:xfrm>
          <a:prstGeom prst="rect">
            <a:avLst/>
          </a:prstGeom>
          <a:ln w="0">
            <a:noFill/>
          </a:ln>
        </p:spPr>
      </p:pic>
      <p:pic>
        <p:nvPicPr>
          <p:cNvPr id="296" name="Полилиния 11" descr="Вывод"/>
          <p:cNvPicPr/>
          <p:nvPr/>
        </p:nvPicPr>
        <p:blipFill>
          <a:blip r:embed="rId2"/>
          <a:stretch/>
        </p:blipFill>
        <p:spPr>
          <a:xfrm>
            <a:off x="255600" y="755640"/>
            <a:ext cx="2158920" cy="593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Рисунок 2" descr="012_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Прямоугольник 5"/>
          <p:cNvSpPr/>
          <p:nvPr/>
        </p:nvSpPr>
        <p:spPr>
          <a:xfrm>
            <a:off x="971640" y="333360"/>
            <a:ext cx="735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Благодарю з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внимани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30560" y="259920"/>
            <a:ext cx="447048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5b6f"/>
                </a:solidFill>
                <a:latin typeface="Calibri"/>
              </a:rPr>
              <a:t>"</a:t>
            </a:r>
            <a:r>
              <a:rPr b="1" i="1" lang="ru-RU" sz="2400" spc="-1" strike="noStrike">
                <a:solidFill>
                  <a:srgbClr val="4e5b6f"/>
                </a:solidFill>
                <a:latin typeface="Calibri"/>
              </a:rPr>
              <a:t>Скажи мне, и я забуду.</a:t>
            </a:r>
            <a:br>
              <a:rPr sz="2400"/>
            </a:br>
            <a:r>
              <a:rPr b="1" i="1" lang="ru-RU" sz="2400" spc="-1" strike="noStrike">
                <a:solidFill>
                  <a:srgbClr val="4e5b6f"/>
                </a:solidFill>
                <a:latin typeface="Calibri"/>
              </a:rPr>
              <a:t> Покажи мне и я запомню. </a:t>
            </a:r>
            <a:br>
              <a:rPr sz="2400"/>
            </a:br>
            <a:r>
              <a:rPr b="1" i="1" lang="ru-RU" sz="2400" spc="-1" strike="noStrike">
                <a:solidFill>
                  <a:srgbClr val="4e5b6f"/>
                </a:solidFill>
                <a:latin typeface="Calibri"/>
              </a:rPr>
              <a:t>Вовлеки меня, и я научусь</a:t>
            </a:r>
            <a:r>
              <a:rPr b="0" lang="ru-RU" sz="2400" spc="-1" strike="noStrike">
                <a:solidFill>
                  <a:srgbClr val="4e5b6f"/>
                </a:solidFill>
                <a:latin typeface="Calibri"/>
              </a:rPr>
              <a:t>".</a:t>
            </a:r>
            <a:br>
              <a:rPr sz="2400"/>
            </a:br>
            <a:br>
              <a:rPr sz="1400"/>
            </a:br>
            <a:r>
              <a:rPr b="0" lang="ru-RU" sz="1600" spc="-1" strike="noStrike">
                <a:solidFill>
                  <a:srgbClr val="4e5b6f"/>
                </a:solidFill>
                <a:latin typeface="Calibri"/>
              </a:rPr>
              <a:t>                          Китайская пословица</a:t>
            </a:r>
            <a:endParaRPr b="0" lang="en-US" sz="1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826920" y="1484280"/>
            <a:ext cx="7058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дача школы состоит в т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бы вовремя увиде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глядеть способ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бенка, поддержать его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готовить почву для тог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бы эти способности бы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ализова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000"/>
                </a:solidFill>
                <a:latin typeface="Calibri"/>
              </a:rPr>
              <a:t>Актуальность исследования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252" name="Схема 3" descr=""/>
          <p:cNvPicPr/>
          <p:nvPr/>
        </p:nvPicPr>
        <p:blipFill>
          <a:blip r:embed="rId1"/>
          <a:stretch/>
        </p:blipFill>
        <p:spPr>
          <a:xfrm>
            <a:off x="328680" y="914400"/>
            <a:ext cx="8570880" cy="60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4e5b6f"/>
                </a:solidFill>
                <a:latin typeface="Calibri"/>
              </a:rPr>
              <a:t>Педагогическая проблема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жду стремлением учащихся к самостоятельности и неумением организовывать свою учебную деятельнос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жду потребностью школьников быть активным участником учебного процесса и четко регламентированными взаимоотношениями ученик - учител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жду необходимостью развития творческого потенциала личности и отсутствием условий для индивидуальной работы с каждым школьник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Целью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проекта является проведение анализа и отбора современных педагогических технологий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вышающих эффективность процесса обучени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среднем и общем образовании.</a:t>
            </a:r>
            <a:endParaRPr b="0" lang="en-US" sz="28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Объектом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сследования является  учебно-воспитательный процесс среднего и общего образова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Предметом исследования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влияние современных педагогических технологий на эффективность процесса обучения на средней и старшей ступени обуче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3f6d19"/>
                </a:solidFill>
                <a:latin typeface="Calibri"/>
              </a:rPr>
              <a:t>Задачи</a:t>
            </a:r>
            <a:r>
              <a:rPr b="0" lang="ru-RU" sz="5000" spc="-1" strike="noStrike">
                <a:solidFill>
                  <a:srgbClr val="3f6d19"/>
                </a:solidFill>
                <a:latin typeface="Calibri"/>
              </a:rPr>
              <a:t>: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28760" y="12142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7eea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вать у учащихся исследовательские умения (выявление проблем, наблюдение, умение строить гипотезы, обобщать, развивать аналитическое мышление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7eea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ать возможность учащимся развивать свои творческие способности, самостоятельно получать знания и использовать их в нестандартных учебных и жизненных ситуациях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7eea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пособствовать повышению личной уверенности, позволить каждому ученику увидеть себя как человека способного и компетентного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7eea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дохновлять детей на развитие такого необходимого социального навыка, как коммуникабельность и умение сотруднича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4"/>
          <p:cNvSpPr/>
          <p:nvPr/>
        </p:nvSpPr>
        <p:spPr>
          <a:xfrm>
            <a:off x="858960" y="33336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ифференциация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Содержимое 6" descr=""/>
          <p:cNvPicPr/>
          <p:nvPr/>
        </p:nvPicPr>
        <p:blipFill>
          <a:blip r:embed="rId1"/>
          <a:stretch/>
        </p:blipFill>
        <p:spPr>
          <a:xfrm>
            <a:off x="317520" y="1847880"/>
            <a:ext cx="8418600" cy="46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4e5b6f"/>
                </a:solidFill>
                <a:latin typeface="Calibri"/>
              </a:rPr>
              <a:t>Деятельность. 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262" name="Содержимое 6" descr=""/>
          <p:cNvPicPr/>
          <p:nvPr/>
        </p:nvPicPr>
        <p:blipFill>
          <a:blip r:embed="rId1"/>
          <a:stretch/>
        </p:blipFill>
        <p:spPr>
          <a:xfrm>
            <a:off x="378000" y="1116000"/>
            <a:ext cx="4200480" cy="5565960"/>
          </a:xfrm>
          <a:prstGeom prst="rect">
            <a:avLst/>
          </a:prstGeom>
          <a:ln w="0">
            <a:noFill/>
          </a:ln>
        </p:spPr>
      </p:pic>
      <p:pic>
        <p:nvPicPr>
          <p:cNvPr id="263" name="Содержимое 7" descr=""/>
          <p:cNvPicPr/>
          <p:nvPr/>
        </p:nvPicPr>
        <p:blipFill>
          <a:blip r:embed="rId2"/>
          <a:stretch/>
        </p:blipFill>
        <p:spPr>
          <a:xfrm>
            <a:off x="4638600" y="927000"/>
            <a:ext cx="4060800" cy="54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тапы действий   по выполнению  проекта</a:t>
            </a: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28760" y="9997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этап.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Мотивационны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й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– настрой учащихся на интересную работу, чёткое и конкретное объяснение учителем задач проекта и его конечного результа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этап.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Планирование проект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создание рабочих групп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подготовка методических, дидактических и материально-технических средст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планирование работы групп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этап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Выполнение проекта (исследовательская деятельность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Поиск информаци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обработка полученной информации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представление материала, наработанного в группах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оценка процесса и текущих результатов проекта-урок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 коррекция проекта (дополнение, изменение, внесение новых предложений и.т.п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оформление слайд-проект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анализ по выполнению задач проек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этап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Защита проек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1:23:29Z</dcterms:created>
  <dc:creator>User</dc:creator>
  <dc:description/>
  <dc:language>en-US</dc:language>
  <cp:lastModifiedBy>Admin</cp:lastModifiedBy>
  <dcterms:modified xsi:type="dcterms:W3CDTF">2012-01-31T17:19:22Z</dcterms:modified>
  <cp:revision>27</cp:revision>
  <dc:subject/>
  <dc:title>Проектно - исследовательская деятельность на уроках географии</dc:title>
</cp:coreProperties>
</file>