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05A-1D24-4589-BAC1-B79CDCD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256-F217-4677-9545-2386C3E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007-1A3A-441D-89F7-8824B60D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C0B-D581-48E2-8472-36773BC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E6676-5E8A-45D4-A170-536DF9A6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76E85-524A-40B1-BC45-89FA5F3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48136-EA60-4BD6-A121-4259A69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026A-F25A-4D82-A545-CB0AC78E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2C821-CD25-4773-91B6-2ABB130D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AA9C9-74C8-47A1-9118-25DC15E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593E-1F95-4F9A-BBB3-A202B23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B9F-0BBE-4D09-B1F3-857D3E77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4ED6E-6F32-44E5-BC5F-0E96BAC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0149-623F-432A-95F0-0F7D849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86638-D0E7-4631-88B6-DCBCDED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5348-3C59-4CAA-8B1B-338BEECE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92EAD-5507-48F5-B38A-3A1EF742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75AE-D367-4144-B717-A07D9854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BC33-9548-4E73-9CB3-647B65C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5902-6F88-4B21-B5EA-2C14F6E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DAB5-FBF5-4508-AB8B-247C532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F8EC-6D65-4487-8954-0307843A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152-9E76-4045-AF0C-A5F93A9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E37A-CD97-4CED-A440-B454DD8F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0A7A-4FB1-4E2C-84FC-D3A34307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849F-F52B-4BCF-963A-C874BBA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8BDD-A653-4EB5-BE81-C78821D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4EBD-D86A-4B7C-8C54-5136A15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BCCC-6DF5-4B0D-B844-85F6475A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BE91-AB3B-4A96-BDA1-6773E957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07992-42F8-4A75-82D0-CC4A578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C19EE-0D06-4AB8-9BF1-6D4415F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7C68F-81BC-4BF1-A290-98BB1942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93A-05F9-48BF-ADA8-EA07FBF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B20E3-974E-41EB-886E-51490F3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9349B-0E55-41E6-A422-BCB5B62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52202-9CF5-47EF-8455-A648CAF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95353-B22F-403A-BAD0-442CE7C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EF4B3-1B97-409E-97B4-8AC1A0E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88811-1F56-4B6D-AF24-C4369F0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6552C-7604-4BB0-9AFB-4F29DAE8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979EA-3087-4C7B-A9AA-1656A064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10E70-1268-458C-8FA4-B7FE38CD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2D46F-2503-460D-B44D-5E3675DA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504-D8E5-410D-9707-EC18CDBB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D2978-AB0D-4B93-91C3-712ABB08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C9059-964D-4497-8D7B-3E921CE4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88947-25DD-40D3-9F9C-ADCDE38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0B52E-D6FA-4A06-ADE5-B266487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37482-FBCF-4FDC-9C92-3073409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89905-7BC2-41A4-9CF4-56413F0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6A1F2-9B85-49F0-BCE1-C796D45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FAE0-95B5-4E11-96F4-C9D73AE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6BEE2-91AF-46A5-B0C5-2EA311CA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4BF6B-3C01-49D2-A0C9-7E75E40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3AE-334D-478B-984B-95F4C068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C9BF9-A1B6-4D72-837E-58B432BB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12317-5FF6-472F-80A7-BF29D60D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A490D-62B1-4960-BA70-BE65A86C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6821F-2E56-44C0-BA59-A4267EC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4CF95-EED1-46A4-B132-E538FE3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CC1D2-33BB-4298-BABF-6180AFC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E7445-9B47-4D19-8204-9B8D002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88497-56E9-4104-9612-461A8C47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E3591-84E7-4F67-B839-B4781FA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28331-7D70-4CB4-BF06-59EE864F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96B-CC56-45EB-A3F9-7C7EE1F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B4012-D0A6-47CF-807F-0656809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F4C1E-BA52-4421-B2BA-60A07279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22376-C189-4177-9397-3E9CE22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4D1-FF34-4280-9350-528C1DC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C3-CDBC-405F-ABCE-AA55EF9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FD6-7FA4-41EF-94B9-B9B93C83B045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33E-0DE0-474A-9499-C673F7CB0B17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A9C-7028-4703-BC1D-E7180CE72D63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8f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CB4-BEDD-4EDF-A0F3-EF522BF7E83F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5473-8AA1-4243-9A7B-C2F15CB45DA2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95C-B990-4A4D-95FF-47A1BE6308BB}" type="slidenum">
              <a:rPr b="0" lang="ru-RU" sz="16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878040"/>
            <a:ext cx="6797880" cy="15969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4" descr=""/>
          <p:cNvPicPr/>
          <p:nvPr/>
        </p:nvPicPr>
        <p:blipFill>
          <a:blip r:embed="rId2"/>
          <a:stretch/>
        </p:blipFill>
        <p:spPr>
          <a:xfrm>
            <a:off x="2041560" y="2700360"/>
            <a:ext cx="446256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Прямоугольник 3" descr=""/>
          <p:cNvPicPr/>
          <p:nvPr/>
        </p:nvPicPr>
        <p:blipFill>
          <a:blip r:embed="rId1"/>
          <a:stretch/>
        </p:blipFill>
        <p:spPr>
          <a:xfrm>
            <a:off x="2273400" y="847800"/>
            <a:ext cx="495612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Прямоугольник 3" descr=""/>
          <p:cNvPicPr/>
          <p:nvPr/>
        </p:nvPicPr>
        <p:blipFill>
          <a:blip r:embed="rId1"/>
          <a:stretch/>
        </p:blipFill>
        <p:spPr>
          <a:xfrm>
            <a:off x="2779560" y="530280"/>
            <a:ext cx="3945240" cy="12063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768240" y="1828800"/>
            <a:ext cx="3291120" cy="18162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7" descr=""/>
          <p:cNvPicPr/>
          <p:nvPr/>
        </p:nvPicPr>
        <p:blipFill>
          <a:blip r:embed="rId3"/>
          <a:stretch/>
        </p:blipFill>
        <p:spPr>
          <a:xfrm>
            <a:off x="5479920" y="2077920"/>
            <a:ext cx="2578320" cy="118296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8" descr=""/>
          <p:cNvPicPr/>
          <p:nvPr/>
        </p:nvPicPr>
        <p:blipFill>
          <a:blip r:embed="rId4"/>
          <a:stretch/>
        </p:blipFill>
        <p:spPr>
          <a:xfrm>
            <a:off x="2938320" y="4297320"/>
            <a:ext cx="315144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3" descr=""/>
          <p:cNvPicPr/>
          <p:nvPr/>
        </p:nvPicPr>
        <p:blipFill>
          <a:blip r:embed="rId1"/>
          <a:stretch/>
        </p:blipFill>
        <p:spPr>
          <a:xfrm>
            <a:off x="2066760" y="378000"/>
            <a:ext cx="5010480" cy="15969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005.jpg"/>
          <p:cNvPicPr/>
          <p:nvPr/>
        </p:nvPicPr>
        <p:blipFill>
          <a:blip r:embed="rId2"/>
          <a:stretch/>
        </p:blipFill>
        <p:spPr>
          <a:xfrm>
            <a:off x="1428840" y="2571840"/>
            <a:ext cx="67150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4" descr=""/>
          <p:cNvPicPr/>
          <p:nvPr/>
        </p:nvPicPr>
        <p:blipFill>
          <a:blip r:embed="rId1"/>
          <a:stretch/>
        </p:blipFill>
        <p:spPr>
          <a:xfrm>
            <a:off x="3548160" y="96840"/>
            <a:ext cx="3633840" cy="20066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04.jpg"/>
          <p:cNvPicPr/>
          <p:nvPr/>
        </p:nvPicPr>
        <p:blipFill>
          <a:blip r:embed="rId2"/>
          <a:stretch/>
        </p:blipFill>
        <p:spPr>
          <a:xfrm>
            <a:off x="2143080" y="2214720"/>
            <a:ext cx="55720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3" descr=""/>
          <p:cNvPicPr/>
          <p:nvPr/>
        </p:nvPicPr>
        <p:blipFill>
          <a:blip r:embed="rId1"/>
          <a:stretch/>
        </p:blipFill>
        <p:spPr>
          <a:xfrm>
            <a:off x="3164040" y="500040"/>
            <a:ext cx="3346200" cy="22194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Forest Flowers.jpg"/>
          <p:cNvPicPr/>
          <p:nvPr/>
        </p:nvPicPr>
        <p:blipFill>
          <a:blip r:embed="rId2"/>
          <a:stretch/>
        </p:blipFill>
        <p:spPr>
          <a:xfrm>
            <a:off x="1785960" y="2357280"/>
            <a:ext cx="607212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792520" y="517680"/>
            <a:ext cx="3767040" cy="13903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029.jpg"/>
          <p:cNvPicPr/>
          <p:nvPr/>
        </p:nvPicPr>
        <p:blipFill>
          <a:blip r:embed="rId2"/>
          <a:stretch/>
        </p:blipFill>
        <p:spPr>
          <a:xfrm>
            <a:off x="1285920" y="2357280"/>
            <a:ext cx="709596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3" descr=""/>
          <p:cNvPicPr/>
          <p:nvPr/>
        </p:nvPicPr>
        <p:blipFill>
          <a:blip r:embed="rId1"/>
          <a:stretch/>
        </p:blipFill>
        <p:spPr>
          <a:xfrm>
            <a:off x="2614680" y="920880"/>
            <a:ext cx="3895560" cy="69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4" descr=""/>
          <p:cNvPicPr/>
          <p:nvPr/>
        </p:nvPicPr>
        <p:blipFill>
          <a:blip r:embed="rId1"/>
          <a:stretch/>
        </p:blipFill>
        <p:spPr>
          <a:xfrm>
            <a:off x="2639880" y="609480"/>
            <a:ext cx="4510080" cy="529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3" descr=""/>
          <p:cNvPicPr/>
          <p:nvPr/>
        </p:nvPicPr>
        <p:blipFill>
          <a:blip r:embed="rId1"/>
          <a:stretch/>
        </p:blipFill>
        <p:spPr>
          <a:xfrm>
            <a:off x="2773440" y="755640"/>
            <a:ext cx="4170240" cy="45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7:21:23Z</dcterms:created>
  <dc:creator>Dima</dc:creator>
  <dc:description/>
  <dc:language>en-US</dc:language>
  <cp:lastModifiedBy>Дима</cp:lastModifiedBy>
  <dcterms:modified xsi:type="dcterms:W3CDTF">2010-08-28T08:40:49Z</dcterms:modified>
  <cp:revision>8</cp:revision>
  <dc:subject/>
  <dc:title>Слайд 1</dc:title>
</cp:coreProperties>
</file>