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4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25.gif" ContentType="image/gif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1.wmf" ContentType="image/x-wmf"/>
  <Override PartName="/ppt/media/image12.png" ContentType="image/png"/>
  <Override PartName="/ppt/media/image13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30.wmf" ContentType="image/x-wmf"/>
  <Override PartName="/ppt/media/image27.jpeg" ContentType="image/jpeg"/>
  <Override PartName="/ppt/media/image8.jpeg" ContentType="image/jpeg"/>
  <Override PartName="/ppt/media/image33.png" ContentType="image/png"/>
  <Override PartName="/ppt/media/image16.wmf" ContentType="image/x-wmf"/>
  <Override PartName="/ppt/media/image37.wmf" ContentType="image/x-wmf"/>
  <Override PartName="/ppt/media/image17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0.jpeg" ContentType="image/jpeg"/>
  <Override PartName="/ppt/media/image14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661-2B74-4DFE-87D5-54F73248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A6A-8F23-41AF-8DFE-0A69CC4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BAB-3A8B-4957-A165-3ECE9E7E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585-78C3-4CF2-B413-11884E9A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318-D1CF-471A-84AE-F005554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2BF-F712-4970-ADBA-74E600E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46C-1BC5-4CA3-BA98-56B286F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99D-FFF7-4B92-A530-CF9CF49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52E-60D1-4118-9B81-4B4C579F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1A1-B624-44CC-8C7B-3081CC4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387-19CB-477F-9504-E5D9F4B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BC7-B45A-4D0B-9778-AE49A25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E3F-A6C7-4BF9-AB72-ADCAEA843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34136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 и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 растения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дуб 1"/>
          <p:cNvPicPr/>
          <p:nvPr/>
        </p:nvPicPr>
        <p:blipFill>
          <a:blip r:embed="rId1"/>
          <a:stretch/>
        </p:blipFill>
        <p:spPr>
          <a:xfrm>
            <a:off x="7504200" y="2571840"/>
            <a:ext cx="1711080" cy="255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684360" y="62064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Bookman Old Style"/>
              </a:rPr>
              <a:t>Урок по окружающему миру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097520" y="3141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" name="Picture 9" descr="дер"/>
          <p:cNvPicPr/>
          <p:nvPr/>
        </p:nvPicPr>
        <p:blipFill>
          <a:blip r:embed="rId2"/>
          <a:stretch/>
        </p:blipFill>
        <p:spPr>
          <a:xfrm>
            <a:off x="395280" y="2637000"/>
            <a:ext cx="3924360" cy="365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дерево"/>
          <p:cNvPicPr/>
          <p:nvPr/>
        </p:nvPicPr>
        <p:blipFill>
          <a:blip r:embed="rId3"/>
          <a:stretch/>
        </p:blipFill>
        <p:spPr>
          <a:xfrm>
            <a:off x="3708360" y="3645000"/>
            <a:ext cx="2324160" cy="295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ряб"/>
          <p:cNvPicPr/>
          <p:nvPr/>
        </p:nvPicPr>
        <p:blipFill>
          <a:blip r:embed="rId4"/>
          <a:stretch/>
        </p:blipFill>
        <p:spPr>
          <a:xfrm>
            <a:off x="468360" y="3068640"/>
            <a:ext cx="102852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Рисунок58"/>
          <p:cNvPicPr/>
          <p:nvPr/>
        </p:nvPicPr>
        <p:blipFill>
          <a:blip r:embed="rId5"/>
          <a:srcRect l="21639" t="17684" r="20599" b="10178"/>
          <a:stretch/>
        </p:blipFill>
        <p:spPr>
          <a:xfrm>
            <a:off x="5940360" y="3214800"/>
            <a:ext cx="14781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какие две групп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жно разделить все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124000" y="177336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6227640" y="1844640"/>
            <a:ext cx="5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0" y="27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выращивает специально человек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1280" y="2781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никто не сажает, они растут сами по себе. Их можно встретить везде: и в лесу, и на лугу, и на водоёме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5219640" y="1916280"/>
            <a:ext cx="27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900000" y="1916280"/>
            <a:ext cx="331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0"/>
          <p:cNvSpPr txBox="1"/>
          <p:nvPr/>
        </p:nvSpPr>
        <p:spPr>
          <a:xfrm>
            <a:off x="1476360" y="907920"/>
            <a:ext cx="511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11" descr="жёлудь"/>
          <p:cNvPicPr/>
          <p:nvPr/>
        </p:nvPicPr>
        <p:blipFill>
          <a:blip r:embed="rId1"/>
          <a:stretch/>
        </p:blipFill>
        <p:spPr>
          <a:xfrm>
            <a:off x="6443640" y="1557360"/>
            <a:ext cx="200808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бер"/>
          <p:cNvPicPr/>
          <p:nvPr/>
        </p:nvPicPr>
        <p:blipFill>
          <a:blip r:embed="rId2"/>
          <a:stretch/>
        </p:blipFill>
        <p:spPr>
          <a:xfrm>
            <a:off x="468360" y="1916280"/>
            <a:ext cx="2546280" cy="42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4"/>
          <p:cNvPicPr/>
          <p:nvPr/>
        </p:nvPicPr>
        <p:blipFill>
          <a:blip r:embed="rId3"/>
          <a:stretch/>
        </p:blipFill>
        <p:spPr>
          <a:xfrm>
            <a:off x="3349800" y="4437000"/>
            <a:ext cx="1228680" cy="155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п"/>
          <p:cNvPicPr/>
          <p:nvPr/>
        </p:nvPicPr>
        <p:blipFill>
          <a:blip r:embed="rId4"/>
          <a:stretch/>
        </p:blipFill>
        <p:spPr>
          <a:xfrm>
            <a:off x="4572000" y="4797360"/>
            <a:ext cx="1671480" cy="127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2916360" y="2349360"/>
            <a:ext cx="371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Деревья, кустарники и травы растут сами по себе. За ними не ухаживает человек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1187280" y="692280"/>
            <a:ext cx="5834160" cy="4376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90560" y="83664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олосится в поле рожь,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ам во ржи цветок найдёшь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Ярко-синий и пушистый,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олько жаль, что не душистый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2124000" y="5157720"/>
            <a:ext cx="3743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силё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Рисунок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11280" y="1125360"/>
            <a:ext cx="2975040" cy="4194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843280" y="1341360"/>
            <a:ext cx="483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асильки не приносят пользу человеку, наоборот, мешают расти хлебу, и всё-таки васильки в народе любимы. Эти цветы прелестные, синие, как небо. Многие собирают их, плетут венки. В народе говорили, что благодарная нива (поле, где растёт хлеб) подарила небу васильки и благодарность за дождевую воду, без которой не вызреют хлебные колосья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755640" y="1700280"/>
            <a:ext cx="4465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Дуб дождя и ветра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овсе не боится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Кто сказал, что дубу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трашно простудиться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едь до поздней осени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н стоит зеленый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начит, дуб выносливый,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начит, закаленный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9" name="Picture 5" descr="000803_1080_8782_vuvv"/>
          <p:cNvPicPr/>
          <p:nvPr/>
        </p:nvPicPr>
        <p:blipFill>
          <a:blip r:embed="rId1"/>
          <a:stretch/>
        </p:blipFill>
        <p:spPr>
          <a:xfrm>
            <a:off x="4788000" y="1052640"/>
            <a:ext cx="3984480" cy="459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000803_1065_2406_vnvv"/>
          <p:cNvPicPr/>
          <p:nvPr/>
        </p:nvPicPr>
        <p:blipFill>
          <a:blip r:embed="rId2"/>
          <a:stretch/>
        </p:blipFill>
        <p:spPr>
          <a:xfrm>
            <a:off x="4716360" y="2924280"/>
            <a:ext cx="1270080" cy="13665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971640" y="692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это за дерево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сканирование0027"/>
          <p:cNvPicPr/>
          <p:nvPr/>
        </p:nvPicPr>
        <p:blipFill>
          <a:blip r:embed="rId1"/>
          <a:stretch/>
        </p:blipFill>
        <p:spPr>
          <a:xfrm>
            <a:off x="611280" y="1484280"/>
            <a:ext cx="3687840" cy="37450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43" name="Text Box 5"/>
          <p:cNvSpPr/>
          <p:nvPr/>
        </p:nvSpPr>
        <p:spPr>
          <a:xfrm>
            <a:off x="4427640" y="1413000"/>
            <a:ext cx="409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расоту </a:t>
            </a: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дуба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оценили ещё древние римляне, назвав его «кверкус», то есть «красавец». Однако, это дерево не только красиво, но и полезно: оно растёт там, где трудно расти другим деревья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68360" y="1341360"/>
            <a:ext cx="2692440" cy="4032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763640" y="692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это за дерево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132000" y="141300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ерезка получила свое имя из-за светлой белой коры. Видно, сильное впечатление произвел когда-то на наших далеких предков сверкающий серебряный ствол этого чудесного деревца. «Бер» у древних славян означало «светлый, ясный, блестящий, белый». От него-то и пошли слова «береста», «береза»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сканирование0026"/>
          <p:cNvPicPr/>
          <p:nvPr/>
        </p:nvPicPr>
        <p:blipFill>
          <a:blip r:embed="rId1"/>
          <a:stretch/>
        </p:blipFill>
        <p:spPr>
          <a:xfrm>
            <a:off x="4716360" y="1844640"/>
            <a:ext cx="3586320" cy="28544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48" name="Text Box 5"/>
          <p:cNvSpPr/>
          <p:nvPr/>
        </p:nvSpPr>
        <p:spPr>
          <a:xfrm>
            <a:off x="755640" y="1844640"/>
            <a:ext cx="387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лавяне так любили белоствольную красавицу, что даже праздник </a:t>
            </a: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березки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устраивали. Им отмечали окончание весенних полевых работ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дерево"/>
          <p:cNvPicPr/>
          <p:nvPr/>
        </p:nvPicPr>
        <p:blipFill>
          <a:blip r:embed="rId1"/>
          <a:stretch/>
        </p:blipFill>
        <p:spPr>
          <a:xfrm>
            <a:off x="250920" y="1916280"/>
            <a:ext cx="3160440" cy="401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GARDEN_thumb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059280" y="4581360"/>
            <a:ext cx="2997000" cy="16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пшеница"/>
          <p:cNvPicPr/>
          <p:nvPr/>
        </p:nvPicPr>
        <p:blipFill>
          <a:blip r:embed="rId3"/>
          <a:stretch/>
        </p:blipFill>
        <p:spPr>
          <a:xfrm>
            <a:off x="6227640" y="3573360"/>
            <a:ext cx="1764000" cy="14605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419640" y="177336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выращивает специально человек. Ухаживает за ними, собирает урожай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4" name="Picture 9" descr="tulip02"/>
          <p:cNvPicPr/>
          <p:nvPr/>
        </p:nvPicPr>
        <p:blipFill>
          <a:blip r:embed="rId4"/>
          <a:stretch/>
        </p:blipFill>
        <p:spPr>
          <a:xfrm>
            <a:off x="1258920" y="4869000"/>
            <a:ext cx="19051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Line 5"/>
          <p:cNvSpPr/>
          <p:nvPr/>
        </p:nvSpPr>
        <p:spPr>
          <a:xfrm flipH="1">
            <a:off x="2195640" y="184464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4284720" y="1916280"/>
            <a:ext cx="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724360" y="1844640"/>
            <a:ext cx="71928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61128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27672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594036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ав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11280" y="3357720"/>
            <a:ext cx="216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уш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76720" y="3357720"/>
            <a:ext cx="244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рыжовник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ороди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56360" y="328464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на реке"/>
          <p:cNvPicPr/>
          <p:nvPr/>
        </p:nvPicPr>
        <p:blipFill>
          <a:blip r:embed="rId1"/>
          <a:stretch/>
        </p:blipFill>
        <p:spPr>
          <a:xfrm>
            <a:off x="755640" y="1628640"/>
            <a:ext cx="4210200" cy="4392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50" name="Rectangle 5"/>
          <p:cNvSpPr/>
          <p:nvPr/>
        </p:nvSpPr>
        <p:spPr>
          <a:xfrm>
            <a:off x="4500720" y="1268280"/>
            <a:ext cx="403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Деревья</a:t>
            </a: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1763640" y="1483920"/>
            <a:ext cx="5781600" cy="3690360"/>
            <a:chOff x="1763640" y="1483920"/>
            <a:chExt cx="5781600" cy="3690360"/>
          </a:xfrm>
        </p:grpSpPr>
        <p:sp>
          <p:nvSpPr>
            <p:cNvPr id="52" name="Text Box 7"/>
            <p:cNvSpPr/>
            <p:nvPr/>
          </p:nvSpPr>
          <p:spPr>
            <a:xfrm>
              <a:off x="5364000" y="19872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Кусты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5508720" y="3068280"/>
              <a:ext cx="203652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Травы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) цветы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Б) лишайник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) мх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2340000" y="1483920"/>
              <a:ext cx="287964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 flipV="1">
              <a:off x="1763640" y="2418840"/>
              <a:ext cx="3529080" cy="12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 flipV="1">
              <a:off x="3132000" y="4003200"/>
              <a:ext cx="237672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57" name="AutoShape 12"/>
          <p:cNvSpPr/>
          <p:nvPr/>
        </p:nvSpPr>
        <p:spPr>
          <a:xfrm>
            <a:off x="1116000" y="404640"/>
            <a:ext cx="5543640" cy="936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какие группы делятс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се растения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1476360" y="692280"/>
            <a:ext cx="48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пар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н"/>
          <p:cNvPicPr/>
          <p:nvPr/>
        </p:nvPicPr>
        <p:blipFill>
          <a:blip r:embed="rId1"/>
          <a:stretch/>
        </p:blipFill>
        <p:spPr>
          <a:xfrm>
            <a:off x="826920" y="1773360"/>
            <a:ext cx="107964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пшеница"/>
          <p:cNvPicPr/>
          <p:nvPr/>
        </p:nvPicPr>
        <p:blipFill>
          <a:blip r:embed="rId2"/>
          <a:stretch/>
        </p:blipFill>
        <p:spPr>
          <a:xfrm>
            <a:off x="6084720" y="4005360"/>
            <a:ext cx="1764000" cy="1460520"/>
          </a:xfrm>
          <a:prstGeom prst="rect">
            <a:avLst/>
          </a:prstGeom>
          <a:ln w="0">
            <a:noFill/>
          </a:ln>
        </p:spPr>
      </p:pic>
      <p:sp>
        <p:nvSpPr>
          <p:cNvPr id="168" name="Line 14"/>
          <p:cNvSpPr/>
          <p:nvPr/>
        </p:nvSpPr>
        <p:spPr>
          <a:xfrm>
            <a:off x="1763640" y="3284640"/>
            <a:ext cx="295272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2771640" y="3284640"/>
            <a:ext cx="144720" cy="649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788000" y="3645000"/>
            <a:ext cx="1584360" cy="504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1835280" y="3500280"/>
            <a:ext cx="4032000" cy="576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1835280" y="177336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284720" y="1844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2195640" y="1773360"/>
            <a:ext cx="1224000" cy="22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219640" y="1773360"/>
            <a:ext cx="936720" cy="2087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156360" y="1700280"/>
            <a:ext cx="934920" cy="57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24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вощ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313200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лод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11280" y="4076640"/>
            <a:ext cx="367164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коратив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012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ерн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4716360" y="4076640"/>
            <a:ext cx="367200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ядиль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1258920" y="765000"/>
            <a:ext cx="55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тог уро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5640" y="299736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 каких группах культурных растений вы познакомились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184464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 какие две группы можно разделить все растения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755640" y="414972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риведите примеры растений каждой группы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763640" y="1268280"/>
            <a:ext cx="5657760" cy="642600"/>
          </a:xfrm>
          <a:prstGeom prst="rect">
            <a:avLst/>
          </a:prstGeom>
          <a:solidFill>
            <a:srgbClr val="99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ое значение для человека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еют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1835280" y="1628640"/>
            <a:ext cx="1008000" cy="3603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Line 6"/>
          <p:cNvSpPr/>
          <p:nvPr/>
        </p:nvSpPr>
        <p:spPr>
          <a:xfrm flipH="1">
            <a:off x="2916000" y="1700280"/>
            <a:ext cx="934920" cy="2305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Line 7"/>
          <p:cNvSpPr/>
          <p:nvPr/>
        </p:nvSpPr>
        <p:spPr>
          <a:xfrm>
            <a:off x="4932360" y="1700280"/>
            <a:ext cx="1152360" cy="2233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651640" y="1700280"/>
            <a:ext cx="1008000" cy="216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3" name="Group 20"/>
          <p:cNvGrpSpPr/>
          <p:nvPr/>
        </p:nvGrpSpPr>
        <p:grpSpPr>
          <a:xfrm>
            <a:off x="542160" y="1989000"/>
            <a:ext cx="2131560" cy="1974960"/>
            <a:chOff x="542160" y="1989000"/>
            <a:chExt cx="2131560" cy="1974960"/>
          </a:xfrm>
        </p:grpSpPr>
        <p:sp>
          <p:nvSpPr>
            <p:cNvPr id="64" name="Text Box 9"/>
            <p:cNvSpPr/>
            <p:nvPr/>
          </p:nvSpPr>
          <p:spPr>
            <a:xfrm>
              <a:off x="542160" y="19890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мя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65" name="Picture 10" descr="fruits"/>
            <p:cNvPicPr/>
            <p:nvPr/>
          </p:nvPicPr>
          <p:blipFill>
            <a:blip r:embed="rId5"/>
            <a:stretch/>
          </p:blipFill>
          <p:spPr>
            <a:xfrm>
              <a:off x="755640" y="2276640"/>
              <a:ext cx="1800360" cy="16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12"/>
          <p:cNvSpPr/>
          <p:nvPr/>
        </p:nvSpPr>
        <p:spPr>
          <a:xfrm>
            <a:off x="5081400" y="4076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чат человек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156360" y="206064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много полезных веществ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8" name="Picture 14" descr="HUTCH_thumb"/>
          <p:cNvPicPr/>
          <p:nvPr/>
        </p:nvPicPr>
        <p:blipFill>
          <a:blip r:embed="rId6"/>
          <a:stretch/>
        </p:blipFill>
        <p:spPr>
          <a:xfrm>
            <a:off x="6372360" y="2997360"/>
            <a:ext cx="571320" cy="952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1332000" y="4076640"/>
            <a:ext cx="2538720" cy="1728720"/>
            <a:chOff x="1332000" y="4076640"/>
            <a:chExt cx="2538720" cy="1728720"/>
          </a:xfrm>
        </p:grpSpPr>
        <p:sp>
          <p:nvSpPr>
            <p:cNvPr id="70" name="Text Box 11"/>
            <p:cNvSpPr/>
            <p:nvPr/>
          </p:nvSpPr>
          <p:spPr>
            <a:xfrm>
              <a:off x="1551960" y="407664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деваю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71" name="Picture 15" descr="Рисунок11"/>
            <p:cNvPicPr/>
            <p:nvPr/>
          </p:nvPicPr>
          <p:blipFill>
            <a:blip r:embed="rId7"/>
            <a:stretch/>
          </p:blipFill>
          <p:spPr>
            <a:xfrm>
              <a:off x="1332000" y="4508640"/>
              <a:ext cx="119196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6" descr="Рисунок56"/>
            <p:cNvPicPr/>
            <p:nvPr/>
          </p:nvPicPr>
          <p:blipFill>
            <a:blip r:embed="rId8"/>
            <a:srcRect l="15753" t="16432" r="14958" b="8206"/>
            <a:stretch/>
          </p:blipFill>
          <p:spPr>
            <a:xfrm>
              <a:off x="2556000" y="4437000"/>
              <a:ext cx="1288800" cy="13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17" descr="Рисунок1"/>
          <p:cNvPicPr/>
          <p:nvPr/>
        </p:nvPicPr>
        <p:blipFill>
          <a:blip r:embed="rId9"/>
          <a:stretch/>
        </p:blipFill>
        <p:spPr>
          <a:xfrm>
            <a:off x="6948360" y="2637000"/>
            <a:ext cx="1349640" cy="146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Рисунок4"/>
          <p:cNvPicPr/>
          <p:nvPr/>
        </p:nvPicPr>
        <p:blipFill>
          <a:blip r:embed="rId10">
            <a:lum bright="-18000"/>
          </a:blip>
          <a:stretch/>
        </p:blipFill>
        <p:spPr>
          <a:xfrm>
            <a:off x="4716360" y="4292640"/>
            <a:ext cx="1230480" cy="144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Рисунок1"/>
          <p:cNvPicPr/>
          <p:nvPr/>
        </p:nvPicPr>
        <p:blipFill>
          <a:blip r:embed="rId11">
            <a:lum bright="-18000"/>
          </a:blip>
          <a:stretch/>
        </p:blipFill>
        <p:spPr>
          <a:xfrm>
            <a:off x="5940360" y="4437000"/>
            <a:ext cx="82728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J0233040"/>
          <p:cNvPicPr/>
          <p:nvPr/>
        </p:nvPicPr>
        <p:blipFill>
          <a:blip r:embed="rId12"/>
          <a:stretch/>
        </p:blipFill>
        <p:spPr>
          <a:xfrm>
            <a:off x="3780000" y="2349360"/>
            <a:ext cx="135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1042920" y="4797360"/>
            <a:ext cx="5904000" cy="646200"/>
          </a:xfrm>
          <a:prstGeom prst="wedgeRoundRectCallout">
            <a:avLst>
              <a:gd name="adj1" fmla="val 39675"/>
              <a:gd name="adj2" fmla="val 1730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71640" y="486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ель от яблони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4140360" y="119700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8" descr="3"/>
          <p:cNvPicPr/>
          <p:nvPr/>
        </p:nvPicPr>
        <p:blipFill>
          <a:blip r:embed="rId1"/>
          <a:stretch/>
        </p:blipFill>
        <p:spPr>
          <a:xfrm>
            <a:off x="5508720" y="836640"/>
            <a:ext cx="2351160" cy="35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tree in bloom 3"/>
          <p:cNvPicPr/>
          <p:nvPr/>
        </p:nvPicPr>
        <p:blipFill>
          <a:blip r:embed="rId2"/>
          <a:stretch/>
        </p:blipFill>
        <p:spPr>
          <a:xfrm>
            <a:off x="755640" y="907920"/>
            <a:ext cx="30463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5435640" y="260280"/>
            <a:ext cx="211140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tree in bloom 3"/>
          <p:cNvPicPr/>
          <p:nvPr/>
        </p:nvPicPr>
        <p:blipFill>
          <a:blip r:embed="rId2"/>
          <a:stretch/>
        </p:blipFill>
        <p:spPr>
          <a:xfrm>
            <a:off x="1187280" y="260280"/>
            <a:ext cx="2595600" cy="331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635280" y="3213000"/>
            <a:ext cx="1657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17280" y="4653000"/>
            <a:ext cx="17413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64000" y="5229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332000" y="5157720"/>
            <a:ext cx="22525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ей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332000" y="3573360"/>
            <a:ext cx="2252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364000" y="3573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332000" y="4005360"/>
            <a:ext cx="2252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364000" y="4005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решник от крыжовник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4211640" y="1413000"/>
            <a:ext cx="1152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черёмуха"/>
          <p:cNvPicPr/>
          <p:nvPr/>
        </p:nvPicPr>
        <p:blipFill>
          <a:blip r:embed="rId1">
            <a:lum bright="-18000"/>
          </a:blip>
          <a:srcRect l="0" t="17304" r="11014" b="0"/>
          <a:stretch/>
        </p:blipFill>
        <p:spPr>
          <a:xfrm>
            <a:off x="5580000" y="148428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Рисунок1"/>
          <p:cNvPicPr/>
          <p:nvPr/>
        </p:nvPicPr>
        <p:blipFill>
          <a:blip r:embed="rId2"/>
          <a:stretch/>
        </p:blipFill>
        <p:spPr>
          <a:xfrm>
            <a:off x="900000" y="1557360"/>
            <a:ext cx="2808360" cy="25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черёмуха"/>
          <p:cNvPicPr/>
          <p:nvPr/>
        </p:nvPicPr>
        <p:blipFill>
          <a:blip r:embed="rId1">
            <a:lum bright="-18000"/>
          </a:blip>
          <a:srcRect l="0" t="17304" r="11014" b="0"/>
          <a:stretch/>
        </p:blipFill>
        <p:spPr>
          <a:xfrm>
            <a:off x="5435640" y="76500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Рисунок1"/>
          <p:cNvPicPr/>
          <p:nvPr/>
        </p:nvPicPr>
        <p:blipFill>
          <a:blip r:embed="rId2"/>
          <a:stretch/>
        </p:blipFill>
        <p:spPr>
          <a:xfrm>
            <a:off x="971640" y="1052640"/>
            <a:ext cx="2448000" cy="224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Text Box 14"/>
          <p:cNvSpPr/>
          <p:nvPr/>
        </p:nvSpPr>
        <p:spPr>
          <a:xfrm>
            <a:off x="3635280" y="3213000"/>
            <a:ext cx="1657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332000" y="3573360"/>
            <a:ext cx="2252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364000" y="3573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332000" y="4005360"/>
            <a:ext cx="2252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364000" y="4005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617280" y="4653000"/>
            <a:ext cx="17413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332000" y="5157720"/>
            <a:ext cx="22525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им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364000" y="5229360"/>
            <a:ext cx="225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3851280" y="148428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6" descr="Food027"/>
          <p:cNvPicPr/>
          <p:nvPr/>
        </p:nvPicPr>
        <p:blipFill>
          <a:blip r:embed="rId1"/>
          <a:stretch/>
        </p:blipFill>
        <p:spPr>
          <a:xfrm>
            <a:off x="1042920" y="1700280"/>
            <a:ext cx="2257560" cy="2305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дуванчик от помидор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1" name="Picture 9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932360" y="1125360"/>
            <a:ext cx="25383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ood027"/>
          <p:cNvPicPr/>
          <p:nvPr/>
        </p:nvPicPr>
        <p:blipFill>
          <a:blip r:embed="rId1"/>
          <a:stretch/>
        </p:blipFill>
        <p:spPr>
          <a:xfrm>
            <a:off x="1258920" y="1197000"/>
            <a:ext cx="16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508720" y="476280"/>
            <a:ext cx="2019240" cy="259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635280" y="2708280"/>
            <a:ext cx="1657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617280" y="3860640"/>
            <a:ext cx="17413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58920" y="3141720"/>
            <a:ext cx="2252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508720" y="3141720"/>
            <a:ext cx="2252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332000" y="4437000"/>
            <a:ext cx="225252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огороде. Человек сажает, ухаживает, собирает урожай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508720" y="4365720"/>
            <a:ext cx="2252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повсюд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45:10Z</dcterms:created>
  <dc:creator>user</dc:creator>
  <dc:description/>
  <dc:language>en-US</dc:language>
  <cp:lastModifiedBy>Игорь</cp:lastModifiedBy>
  <dcterms:modified xsi:type="dcterms:W3CDTF">2012-01-31T15:07:42Z</dcterms:modified>
  <cp:revision>10</cp:revision>
  <dc:subject/>
  <dc:title>Слайд 1</dc:title>
</cp:coreProperties>
</file>