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62C-8CDA-4B56-979E-915233DA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E85-D3B5-4A99-95E7-10D9AEDA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874-8E4A-4A29-8134-FAE4D72D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E46-71DF-42F0-8A55-3D055F4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5B8-8DE3-4C37-A1FC-5999DCD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B8A-5DEF-4D59-9FC5-C4779E3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BF1-EA16-47AE-990E-974B2B3F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80C-D9FD-420B-9A73-3EED2B46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E7F-03A0-4EDE-A4F6-A73D650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7BE-E728-4F18-ACED-E89D11A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E29-FFB1-4C50-8315-A3DFB57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563-0160-4255-A899-30F0FFF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3D4-2F31-44C8-A6BC-B4D51584C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ys.pravoslavie.ru/Images/ib285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Blessing_Dmitry_Ivanovich_(Novoskoltsev)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57.radikal.ru/i155/0904/d9/888edfbf47f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rketing.spb.ru/lib-mm/strategy/images/cases_wars-8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оскольцев А. Н. «Преподобный Сергий благословляет Дмитрия на борьбу с Мамаем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Картинка 23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173240"/>
            <a:ext cx="3940200" cy="518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upload.wikimedia.org/wikipedia/commons/thumb/b/b9/Blessing_Dmitry_Ivanovich_%28Novoskoltsev%29.jpg/150px-Blessing_Dmitry_Ivanovich_%28Novoskoltsev%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760" y="1098720"/>
            <a:ext cx="3357360" cy="541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ИКОВСКАЯ БИТВА 1380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На Дону близ реки Непряд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Картинка 3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714240"/>
            <a:ext cx="6291360" cy="4106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а-схема бит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Картинка 36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6352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язь Дмитрий Донс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а 6 из 350"/>
          <p:cNvPicPr/>
          <p:nvPr/>
        </p:nvPicPr>
        <p:blipFill>
          <a:blip r:embed="rId1"/>
          <a:stretch/>
        </p:blipFill>
        <p:spPr>
          <a:xfrm>
            <a:off x="235080" y="1285920"/>
            <a:ext cx="8688240" cy="4589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чало битвы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единок  Александра Пересвета и Челуб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15 из 350"/>
          <p:cNvPicPr/>
          <p:nvPr/>
        </p:nvPicPr>
        <p:blipFill>
          <a:blip r:embed="rId1"/>
          <a:stretch/>
        </p:blipFill>
        <p:spPr>
          <a:xfrm>
            <a:off x="357120" y="1801800"/>
            <a:ext cx="8501040" cy="50562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поле бо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1 из 350"/>
          <p:cNvPicPr/>
          <p:nvPr/>
        </p:nvPicPr>
        <p:blipFill>
          <a:blip r:embed="rId1"/>
          <a:stretch/>
        </p:blipFill>
        <p:spPr>
          <a:xfrm>
            <a:off x="785880" y="911160"/>
            <a:ext cx="7286400" cy="5464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ятник в честь победы на Куликовом поле по проекту А. П. Брюллова. 1848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upload.wikimedia.org/wikipedia/commons/thumb/8/87/Kulikovo_pole_-_monument.jpg/200px-Kulikovo_pole_-_monument.jpg"/>
          <p:cNvPicPr/>
          <p:nvPr/>
        </p:nvPicPr>
        <p:blipFill>
          <a:blip r:embed="rId1"/>
          <a:stretch/>
        </p:blipFill>
        <p:spPr>
          <a:xfrm>
            <a:off x="1571760" y="1000080"/>
            <a:ext cx="6000480" cy="5857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рам Сергия Радонежского на Куликовом по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upload.wikimedia.org/wikipedia/commons/thumb/6/66/Kulikovo_pole_-_Hram_Sergiya_Radonezhskogo.jpg/200px-Kulikovo_pole_-_Hram_Sergiya_Radonezhskogo.jpg"/>
          <p:cNvPicPr/>
          <p:nvPr/>
        </p:nvPicPr>
        <p:blipFill>
          <a:blip r:embed="rId1"/>
          <a:stretch/>
        </p:blipFill>
        <p:spPr>
          <a:xfrm>
            <a:off x="1857240" y="1285920"/>
            <a:ext cx="500076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ая оценка значения Куликовской битвы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ковская битва является первым шагом к освобождению русских земель от ордынской зависимост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а на Куликовом поле закрепила за Москвой значение организатора и идеологического центра воссоединения восточнославянских земель, показав, что путь к их государственно-политическому единству был единственным путем и к их освобождению от чужеземного господ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уликовской битвы Орда не раз совершала набеги (Крымская Орда и при Иване Грозном сожгла Москву), но не решалась на битву с русскими в открытом пол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36:17Z</dcterms:created>
  <dc:creator>7777</dc:creator>
  <dc:description/>
  <dc:language>en-US</dc:language>
  <cp:lastModifiedBy>Админ</cp:lastModifiedBy>
  <dcterms:modified xsi:type="dcterms:W3CDTF">2012-01-29T17:01:17Z</dcterms:modified>
  <cp:revision>6</cp:revision>
  <dc:subject/>
  <dc:title>Слайд 1</dc:title>
</cp:coreProperties>
</file>