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71A-8AEC-4E68-858C-A0AF5B4A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538-ECE4-476A-9212-9F67B46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BBE-B643-4B31-9B1F-CC85DFA8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F3C-0BE5-4306-A2F5-9B22238D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2316-9C66-41FB-9953-E67A5EE1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36D4-8D27-4658-9330-8F8BC408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9414-CCB9-4FDE-86CF-02B9BC32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11FB-BBBA-46F3-9B43-370B3EB2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F82A-11EB-48EA-B8F0-EB927683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4BA4-C282-4EDA-979D-A78D011C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087F-F7F4-4D2E-94DE-A446260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5CD-DAFC-4984-8F94-A220AE36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9969-6EC1-4C4A-BBBA-9D077F00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A069-C5BF-4059-9CFA-9768FE46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5537-C48B-4F0B-9EA9-E9728458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F782-7502-413B-8DC0-D8A7248D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8386-1019-4B64-BDC4-F395D6CF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DB6-80BD-4D97-A5C8-E168A840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137-4A10-4445-81C7-F9D11CD9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E0F-776E-439C-BB54-8AD9E6B7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2BD-1A72-4232-8D9B-8759ACF7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7CB-5DE7-435D-A29A-20F0586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C89-8636-4BA3-9DB9-737F6CBB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39D-39BF-4F1C-8491-F4D0966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91A5-21D7-4677-85CC-9BE9457F8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DCA3-B654-4FF3-A626-E043B2892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b7"/>
                </a:solidFill>
                <a:latin typeface="Arial Black"/>
              </a:rPr>
              <a:t>Роберт Гук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(1635- 1703гг.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берт Гук- английский естествоиспытатель, изобретатель, архите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лся 18.07.1635 году в г. Фрешуотере, о.Уай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63год член Лондонского Королевского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65год профессор Оксфордского универси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77- 1682 куратор эксперим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оберт Гук- изобретат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овершенствовал микроско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л особую систему зубчатых колё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обрёл оптический телеграф и прибор для измерения силы ве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84840" y="1905120"/>
            <a:ext cx="219384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4172040"/>
            <a:ext cx="25196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Роберт Гук- естествоиспытатель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л и описал клеточную структуру раст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вёл в науку термин «клетк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86360" y="3005280"/>
            <a:ext cx="199080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оберт Гук- архитекто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его проекту построен в 1666 году ансамбль психиатрического госпиталя «Бедла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816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3:20:26Z</dcterms:created>
  <dc:creator>Usetr</dc:creator>
  <dc:description/>
  <dc:language>en-US</dc:language>
  <cp:lastModifiedBy>Usetr</cp:lastModifiedBy>
  <dcterms:modified xsi:type="dcterms:W3CDTF">2010-10-27T13:54:48Z</dcterms:modified>
  <cp:revision>2</cp:revision>
  <dc:subject/>
  <dc:title>Роберт Гук</dc:title>
</cp:coreProperties>
</file>