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769-6D2C-4A93-8C72-43351339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F66-9F7B-4231-9DB1-83CD90D4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DBE-13F2-4EC4-BAB1-3A5CFAAF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596E-FC1A-4439-A551-74640235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3290-4694-450D-AD18-BB6260A2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E2DA-2082-4DE6-9351-BAA3909F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7354-3C4A-43EF-902B-A36508C9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04E6-93E2-40C4-AFE2-F3C10814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C4DE-6140-4AFA-8E37-4B01B8EC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05F6-B080-4DEC-BF38-FC1A4EA9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F80E-7264-4812-8234-804DD94B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BBD-9F44-45BD-A5C0-C310243B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3CD2-6862-4FF6-8E3E-381D8F8F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C737-EB78-44B7-A5A7-BC9DC179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C403-7680-4692-87F4-765B155D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6239-15E9-4CB3-9112-23A3530B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2374-9E89-41EA-8DA7-6C84D760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D94-ED1F-4F46-8885-F3C6D31F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26D-DEDD-4B35-9194-2AB5E207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17C-1BC9-4D64-82AC-63201614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E5C-395A-4079-AF65-9C33F6F8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4C1-AAEB-416D-8E56-FC347A2E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FEE-2463-49C5-8FBB-EE833F2B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B94-3696-4B50-9A1B-A6BF7344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E0A3-DD3E-4C03-ABDC-B2755580C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D6CF-FA07-447D-B5A7-C6199E8F61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900000" y="549360"/>
            <a:ext cx="7704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тное народное творчество -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льклор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екотором царстве, в некотором государстве жил – был цар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 rot="5400000">
            <a:off x="4031640" y="1449360"/>
            <a:ext cx="1224000" cy="14396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708360" y="302436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ч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 rot="5400000">
            <a:off x="4104360" y="3609000"/>
            <a:ext cx="1152360" cy="151272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378000 h 1512720"/>
              <a:gd name="textAreaBottom" fmla="*/ 11347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 flipV="1" rot="10796400">
            <a:off x="3198240" y="5148000"/>
            <a:ext cx="32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исание действ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333360"/>
            <a:ext cx="80074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я там был, мед – пиво пил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стали они жить – пожиать да добра наживат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 rot="5400000">
            <a:off x="4104360" y="1880280"/>
            <a:ext cx="1152360" cy="151272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378000 h 1512720"/>
              <a:gd name="textAreaBottom" fmla="*/ 11347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 flipV="1" rot="10800000">
            <a:off x="3346200" y="37058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цов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11"/>
          <p:cNvSpPr/>
          <p:nvPr/>
        </p:nvSpPr>
        <p:spPr>
          <a:xfrm rot="863400">
            <a:off x="6433920" y="410760"/>
            <a:ext cx="2376360" cy="1728720"/>
          </a:xfrm>
          <a:prstGeom prst="wedgeRectCallout">
            <a:avLst>
              <a:gd name="adj1" fmla="val -40189"/>
              <a:gd name="adj2" fmla="val 681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нтастические геро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щ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аба Я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хо одноглаз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14"/>
          <p:cNvSpPr/>
          <p:nvPr/>
        </p:nvSpPr>
        <p:spPr>
          <a:xfrm rot="15203400">
            <a:off x="941040" y="161640"/>
            <a:ext cx="1639800" cy="2770200"/>
          </a:xfrm>
          <a:prstGeom prst="wedgeRectCallout">
            <a:avLst>
              <a:gd name="adj1" fmla="val -45490"/>
              <a:gd name="adj2" fmla="val 6618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олшебные ве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вер – само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поги – скорох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ч – кладе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 rot="20443200">
            <a:off x="676440" y="4389120"/>
            <a:ext cx="1825560" cy="1206360"/>
          </a:xfrm>
          <a:prstGeom prst="wedgeRectCallout">
            <a:avLst>
              <a:gd name="adj1" fmla="val 82000"/>
              <a:gd name="adj2" fmla="val -2164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Магические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,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8"/>
          <p:cNvSpPr/>
          <p:nvPr/>
        </p:nvSpPr>
        <p:spPr>
          <a:xfrm rot="309600">
            <a:off x="6014880" y="4624560"/>
            <a:ext cx="2776680" cy="1552320"/>
          </a:xfrm>
          <a:prstGeom prst="wedgeRectCallout">
            <a:avLst>
              <a:gd name="adj1" fmla="val -34162"/>
              <a:gd name="adj2" fmla="val -84796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ложительные и отрицательные геро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0" descr="441"/>
          <p:cNvPicPr/>
          <p:nvPr/>
        </p:nvPicPr>
        <p:blipFill>
          <a:blip r:embed="rId1"/>
          <a:stretch/>
        </p:blipFill>
        <p:spPr>
          <a:xfrm>
            <a:off x="3132000" y="2178000"/>
            <a:ext cx="288000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78280" cy="28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дрей – вороб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гоняй голубе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няй гал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-под палок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58920" y="1904760"/>
            <a:ext cx="398628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шка – дур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ит таба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ички вору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ма не ночует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1476360" y="620640"/>
            <a:ext cx="66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лые жанр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AutoShape 8"/>
          <p:cNvSpPr/>
          <p:nvPr/>
        </p:nvSpPr>
        <p:spPr>
          <a:xfrm rot="5400000">
            <a:off x="3708360" y="3645000"/>
            <a:ext cx="1295280" cy="201600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504000 h 2016000"/>
              <a:gd name="textAreaBottom" fmla="*/ 15120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9"/>
          <p:cNvSpPr txBox="1"/>
          <p:nvPr/>
        </p:nvSpPr>
        <p:spPr>
          <a:xfrm>
            <a:off x="2340000" y="5661000"/>
            <a:ext cx="44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азнилк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404280"/>
            <a:ext cx="74059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рба-барба=барбари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е торговки подра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а тянет за кос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Отдавай мне колбасу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Ах, ты, хитрая мада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басы тебе не да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учше дам тебе лим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катись отсюда вон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 rot="5400000">
            <a:off x="3851640" y="3933000"/>
            <a:ext cx="1368360" cy="165564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414000 h 1655640"/>
              <a:gd name="textAreaBottom" fmla="*/ 1242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268360" y="5516640"/>
            <a:ext cx="453708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читалочк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ли три Назар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новились у базар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оворили про Прокоп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 Прокопьих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про маленьких Прокопьиных прокопеня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 rot="5400000">
            <a:off x="4139640" y="2852640"/>
            <a:ext cx="1440000" cy="216036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540000 h 2160360"/>
              <a:gd name="textAreaBottom" fmla="*/ 162036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1979640" y="4941720"/>
            <a:ext cx="583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ороговорк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59920"/>
            <a:ext cx="80074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это за дерево: зиму – лето зеле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 flipH="1" rot="10768800">
            <a:off x="6265800" y="1066320"/>
            <a:ext cx="167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Хво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 rot="5400000">
            <a:off x="3814200" y="1304640"/>
            <a:ext cx="1657440" cy="2016360"/>
          </a:xfrm>
          <a:custGeom>
            <a:avLst/>
            <a:gdLst>
              <a:gd name="textAreaLeft" fmla="*/ 207000 w 1657440"/>
              <a:gd name="textAreaRight" fmla="*/ 1450440 w 1657440"/>
              <a:gd name="textAreaTop" fmla="*/ 504000 h 2016360"/>
              <a:gd name="textAreaBottom" fmla="*/ 151236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2268360" y="3716280"/>
            <a:ext cx="489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гад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 труда не вытащишь и рыбку из пру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у время – потехе ч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 rot="5400000">
            <a:off x="4195800" y="2333520"/>
            <a:ext cx="1471680" cy="1728720"/>
          </a:xfrm>
          <a:custGeom>
            <a:avLst/>
            <a:gdLst>
              <a:gd name="textAreaLeft" fmla="*/ 183960 w 1471680"/>
              <a:gd name="textAreaRight" fmla="*/ 1287720 w 1471680"/>
              <a:gd name="textAreaTop" fmla="*/ 432000 h 1728720"/>
              <a:gd name="textAreaBottom" fmla="*/ 1296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2050920" y="4365720"/>
            <a:ext cx="554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ловиц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19274400">
            <a:off x="560520" y="1052280"/>
            <a:ext cx="35478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екдо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5"/>
          <p:cNvSpPr txBox="1"/>
          <p:nvPr/>
        </p:nvSpPr>
        <p:spPr>
          <a:xfrm rot="1638000">
            <a:off x="5073480" y="1049400"/>
            <a:ext cx="3068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сн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2843280" y="4869000"/>
            <a:ext cx="331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астушк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7" descr="big_shoes_to_fill_md_wht"/>
          <p:cNvPicPr/>
          <p:nvPr/>
        </p:nvPicPr>
        <p:blipFill>
          <a:blip r:embed="rId7"/>
          <a:stretch/>
        </p:blipFill>
        <p:spPr>
          <a:xfrm>
            <a:off x="3197160" y="1989000"/>
            <a:ext cx="24544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18992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нимательный рассказ о необыкновенных, часто фантастических событиях и приключен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908000" y="620640"/>
            <a:ext cx="561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азка-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AutoShape 5"/>
          <p:cNvSpPr/>
          <p:nvPr/>
        </p:nvSpPr>
        <p:spPr>
          <a:xfrm rot="7252800">
            <a:off x="1692360" y="2707920"/>
            <a:ext cx="1187280" cy="1333440"/>
          </a:xfrm>
          <a:custGeom>
            <a:avLst/>
            <a:gdLst>
              <a:gd name="textAreaLeft" fmla="*/ 148320 w 1187280"/>
              <a:gd name="textAreaRight" fmla="*/ 1038960 w 1187280"/>
              <a:gd name="textAreaTop" fmla="*/ 333360 h 1333440"/>
              <a:gd name="textAreaBottom" fmla="*/ 1000080 h 133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 rot="5400000">
            <a:off x="4428000" y="2853720"/>
            <a:ext cx="1152360" cy="143964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 rot="3005400">
            <a:off x="6875280" y="2565360"/>
            <a:ext cx="1044360" cy="1476360"/>
          </a:xfrm>
          <a:custGeom>
            <a:avLst/>
            <a:gdLst>
              <a:gd name="textAreaLeft" fmla="*/ 130320 w 1044360"/>
              <a:gd name="textAreaRight" fmla="*/ 914040 w 1044360"/>
              <a:gd name="textAreaTop" fmla="*/ 369000 h 1476360"/>
              <a:gd name="textAreaBottom" fmla="*/ 1107360 h 14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611280" y="442908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товые сказ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 flipV="1" rot="10800000">
            <a:off x="3851280" y="450180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азки о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 flipV="1" rot="10800000">
            <a:off x="6227640" y="436284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лшебные сказ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8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море-окияне, на острове Буяне стоит дерево – золотые маковки. По этому дереву ходит кот Баюн: вверх идет – песню заводит, вниз – сказки сказывает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547640" y="476280"/>
            <a:ext cx="626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обенно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лшебной сказк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AutoShape 5"/>
          <p:cNvSpPr/>
          <p:nvPr/>
        </p:nvSpPr>
        <p:spPr>
          <a:xfrm rot="5400000">
            <a:off x="3708000" y="3716280"/>
            <a:ext cx="1407960" cy="1297080"/>
          </a:xfrm>
          <a:custGeom>
            <a:avLst/>
            <a:gdLst>
              <a:gd name="textAreaLeft" fmla="*/ 176040 w 1407960"/>
              <a:gd name="textAreaRight" fmla="*/ 1232280 w 1407960"/>
              <a:gd name="textAreaTop" fmla="*/ 324360 h 1297080"/>
              <a:gd name="textAreaBottom" fmla="*/ 9730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916360" y="5516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сказк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6:17:28Z</dcterms:created>
  <dc:creator>USER</dc:creator>
  <dc:description/>
  <dc:language>en-US</dc:language>
  <cp:lastModifiedBy>Пользователь</cp:lastModifiedBy>
  <dcterms:modified xsi:type="dcterms:W3CDTF">2010-10-23T18:13:50Z</dcterms:modified>
  <cp:revision>6</cp:revision>
  <dc:subject/>
  <dc:title>Слайд 1</dc:title>
</cp:coreProperties>
</file>