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12FA-D31A-4DB6-8BB9-05CE934D8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F234-6514-41AB-8E84-D3301F33D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2893-80AA-4750-9579-96B08E905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E437-CC6F-43C7-8573-C916BA673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9765A-BA63-4E4B-B3F0-E050E1ED1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FA217-EA03-4E83-A1B5-20D470FD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31E79-05D3-46B6-8AD5-54662DDCC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EE812-7C69-4B98-9394-02B68FEFA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1ADC9-648A-45CB-B3DB-EB4F8D666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B2488-A246-44F3-8405-672A74207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2C1A9-293C-47DD-86A4-FAB32AC8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D5E9-45A4-48DD-8A80-AC4BF275D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24428-77AA-47A2-BE83-03161B5E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6C47E-9245-4F72-9B0D-A3C12AC1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C3C69-BF7D-4B5E-8F82-E8C9B59DB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7689B-DF1C-4769-A11C-46508891D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66747-1537-47B7-9CD4-1DDE0002A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FD05-C3A3-4C9F-AEA1-5C941D63C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C2DA-B453-4007-AD63-AE2785E43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7C3F-5EEF-4938-B225-35BBCC47C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1C10-3F0B-4EFA-9D77-0DCAE3FC8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F723-C67C-4BA7-B05F-B781DD0C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691F-8A62-4AB8-9DA6-AFCC95FC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C255-887B-443F-85EC-2A51FC37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90F02-6B26-4AD7-A885-3C171F3232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09736-8479-4B7D-9872-EE8F7CB1BC6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gi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WordArt 7"/>
          <p:cNvSpPr txBox="1"/>
          <p:nvPr/>
        </p:nvSpPr>
        <p:spPr>
          <a:xfrm>
            <a:off x="900000" y="549360"/>
            <a:ext cx="770436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стное народное творчество -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ольклор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7720" y="333000"/>
            <a:ext cx="800748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некотором царстве, в некотором государстве жил – был царь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4"/>
          <p:cNvSpPr/>
          <p:nvPr/>
        </p:nvSpPr>
        <p:spPr>
          <a:xfrm rot="5400000">
            <a:off x="4031640" y="1449360"/>
            <a:ext cx="1224000" cy="143964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360000 h 1439640"/>
              <a:gd name="textAreaBottom" fmla="*/ 108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3708360" y="3024360"/>
            <a:ext cx="19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ач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6"/>
          <p:cNvSpPr/>
          <p:nvPr/>
        </p:nvSpPr>
        <p:spPr>
          <a:xfrm rot="5400000">
            <a:off x="4104360" y="3609000"/>
            <a:ext cx="1152360" cy="1512720"/>
          </a:xfrm>
          <a:custGeom>
            <a:avLst/>
            <a:gdLst>
              <a:gd name="textAreaLeft" fmla="*/ 144000 w 1152360"/>
              <a:gd name="textAreaRight" fmla="*/ 1008360 w 1152360"/>
              <a:gd name="textAreaTop" fmla="*/ 378000 h 1512720"/>
              <a:gd name="textAreaBottom" fmla="*/ 113472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 flipV="1" rot="10796400">
            <a:off x="3198240" y="5148000"/>
            <a:ext cx="324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писание действ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7720" y="333360"/>
            <a:ext cx="800748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 я там был, мед – пиво пил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 стали они жить – пожиать да добра наживать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AutoShape 4"/>
          <p:cNvSpPr/>
          <p:nvPr/>
        </p:nvSpPr>
        <p:spPr>
          <a:xfrm rot="5400000">
            <a:off x="4104360" y="1880280"/>
            <a:ext cx="1152360" cy="1512720"/>
          </a:xfrm>
          <a:custGeom>
            <a:avLst/>
            <a:gdLst>
              <a:gd name="textAreaLeft" fmla="*/ 144000 w 1152360"/>
              <a:gd name="textAreaRight" fmla="*/ 1008360 w 1152360"/>
              <a:gd name="textAreaTop" fmla="*/ 378000 h 1512720"/>
              <a:gd name="textAreaBottom" fmla="*/ 113472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 flipV="1" rot="10800000">
            <a:off x="3346200" y="370584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онцов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AutoShape 11"/>
          <p:cNvSpPr/>
          <p:nvPr/>
        </p:nvSpPr>
        <p:spPr>
          <a:xfrm rot="863400">
            <a:off x="6433920" y="410760"/>
            <a:ext cx="2376360" cy="1728720"/>
          </a:xfrm>
          <a:prstGeom prst="wedgeRectCallout">
            <a:avLst>
              <a:gd name="adj1" fmla="val -40189"/>
              <a:gd name="adj2" fmla="val 68189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Фантастические геро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щ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аба Яг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ихо одноглаз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14"/>
          <p:cNvSpPr/>
          <p:nvPr/>
        </p:nvSpPr>
        <p:spPr>
          <a:xfrm rot="15203400">
            <a:off x="941040" y="161640"/>
            <a:ext cx="1639800" cy="2770200"/>
          </a:xfrm>
          <a:prstGeom prst="wedgeRectCallout">
            <a:avLst>
              <a:gd name="adj1" fmla="val -45490"/>
              <a:gd name="adj2" fmla="val 66185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олшебные вещ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вер – самол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апоги – скорох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ч – кладене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16"/>
          <p:cNvSpPr/>
          <p:nvPr/>
        </p:nvSpPr>
        <p:spPr>
          <a:xfrm rot="20443200">
            <a:off x="676440" y="4389120"/>
            <a:ext cx="1825560" cy="1206360"/>
          </a:xfrm>
          <a:prstGeom prst="wedgeRectCallout">
            <a:avLst>
              <a:gd name="adj1" fmla="val 82000"/>
              <a:gd name="adj2" fmla="val -21648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Магические чис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,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18"/>
          <p:cNvSpPr/>
          <p:nvPr/>
        </p:nvSpPr>
        <p:spPr>
          <a:xfrm rot="309600">
            <a:off x="6014880" y="4624560"/>
            <a:ext cx="2776680" cy="1552320"/>
          </a:xfrm>
          <a:prstGeom prst="wedgeRectCallout">
            <a:avLst>
              <a:gd name="adj1" fmla="val -34162"/>
              <a:gd name="adj2" fmla="val -84796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Положительные и отрицательные геро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20" descr="441"/>
          <p:cNvPicPr/>
          <p:nvPr/>
        </p:nvPicPr>
        <p:blipFill>
          <a:blip r:embed="rId1"/>
          <a:stretch/>
        </p:blipFill>
        <p:spPr>
          <a:xfrm>
            <a:off x="3132000" y="2178000"/>
            <a:ext cx="2880000" cy="22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878280" cy="289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ндрей – воробе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 гоняй голубей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няй гал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-под палок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58920" y="1904760"/>
            <a:ext cx="3986280" cy="25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ешка – дура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урит табак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пички ворует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ма не ночует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WordArt 4"/>
          <p:cNvSpPr txBox="1"/>
          <p:nvPr/>
        </p:nvSpPr>
        <p:spPr>
          <a:xfrm>
            <a:off x="1476360" y="620640"/>
            <a:ext cx="6696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алые жанры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AutoShape 8"/>
          <p:cNvSpPr/>
          <p:nvPr/>
        </p:nvSpPr>
        <p:spPr>
          <a:xfrm rot="5400000">
            <a:off x="3708360" y="3645000"/>
            <a:ext cx="1295280" cy="201600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504000 h 2016000"/>
              <a:gd name="textAreaBottom" fmla="*/ 1512000 h 20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WordArt 9"/>
          <p:cNvSpPr txBox="1"/>
          <p:nvPr/>
        </p:nvSpPr>
        <p:spPr>
          <a:xfrm>
            <a:off x="2340000" y="5661000"/>
            <a:ext cx="4464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разнилки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404280"/>
            <a:ext cx="740592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арба-барба=барбари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ве торговки подралис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дна тянет за косу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Отдавай мне колбасу!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Ах, ты, хитрая мадам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лбасы тебе не дам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учше дам тебе лим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катись отсюда вон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4"/>
          <p:cNvSpPr/>
          <p:nvPr/>
        </p:nvSpPr>
        <p:spPr>
          <a:xfrm rot="5400000">
            <a:off x="3851640" y="3933000"/>
            <a:ext cx="1368360" cy="165564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414000 h 1655640"/>
              <a:gd name="textAreaBottom" fmla="*/ 124200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WordArt 6"/>
          <p:cNvSpPr txBox="1"/>
          <p:nvPr/>
        </p:nvSpPr>
        <p:spPr>
          <a:xfrm>
            <a:off x="2268360" y="5516640"/>
            <a:ext cx="4537080" cy="10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читалочк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7720" y="476280"/>
            <a:ext cx="80074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ли три Назар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тановились у базар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говорили про Прокоп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 Прокопьих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про маленьких Прокопьиных прокопеня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4"/>
          <p:cNvSpPr/>
          <p:nvPr/>
        </p:nvSpPr>
        <p:spPr>
          <a:xfrm rot="5400000">
            <a:off x="4139640" y="2852640"/>
            <a:ext cx="1440000" cy="2160360"/>
          </a:xfrm>
          <a:custGeom>
            <a:avLst/>
            <a:gdLst>
              <a:gd name="textAreaLeft" fmla="*/ 180000 w 1440000"/>
              <a:gd name="textAreaRight" fmla="*/ 1260000 w 1440000"/>
              <a:gd name="textAreaTop" fmla="*/ 540000 h 2160360"/>
              <a:gd name="textAreaBottom" fmla="*/ 1620360 h 21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WordArt 5"/>
          <p:cNvSpPr txBox="1"/>
          <p:nvPr/>
        </p:nvSpPr>
        <p:spPr>
          <a:xfrm>
            <a:off x="1979640" y="4941720"/>
            <a:ext cx="5832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короговорк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7720" y="259920"/>
            <a:ext cx="80074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это за дерево: зиму – лето зелен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 flipH="1" rot="10768800">
            <a:off x="6265800" y="1066320"/>
            <a:ext cx="1674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Хвоя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5"/>
          <p:cNvSpPr/>
          <p:nvPr/>
        </p:nvSpPr>
        <p:spPr>
          <a:xfrm rot="5400000">
            <a:off x="3814200" y="1304640"/>
            <a:ext cx="1657440" cy="2016360"/>
          </a:xfrm>
          <a:custGeom>
            <a:avLst/>
            <a:gdLst>
              <a:gd name="textAreaLeft" fmla="*/ 207000 w 1657440"/>
              <a:gd name="textAreaRight" fmla="*/ 1450440 w 1657440"/>
              <a:gd name="textAreaTop" fmla="*/ 504000 h 2016360"/>
              <a:gd name="textAreaBottom" fmla="*/ 1512360 h 2016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WordArt 6"/>
          <p:cNvSpPr txBox="1"/>
          <p:nvPr/>
        </p:nvSpPr>
        <p:spPr>
          <a:xfrm>
            <a:off x="2268360" y="3716280"/>
            <a:ext cx="4896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гадк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7720" y="333000"/>
            <a:ext cx="80074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ез труда не вытащишь и рыбку из пру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лу время – потехе ча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4"/>
          <p:cNvSpPr/>
          <p:nvPr/>
        </p:nvSpPr>
        <p:spPr>
          <a:xfrm rot="5400000">
            <a:off x="4195800" y="2333520"/>
            <a:ext cx="1471680" cy="1728720"/>
          </a:xfrm>
          <a:custGeom>
            <a:avLst/>
            <a:gdLst>
              <a:gd name="textAreaLeft" fmla="*/ 183960 w 1471680"/>
              <a:gd name="textAreaRight" fmla="*/ 1287720 w 1471680"/>
              <a:gd name="textAreaTop" fmla="*/ 432000 h 1728720"/>
              <a:gd name="textAreaBottom" fmla="*/ 129672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WordArt 5"/>
          <p:cNvSpPr txBox="1"/>
          <p:nvPr/>
        </p:nvSpPr>
        <p:spPr>
          <a:xfrm>
            <a:off x="2050920" y="4365720"/>
            <a:ext cx="5545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словицы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4"/>
          <p:cNvSpPr txBox="1"/>
          <p:nvPr/>
        </p:nvSpPr>
        <p:spPr>
          <a:xfrm rot="19274400">
            <a:off x="560520" y="1052280"/>
            <a:ext cx="354780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некдоты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" name="WordArt 5"/>
          <p:cNvSpPr txBox="1"/>
          <p:nvPr/>
        </p:nvSpPr>
        <p:spPr>
          <a:xfrm rot="1638000">
            <a:off x="5073480" y="1049400"/>
            <a:ext cx="30686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есни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WordArt 6"/>
          <p:cNvSpPr txBox="1"/>
          <p:nvPr/>
        </p:nvSpPr>
        <p:spPr>
          <a:xfrm>
            <a:off x="2843280" y="4869000"/>
            <a:ext cx="3313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астушки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3" name="Picture 7" descr="big_shoes_to_fill_md_wht"/>
          <p:cNvPicPr/>
          <p:nvPr/>
        </p:nvPicPr>
        <p:blipFill>
          <a:blip r:embed="rId7"/>
          <a:stretch/>
        </p:blipFill>
        <p:spPr>
          <a:xfrm>
            <a:off x="3197160" y="1989000"/>
            <a:ext cx="245448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189920" cy="109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нимательный рассказ о необыкновенных, часто фантастических событиях и приключения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WordArt 4"/>
          <p:cNvSpPr txBox="1"/>
          <p:nvPr/>
        </p:nvSpPr>
        <p:spPr>
          <a:xfrm>
            <a:off x="1908000" y="620640"/>
            <a:ext cx="5616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казка-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AutoShape 5"/>
          <p:cNvSpPr/>
          <p:nvPr/>
        </p:nvSpPr>
        <p:spPr>
          <a:xfrm rot="7252800">
            <a:off x="1692360" y="2707920"/>
            <a:ext cx="1187280" cy="1333440"/>
          </a:xfrm>
          <a:custGeom>
            <a:avLst/>
            <a:gdLst>
              <a:gd name="textAreaLeft" fmla="*/ 148320 w 1187280"/>
              <a:gd name="textAreaRight" fmla="*/ 1038960 w 1187280"/>
              <a:gd name="textAreaTop" fmla="*/ 333360 h 1333440"/>
              <a:gd name="textAreaBottom" fmla="*/ 1000080 h 1333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 rot="5400000">
            <a:off x="4428000" y="2853720"/>
            <a:ext cx="1152360" cy="1439640"/>
          </a:xfrm>
          <a:custGeom>
            <a:avLst/>
            <a:gdLst>
              <a:gd name="textAreaLeft" fmla="*/ 144000 w 1152360"/>
              <a:gd name="textAreaRight" fmla="*/ 1008360 w 1152360"/>
              <a:gd name="textAreaTop" fmla="*/ 360000 h 1439640"/>
              <a:gd name="textAreaBottom" fmla="*/ 108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7"/>
          <p:cNvSpPr/>
          <p:nvPr/>
        </p:nvSpPr>
        <p:spPr>
          <a:xfrm rot="3005400">
            <a:off x="6875280" y="2565360"/>
            <a:ext cx="1044360" cy="1476360"/>
          </a:xfrm>
          <a:custGeom>
            <a:avLst/>
            <a:gdLst>
              <a:gd name="textAreaLeft" fmla="*/ 130320 w 1044360"/>
              <a:gd name="textAreaRight" fmla="*/ 914040 w 1044360"/>
              <a:gd name="textAreaTop" fmla="*/ 369000 h 1476360"/>
              <a:gd name="textAreaBottom" fmla="*/ 1107360 h 1476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611280" y="4429080"/>
            <a:ext cx="187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ытовые сказ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11"/>
          <p:cNvSpPr/>
          <p:nvPr/>
        </p:nvSpPr>
        <p:spPr>
          <a:xfrm flipV="1" rot="10800000">
            <a:off x="3851280" y="4501800"/>
            <a:ext cx="216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казки о животны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12"/>
          <p:cNvSpPr/>
          <p:nvPr/>
        </p:nvSpPr>
        <p:spPr>
          <a:xfrm flipV="1" rot="10800000">
            <a:off x="6227640" y="4362840"/>
            <a:ext cx="266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лшебные сказ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7720" y="1905120"/>
            <a:ext cx="8007480" cy="188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 море-окияне, на острове Буяне стоит дерево – золотые маковки. По этому дереву ходит кот Баюн: вверх идет – песню заводит, вниз – сказки сказывает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WordArt 4"/>
          <p:cNvSpPr txBox="1"/>
          <p:nvPr/>
        </p:nvSpPr>
        <p:spPr>
          <a:xfrm>
            <a:off x="1547640" y="476280"/>
            <a:ext cx="6264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собенност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лшебной сказки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" name="AutoShape 5"/>
          <p:cNvSpPr/>
          <p:nvPr/>
        </p:nvSpPr>
        <p:spPr>
          <a:xfrm rot="5400000">
            <a:off x="3708000" y="3716280"/>
            <a:ext cx="1407960" cy="1297080"/>
          </a:xfrm>
          <a:custGeom>
            <a:avLst/>
            <a:gdLst>
              <a:gd name="textAreaLeft" fmla="*/ 176040 w 1407960"/>
              <a:gd name="textAreaRight" fmla="*/ 1232280 w 1407960"/>
              <a:gd name="textAreaTop" fmla="*/ 324360 h 1297080"/>
              <a:gd name="textAreaBottom" fmla="*/ 97308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2916360" y="551664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исказка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16:17:28Z</dcterms:created>
  <dc:creator>USER</dc:creator>
  <dc:description/>
  <dc:language>en-US</dc:language>
  <cp:lastModifiedBy>Пользователь</cp:lastModifiedBy>
  <dcterms:modified xsi:type="dcterms:W3CDTF">2010-10-23T18:13:50Z</dcterms:modified>
  <cp:revision>6</cp:revision>
  <dc:subject/>
  <dc:title>Слайд 1</dc:title>
</cp:coreProperties>
</file>