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1B9-549F-4E83-A5E8-93E8DB1B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1CB-B3D6-4F94-9597-2D8C75A8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DC2-F89E-4F66-939B-3A3E8D0C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1B7-2C04-46E5-A50B-C9DC5A25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04-B303-4C50-9415-BB354A1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3FB-11A9-40AA-AF36-D284F783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510-6CC2-4D15-A908-4EA87D22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B6B-BE13-491A-86C2-E1A40D9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749-91F7-4D2D-B5E1-2C932E67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DEA-A28A-4EDF-97FC-17B0EB6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E90-112E-4819-AEF7-373E896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70B-0C74-45F7-B2D4-E34E66D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793-72D9-4F92-8E2E-801D85263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Использование информационных технологий на уроках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начальной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558972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дреева Ири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Педагогический со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«Совместная работа школы №538 и ЦИК по развитию системы углублённого изучения информационных технологий в свете реализации идей, заложенных в Национальном проекте «Образов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менение мультимедийных систем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на уро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559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– презентация дает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ительно повысить интерес учащихся к изучаемому материалу, позволяет включить в работу детей с разным уровнем подгот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усский язык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ема: « Редактирование текст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 границы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увидел птенчика. И посадил его в гнез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увидел птенчика и посадил его в гнез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3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3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3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пуск  важного слова или предложения.(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окном выглядывали птенч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окном было ласточкино гнездо. Из него выглядывали птенч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3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предели порядок слов в предложении (1,2,3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сточки защебетали и весело стали кормить птен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сточки весело защебетали и стали кормить птен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авописание безударных гласных в кор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.дить, б.жать, з.лёный, ст.ловая, л.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        е             е                  о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3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 уроках окружающ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9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ода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3276720"/>
            <a:ext cx="1523880" cy="1143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200400"/>
            <a:ext cx="137160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1523880" cy="1218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828800"/>
            <a:ext cx="23619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5" idx="0"/>
            <a:endCxn id="85" idx="0"/>
          </p:cNvCxnSpPr>
          <p:nvPr/>
        </p:nvCxnSpPr>
        <p:spPr>
          <a:xfrm>
            <a:off x="2666520" y="3276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 flipH="1">
            <a:off x="2895120" y="2514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514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ентация позволяет сконцентрировать внимание детей на том материале, который необходим в данный момент урока, не отвлекая при этом внимание на другие иллюстрации, экспо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уроках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- презентация активизирует зрительные   ассоциации, что способствует формированию этапов исторического развития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ема: « Князь Александр Невск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8869" t="16840" r="0" b="17504"/>
          <a:stretch/>
        </p:blipFill>
        <p:spPr>
          <a:xfrm>
            <a:off x="380880" y="16002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8869" t="16840" r="0" b="17504"/>
          <a:stretch/>
        </p:blipFill>
        <p:spPr>
          <a:xfrm>
            <a:off x="4648320" y="1600200"/>
            <a:ext cx="434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53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о «Образовательному стандарту начального общего образования по информатике и информационным технологиям» ученики дол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лучить знания, составляющие основу информацион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меть использовать компьютерную технику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риентироваться в информации разного вида, соблюдать этические нормы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66680" y="533520"/>
            <a:ext cx="7467840" cy="5486400"/>
            <a:chOff x="1066680" y="533520"/>
            <a:chExt cx="7467840" cy="54864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25587" t="17726" r="2210" b="18390"/>
            <a:stretch/>
          </p:blipFill>
          <p:spPr>
            <a:xfrm>
              <a:off x="1066680" y="533520"/>
              <a:ext cx="74678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1066680" y="533520"/>
              <a:ext cx="746784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ь о доблестном кня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одителей и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8800" y="1371600"/>
            <a:ext cx="6068880" cy="4586040"/>
            <a:chOff x="1828800" y="1371600"/>
            <a:chExt cx="6068880" cy="4586040"/>
          </a:xfrm>
        </p:grpSpPr>
        <p:grpSp>
          <p:nvGrpSpPr>
            <p:cNvPr id="105" name=""/>
            <p:cNvGrpSpPr/>
            <p:nvPr/>
          </p:nvGrpSpPr>
          <p:grpSpPr>
            <a:xfrm>
              <a:off x="1833480" y="1376280"/>
              <a:ext cx="6059520" cy="4576680"/>
              <a:chOff x="1833480" y="1376280"/>
              <a:chExt cx="6059520" cy="45766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833480" y="1376280"/>
                <a:ext cx="6059520" cy="549360"/>
                <a:chOff x="1833480" y="1376280"/>
                <a:chExt cx="6059520" cy="549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901880" y="1376280"/>
                  <a:ext cx="5922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Есть ли у Вас дома компьютер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?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833480" y="1376280"/>
                  <a:ext cx="60595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833480" y="1925640"/>
                <a:ext cx="1771560" cy="549360"/>
                <a:chOff x="1833480" y="1925640"/>
                <a:chExt cx="1771560" cy="5493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01880" y="1925640"/>
                  <a:ext cx="1635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33480" y="1925640"/>
                  <a:ext cx="17715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605040" y="1925640"/>
                <a:ext cx="1260720" cy="549360"/>
                <a:chOff x="3605040" y="1925640"/>
                <a:chExt cx="1260720" cy="549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673440" y="1925640"/>
                  <a:ext cx="1123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ет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605040" y="1925640"/>
                  <a:ext cx="12607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865760" y="1925640"/>
                <a:ext cx="3027240" cy="549360"/>
                <a:chOff x="4865760" y="1925640"/>
                <a:chExt cx="3027240" cy="549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933800" y="1925640"/>
                  <a:ext cx="28908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одител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65760" y="1925640"/>
                  <a:ext cx="3027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833480" y="2475000"/>
                <a:ext cx="1771560" cy="549000"/>
                <a:chOff x="1833480" y="2475000"/>
                <a:chExt cx="1771560" cy="549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901880" y="2475000"/>
                  <a:ext cx="1635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33480" y="2475000"/>
                  <a:ext cx="17715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605040" y="2475000"/>
                <a:ext cx="1260720" cy="549000"/>
                <a:chOff x="3605040" y="2475000"/>
                <a:chExt cx="1260720" cy="5490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73440" y="2475000"/>
                  <a:ext cx="11239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8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05040" y="2475000"/>
                  <a:ext cx="12607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865760" y="2475000"/>
                <a:ext cx="3027240" cy="549000"/>
                <a:chOff x="4865760" y="2475000"/>
                <a:chExt cx="3027240" cy="549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933800" y="2475000"/>
                  <a:ext cx="28908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3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865760" y="2475000"/>
                  <a:ext cx="3027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833480" y="3024000"/>
                <a:ext cx="6059520" cy="549360"/>
                <a:chOff x="1833480" y="3024000"/>
                <a:chExt cx="6059520" cy="549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901880" y="3024000"/>
                  <a:ext cx="5922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Часто ли включаешь компьютер?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33480" y="3024000"/>
                  <a:ext cx="60595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833480" y="3573360"/>
                <a:ext cx="1771560" cy="549360"/>
                <a:chOff x="1833480" y="3573360"/>
                <a:chExt cx="1771560" cy="549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901880" y="3573360"/>
                  <a:ext cx="1635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33480" y="3573360"/>
                  <a:ext cx="17715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05040" y="3573360"/>
                <a:ext cx="1260720" cy="549360"/>
                <a:chOff x="3605040" y="3573360"/>
                <a:chExt cx="1260720" cy="5493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73440" y="3573360"/>
                  <a:ext cx="1123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ет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05040" y="3573360"/>
                  <a:ext cx="12607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865760" y="3573360"/>
                <a:ext cx="3027240" cy="549360"/>
                <a:chOff x="4865760" y="3573360"/>
                <a:chExt cx="3027240" cy="549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933800" y="3573360"/>
                  <a:ext cx="28908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одител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865760" y="3573360"/>
                  <a:ext cx="3027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33480" y="4122720"/>
                <a:ext cx="1771560" cy="549360"/>
                <a:chOff x="1833480" y="4122720"/>
                <a:chExt cx="1771560" cy="549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901880" y="4122720"/>
                  <a:ext cx="1635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аждый ден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33480" y="4122720"/>
                  <a:ext cx="17715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605040" y="4122720"/>
                <a:ext cx="1260720" cy="549360"/>
                <a:chOff x="3605040" y="4122720"/>
                <a:chExt cx="1260720" cy="549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673440" y="4122720"/>
                  <a:ext cx="1123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05040" y="4122720"/>
                  <a:ext cx="12607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865760" y="4122720"/>
                <a:ext cx="3027240" cy="549360"/>
                <a:chOff x="4865760" y="4122720"/>
                <a:chExt cx="3027240" cy="5493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33800" y="4122720"/>
                  <a:ext cx="28908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65760" y="4122720"/>
                  <a:ext cx="3027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833480" y="4672080"/>
                <a:ext cx="1771560" cy="731520"/>
                <a:chOff x="1833480" y="4672080"/>
                <a:chExt cx="1771560" cy="731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901880" y="4672080"/>
                  <a:ext cx="16351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сколько раз в неделю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833480" y="4672080"/>
                  <a:ext cx="177156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605040" y="4672080"/>
                <a:ext cx="1260720" cy="731520"/>
                <a:chOff x="3605040" y="4672080"/>
                <a:chExt cx="1260720" cy="731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673440" y="4672080"/>
                  <a:ext cx="11239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4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605040" y="4672080"/>
                  <a:ext cx="12607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865760" y="4672080"/>
                <a:ext cx="3027240" cy="731520"/>
                <a:chOff x="4865760" y="4672080"/>
                <a:chExt cx="3027240" cy="731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933800" y="4672080"/>
                  <a:ext cx="28908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865760" y="4672080"/>
                  <a:ext cx="30272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833480" y="5403600"/>
                <a:ext cx="1771560" cy="549360"/>
                <a:chOff x="1833480" y="5403600"/>
                <a:chExt cx="1771560" cy="54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901880" y="5403600"/>
                  <a:ext cx="1635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Не включае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33480" y="5403600"/>
                  <a:ext cx="17715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605040" y="5403600"/>
                <a:ext cx="1260720" cy="549360"/>
                <a:chOff x="3605040" y="5403600"/>
                <a:chExt cx="1260720" cy="549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673440" y="5403600"/>
                  <a:ext cx="1123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8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05040" y="5403600"/>
                  <a:ext cx="12607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865760" y="5403600"/>
                <a:ext cx="3027240" cy="549360"/>
                <a:chOff x="4865760" y="5403600"/>
                <a:chExt cx="3027240" cy="5493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933800" y="5403600"/>
                  <a:ext cx="28908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%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65760" y="5403600"/>
                  <a:ext cx="3027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1828800" y="1371600"/>
              <a:ext cx="6068880" cy="458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ализация образовательного стандарта по информатике и информационным технологиям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362320"/>
            <a:ext cx="2819520" cy="9144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дарт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038480"/>
            <a:ext cx="236232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орусски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648320"/>
            <a:ext cx="76320" cy="75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038480"/>
            <a:ext cx="2666880" cy="1371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ый модуль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рудовое об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114800"/>
            <a:ext cx="2210040" cy="129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и-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04760" y="32767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276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абота учеников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рус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уроки математики, русского язы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уль информационных технологий на уроках трудов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Белорус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пользуемые режи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ксированный само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контроль с поощ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3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бота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6003" t="20492" r="25944" b="21998"/>
          <a:stretch/>
        </p:blipFill>
        <p:spPr>
          <a:xfrm>
            <a:off x="990720" y="1341360"/>
            <a:ext cx="7391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актическая работа на уроках трудового обучения в 4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8499" t="14311" r="28697" b="9297"/>
          <a:stretch/>
        </p:blipFill>
        <p:spPr>
          <a:xfrm>
            <a:off x="380880" y="1905120"/>
            <a:ext cx="3353040" cy="37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3461" t="5402" r="3812" b="7088"/>
          <a:stretch/>
        </p:blipFill>
        <p:spPr>
          <a:xfrm>
            <a:off x="4788000" y="1905120"/>
            <a:ext cx="374472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тоги выполнения компьютерного модуля в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теоретических вопроса ( по вариант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уль «Кам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уль «Раскрас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6800" y="2216160"/>
          <a:ext cx="4191120" cy="37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2216160"/>
                    <a:ext cx="419112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воевременно ли введена работа с компьютер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1523880"/>
          <a:ext cx="678168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43:04Z</dcterms:created>
  <dc:creator>Андреева</dc:creator>
  <dc:description/>
  <dc:language>en-US</dc:language>
  <cp:lastModifiedBy>administrator</cp:lastModifiedBy>
  <dcterms:modified xsi:type="dcterms:W3CDTF">2006-11-02T07:53:54Z</dcterms:modified>
  <cp:revision>8</cp:revision>
  <dc:subject/>
  <dc:title>Использование информационных технологий на уроках  в начальной школе</dc:title>
</cp:coreProperties>
</file>