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2AA-C32D-4C3F-833C-0E24A8D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1DE-2349-4AAD-96F5-648F41E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67F-FAA8-4805-B448-4150F948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CA1-DC21-448B-9A4C-0E0E07EF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A5052-DDFB-4FE7-8F3B-EF6463E9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C3C5-7996-4621-9B94-7815D7E5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4034E-6ED9-44E0-AD0F-5F032C22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6F03-9DC7-4544-B977-5C964BC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FBEC-E2AE-46E5-80AA-AE109EB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E62B-4D24-43B9-9A4D-B7B358AF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4483E-7198-4251-B005-9BDE9AA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7AA-FF82-492C-9E90-540DECA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06CB-60E4-4FFC-BAC2-44D0FD8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D79DE-589D-4A8E-9B4C-E83ECA2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0F71-7C86-48F7-AB81-FE35963C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E877-753D-46EC-9DBC-1AE412D1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BD1EB-152E-4BDD-B5EE-A3450502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FC1-716C-45B6-AFFC-CC2E54E3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A11-EE1D-455C-8B85-352D597F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20B-35A4-4B76-A750-99EF7D1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E7-6DBC-410E-AAAE-A0F30009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C0D-D229-4EA1-9533-734206D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82F-15FD-4064-BCE8-61F12E2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C78-49AE-41E3-AB1A-9F0D749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76E-3F94-4CE8-948D-9803C13AD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D5D-CAD8-4CAE-8B45-366B131D64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00"/>
                </a:solidFill>
                <a:latin typeface="Monotype Corsiva"/>
              </a:rPr>
              <a:t>“ </a:t>
            </a:r>
            <a:r>
              <a:rPr b="1" lang="uk-UA" sz="4800" spc="-1" strike="noStrike">
                <a:solidFill>
                  <a:srgbClr val="800000"/>
                </a:solidFill>
                <a:latin typeface="Monotype Corsiva"/>
              </a:rPr>
              <a:t>Сміючись, говорити правду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00"/>
                </a:solidFill>
                <a:latin typeface="Monotype Corsiva"/>
              </a:rPr>
              <a:t>щоб байкою збагачувать людей</a:t>
            </a:r>
            <a:r>
              <a:rPr b="1" lang="uk-UA" sz="4000" spc="-1" strike="noStrike">
                <a:solidFill>
                  <a:srgbClr val="800000"/>
                </a:solidFill>
                <a:latin typeface="Monotype Corsiv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33520" y="2362320"/>
            <a:ext cx="80010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йка у світові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ітератур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ffff"/>
                </a:solidFill>
                <a:latin typeface="Cambria"/>
              </a:rPr>
              <a:t>Знайти в рядку зайве слово і аргументувати свою дум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mbria"/>
              </a:rPr>
              <a:t>а) “ Хліборобові діти ”, “ Квартет ”, “ Мавпа і окуляри ”, “ Свиня під дубом ”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Tahoma"/>
              </a:rPr>
              <a:t>б) </a:t>
            </a:r>
            <a:r>
              <a:rPr b="1" lang="uk-UA" sz="2800" spc="-1" strike="noStrike">
                <a:solidFill>
                  <a:srgbClr val="ffff00"/>
                </a:solidFill>
                <a:latin typeface="Cambria"/>
              </a:rPr>
              <a:t>Езоп, Пушкін, Глібов, Крил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mbria"/>
              </a:rPr>
              <a:t>в) гумор, алегорія, мораль, мі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9900"/>
                </a:solidFill>
                <a:latin typeface="Monotype Corsiva"/>
              </a:rPr>
              <a:t>Доки існуватиме людство, доти не зникне потреба у виправленні вад і уславленні чеснот людини. А, значить, житиме і байк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52680" y="380880"/>
            <a:ext cx="5486400" cy="29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Monotype Corsiva"/>
              </a:rPr>
              <a:t>Єдина в байки є мета й призначення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Monotype Corsiva"/>
              </a:rPr>
              <a:t>Погані смертних виправляти звича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Monotype Corsiva"/>
              </a:rPr>
              <a:t>І закликати люд до справедливості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Monotype Corsiva"/>
              </a:rPr>
              <a:t>І похвалять красу й добр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Monotype Corsiva"/>
              </a:rPr>
              <a:t>Ф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ffff"/>
                </a:solidFill>
                <a:latin typeface="Monotype Corsiva"/>
              </a:rPr>
              <a:t>Здається, байка просто бреше, </a:t>
            </a:r>
            <a:br>
              <a:rPr sz="3200"/>
            </a:br>
            <a:r>
              <a:rPr b="0" lang="uk-UA" sz="3200" spc="-1" strike="noStrike">
                <a:solidFill>
                  <a:srgbClr val="66ffff"/>
                </a:solidFill>
                <a:latin typeface="Monotype Corsiva"/>
              </a:rPr>
              <a:t>а справді – правду ясну чеше.</a:t>
            </a:r>
            <a:br>
              <a:rPr sz="3200"/>
            </a:br>
            <a:r>
              <a:rPr b="0" lang="uk-UA" sz="3200" spc="-1" strike="noStrike">
                <a:solidFill>
                  <a:srgbClr val="66ffff"/>
                </a:solidFill>
                <a:latin typeface="Monotype Corsiva"/>
              </a:rPr>
              <a:t>Нікого в світі не мине,</a:t>
            </a:r>
            <a:br>
              <a:rPr sz="3200"/>
            </a:br>
            <a:r>
              <a:rPr b="0" lang="uk-UA" sz="3200" spc="-1" strike="noStrike">
                <a:solidFill>
                  <a:srgbClr val="66ffff"/>
                </a:solidFill>
                <a:latin typeface="Monotype Corsiva"/>
              </a:rPr>
              <a:t>Читайте, згадуйте мене.</a:t>
            </a:r>
            <a:br>
              <a:rPr sz="3200"/>
            </a:br>
            <a:r>
              <a:rPr b="0" lang="uk-UA" sz="3200" spc="-1" strike="noStrike">
                <a:solidFill>
                  <a:srgbClr val="66ffff"/>
                </a:solidFill>
                <a:latin typeface="Monotype Corsiva"/>
              </a:rPr>
              <a:t>Л. Глібов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80880" y="2743200"/>
            <a:ext cx="769644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ff"/>
                </a:solidFill>
                <a:latin typeface="Times New Roman"/>
              </a:rPr>
              <a:t>Проблемне запитання: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00"/>
                </a:solidFill>
                <a:latin typeface="Comic Sans MS"/>
              </a:rPr>
              <a:t>Чи погоджуєтеся ви з думкою, що “ байка вчить, як на світі жить ”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5"/>
          <p:cNvSpPr/>
          <p:nvPr/>
        </p:nvSpPr>
        <p:spPr>
          <a:xfrm>
            <a:off x="1066680" y="1371600"/>
            <a:ext cx="259092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666880" y="152280"/>
            <a:ext cx="327672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mic Sans MS"/>
              </a:rPr>
              <a:t>Ба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2819520" y="914400"/>
            <a:ext cx="76176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5257800" y="9144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4876920" y="1447920"/>
            <a:ext cx="2590560" cy="533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276720" y="1828800"/>
            <a:ext cx="10666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4309560" y="2004840"/>
            <a:ext cx="1311480" cy="43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20"/>
          <p:cNvSpPr/>
          <p:nvPr/>
        </p:nvSpPr>
        <p:spPr>
          <a:xfrm flipH="1">
            <a:off x="1941120" y="2666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10080" y="26668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22"/>
          <p:cNvSpPr/>
          <p:nvPr/>
        </p:nvSpPr>
        <p:spPr>
          <a:xfrm flipH="1">
            <a:off x="1891800" y="2951280"/>
            <a:ext cx="121932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5410080" y="2971800"/>
            <a:ext cx="121932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0" y="2362320"/>
            <a:ext cx="190512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477120" y="2209680"/>
            <a:ext cx="198108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52280" y="3124080"/>
            <a:ext cx="182880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6553080" y="3124080"/>
            <a:ext cx="213372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4191120" y="2971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35"/>
          <p:cNvSpPr/>
          <p:nvPr/>
        </p:nvSpPr>
        <p:spPr>
          <a:xfrm>
            <a:off x="1676520" y="441972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36"/>
          <p:cNvSpPr/>
          <p:nvPr/>
        </p:nvSpPr>
        <p:spPr>
          <a:xfrm>
            <a:off x="1676520" y="518148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1676520" y="594360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28600" y="3962520"/>
            <a:ext cx="1143000" cy="2590560"/>
          </a:xfrm>
          <a:prstGeom prst="upDownArrow">
            <a:avLst>
              <a:gd name="adj1" fmla="val 50000"/>
              <a:gd name="adj2" fmla="val 45119"/>
            </a:avLst>
          </a:prstGeom>
          <a:gradFill rotWithShape="0">
            <a:gsLst>
              <a:gs pos="0">
                <a:srgbClr val="66ffff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60"/>
          <p:cNvSpPr/>
          <p:nvPr/>
        </p:nvSpPr>
        <p:spPr>
          <a:xfrm>
            <a:off x="3124080" y="3657600"/>
            <a:ext cx="236232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63"/>
          <p:cNvSpPr/>
          <p:nvPr/>
        </p:nvSpPr>
        <p:spPr>
          <a:xfrm>
            <a:off x="5334120" y="441972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64"/>
          <p:cNvSpPr/>
          <p:nvPr/>
        </p:nvSpPr>
        <p:spPr>
          <a:xfrm>
            <a:off x="5257800" y="518148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65"/>
          <p:cNvSpPr/>
          <p:nvPr/>
        </p:nvSpPr>
        <p:spPr>
          <a:xfrm>
            <a:off x="5257800" y="5943600"/>
            <a:ext cx="2743200" cy="4572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82"/>
          <p:cNvSpPr/>
          <p:nvPr/>
        </p:nvSpPr>
        <p:spPr>
          <a:xfrm>
            <a:off x="3276720" y="914400"/>
            <a:ext cx="2133360" cy="609480"/>
          </a:xfrm>
          <a:prstGeom prst="leftRightArrow">
            <a:avLst>
              <a:gd name="adj1" fmla="val 50000"/>
              <a:gd name="adj2" fmla="val 696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83"/>
          <p:cNvSpPr/>
          <p:nvPr/>
        </p:nvSpPr>
        <p:spPr>
          <a:xfrm>
            <a:off x="3581280" y="990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66ff"/>
                </a:solidFill>
                <a:latin typeface="Tahoma"/>
              </a:rPr>
              <a:t>Композиці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84"/>
          <p:cNvSpPr/>
          <p:nvPr/>
        </p:nvSpPr>
        <p:spPr>
          <a:xfrm>
            <a:off x="3124080" y="2362320"/>
            <a:ext cx="2286000" cy="6094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ерсонаж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1676520" y="1523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96"/>
          <p:cNvSpPr/>
          <p:nvPr/>
        </p:nvSpPr>
        <p:spPr>
          <a:xfrm>
            <a:off x="152388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Розпові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97"/>
          <p:cNvSpPr/>
          <p:nvPr/>
        </p:nvSpPr>
        <p:spPr>
          <a:xfrm>
            <a:off x="55627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98"/>
          <p:cNvSpPr/>
          <p:nvPr/>
        </p:nvSpPr>
        <p:spPr>
          <a:xfrm>
            <a:off x="4572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лю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99"/>
          <p:cNvSpPr/>
          <p:nvPr/>
        </p:nvSpPr>
        <p:spPr>
          <a:xfrm>
            <a:off x="60948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птах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00"/>
          <p:cNvSpPr/>
          <p:nvPr/>
        </p:nvSpPr>
        <p:spPr>
          <a:xfrm>
            <a:off x="69343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Росл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01"/>
          <p:cNvSpPr/>
          <p:nvPr/>
        </p:nvSpPr>
        <p:spPr>
          <a:xfrm>
            <a:off x="3886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зві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02"/>
          <p:cNvSpPr/>
          <p:nvPr/>
        </p:nvSpPr>
        <p:spPr>
          <a:xfrm>
            <a:off x="678168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Предме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243828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Алегорі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04"/>
          <p:cNvSpPr/>
          <p:nvPr/>
        </p:nvSpPr>
        <p:spPr>
          <a:xfrm>
            <a:off x="190512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Повчальні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06"/>
          <p:cNvSpPr/>
          <p:nvPr/>
        </p:nvSpPr>
        <p:spPr>
          <a:xfrm>
            <a:off x="1981080" y="6019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Пізнавальні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7"/>
          <p:cNvSpPr/>
          <p:nvPr/>
        </p:nvSpPr>
        <p:spPr>
          <a:xfrm>
            <a:off x="5791320" y="4495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Прост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5943600" y="5181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Лаконіз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09"/>
          <p:cNvSpPr/>
          <p:nvPr/>
        </p:nvSpPr>
        <p:spPr>
          <a:xfrm>
            <a:off x="57150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ahoma"/>
              </a:rPr>
              <a:t>Езопова м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43000" y="304920"/>
            <a:ext cx="670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йвідоміші байкарі світ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09480" y="1143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Складіть коротку візитку про кожного байкар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6183360" y="1828800"/>
            <a:ext cx="2361960" cy="3276360"/>
            <a:chOff x="6183360" y="1828800"/>
            <a:chExt cx="2361960" cy="3276360"/>
          </a:xfrm>
        </p:grpSpPr>
        <p:pic>
          <p:nvPicPr>
            <p:cNvPr id="131" name="Picture 8" descr=""/>
            <p:cNvPicPr/>
            <p:nvPr/>
          </p:nvPicPr>
          <p:blipFill>
            <a:blip r:embed="rId1"/>
            <a:srcRect l="19683" t="0" r="1361" b="0"/>
            <a:stretch/>
          </p:blipFill>
          <p:spPr>
            <a:xfrm>
              <a:off x="6183360" y="1828800"/>
              <a:ext cx="2361960" cy="327636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132" name="Text Box 9"/>
            <p:cNvSpPr/>
            <p:nvPr/>
          </p:nvSpPr>
          <p:spPr>
            <a:xfrm>
              <a:off x="6625440" y="4647240"/>
              <a:ext cx="14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І.А.Крил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3" name="Picture 16" descr="4_05"/>
          <p:cNvPicPr/>
          <p:nvPr/>
        </p:nvPicPr>
        <p:blipFill>
          <a:blip r:embed="rId2"/>
          <a:stretch/>
        </p:blipFill>
        <p:spPr>
          <a:xfrm>
            <a:off x="200160" y="1828800"/>
            <a:ext cx="2306520" cy="3276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34" name="Text Box 17"/>
          <p:cNvSpPr/>
          <p:nvPr/>
        </p:nvSpPr>
        <p:spPr>
          <a:xfrm>
            <a:off x="152280" y="53341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0" y="5181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“ </a:t>
            </a: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 ” (Фед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638680" y="525780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“ </a:t>
            </a: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ідусь Крилов і досі цілковито панує над світом байки “ (І.Ільїнськ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59092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“ </a:t>
            </a: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ін такий справжній … “ ( І. Красицьк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3"/>
          <a:stretch/>
        </p:blipFill>
        <p:spPr>
          <a:xfrm>
            <a:off x="3200400" y="1828800"/>
            <a:ext cx="2365200" cy="33019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39" name="Picture 27" descr="arr_anm3"/>
          <p:cNvPicPr/>
          <p:nvPr/>
        </p:nvPicPr>
        <p:blipFill>
          <a:blip r:embed="rId4"/>
          <a:stretch/>
        </p:blipFill>
        <p:spPr>
          <a:xfrm>
            <a:off x="304920" y="990720"/>
            <a:ext cx="7048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f6bb9b"/>
                </a:gs>
                <a:gs pos="100000">
                  <a:srgbClr val="f8b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f07f32"/>
                </a:gs>
                <a:gs pos="100000">
                  <a:srgbClr val="feb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ec7734"/>
                </a:gs>
                <a:gs pos="100000">
                  <a:srgbClr val="ee7e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f6be99"/>
                </a:gs>
                <a:gs pos="100000">
                  <a:srgbClr val="ffd7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Rectangle 16"/>
          <p:cNvSpPr/>
          <p:nvPr/>
        </p:nvSpPr>
        <p:spPr>
          <a:xfrm>
            <a:off x="4191120" y="1981080"/>
            <a:ext cx="4824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ec7734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ffff"/>
                </a:solidFill>
                <a:latin typeface="Times New Roman"/>
              </a:rPr>
              <a:t>Язик – це сильна зброя..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ec7734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ffff"/>
                </a:solidFill>
                <a:latin typeface="Times New Roman"/>
              </a:rPr>
              <a:t>Язик – це найцінніша річ..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buClr>
                <a:srgbClr val="ec7734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ffff"/>
                </a:solidFill>
                <a:latin typeface="Times New Roman"/>
              </a:rPr>
              <a:t>Язик – це найдешевша річ..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7" descr="эзоп"/>
          <p:cNvPicPr/>
          <p:nvPr/>
        </p:nvPicPr>
        <p:blipFill>
          <a:blip r:embed="rId1"/>
          <a:srcRect l="0" t="2944" r="0" b="0"/>
          <a:stretch/>
        </p:blipFill>
        <p:spPr>
          <a:xfrm>
            <a:off x="1523880" y="1600200"/>
            <a:ext cx="248616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Monotype Corsiva"/>
              </a:rPr>
              <a:t>Він – раб, але мудріший від вільних,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Monotype Corsiva"/>
              </a:rPr>
              <a:t> він некрасивий, але вищий від красенів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Monotype Corsiva"/>
              </a:rPr>
              <a:t>Бабрі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114800" y="57150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Monotype Corsiva"/>
              </a:rPr>
              <a:t>Поясніть висловлювання мудреця Езо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1" descr="arr_anm3"/>
          <p:cNvPicPr/>
          <p:nvPr/>
        </p:nvPicPr>
        <p:blipFill>
          <a:blip r:embed="rId2"/>
          <a:stretch/>
        </p:blipFill>
        <p:spPr>
          <a:xfrm>
            <a:off x="3429000" y="5638680"/>
            <a:ext cx="7048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609480" y="228600"/>
            <a:ext cx="807732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Чи вдалося художнику Лаптєву відобразити задум байкар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Езопа та Крилова ?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Яку найголовнішу рису  персонажів байки відміт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митці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лаптев-крылов"/>
          <p:cNvPicPr/>
          <p:nvPr/>
        </p:nvPicPr>
        <p:blipFill>
          <a:blip r:embed="rId1"/>
          <a:stretch/>
        </p:blipFill>
        <p:spPr>
          <a:xfrm>
            <a:off x="762120" y="1981080"/>
            <a:ext cx="3327120" cy="449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иллюстрации"/>
          <p:cNvPicPr/>
          <p:nvPr/>
        </p:nvPicPr>
        <p:blipFill>
          <a:blip r:embed="rId2"/>
          <a:stretch/>
        </p:blipFill>
        <p:spPr>
          <a:xfrm>
            <a:off x="4952880" y="1981080"/>
            <a:ext cx="34322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f6bb9b"/>
                </a:gs>
                <a:gs pos="100000">
                  <a:srgbClr val="f8b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f07f32"/>
                </a:gs>
                <a:gs pos="100000">
                  <a:srgbClr val="feb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ec7734"/>
                </a:gs>
                <a:gs pos="100000">
                  <a:srgbClr val="ee7e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f6be99"/>
                </a:gs>
                <a:gs pos="100000">
                  <a:srgbClr val="ffd7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248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формулюйте мораль байок Крилов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екоза и Муравей” т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бедь, Рак и Щука”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5" descr="Стрекоза и муравей"/>
          <p:cNvPicPr/>
          <p:nvPr/>
        </p:nvPicPr>
        <p:blipFill>
          <a:blip r:embed="rId1"/>
          <a:srcRect l="5108" t="0" r="5855" b="0"/>
          <a:stretch/>
        </p:blipFill>
        <p:spPr>
          <a:xfrm>
            <a:off x="5327640" y="1413000"/>
            <a:ext cx="3781440" cy="482436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pic>
        <p:nvPicPr>
          <p:cNvPr id="174" name="Picture 16" descr="Лебедь рак щука"/>
          <p:cNvPicPr/>
          <p:nvPr/>
        </p:nvPicPr>
        <p:blipFill>
          <a:blip r:embed="rId2"/>
          <a:stretch/>
        </p:blipFill>
        <p:spPr>
          <a:xfrm>
            <a:off x="1449360" y="1413000"/>
            <a:ext cx="3770280" cy="482436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6" name="Rectangle 3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f6bb9b"/>
                </a:gs>
                <a:gs pos="100000">
                  <a:srgbClr val="f8b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4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f07f32"/>
                </a:gs>
                <a:gs pos="100000">
                  <a:srgbClr val="feb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ec7734"/>
                </a:gs>
                <a:gs pos="100000">
                  <a:srgbClr val="ee7e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f6be99"/>
                </a:gs>
                <a:gs pos="100000">
                  <a:srgbClr val="ffd7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50516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Лисиця –  героїня  творів відомих байкарів. Чому саме вона є такою популярною у байках багатьох письменників?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15" descr="Ворона и лисица 4"/>
          <p:cNvPicPr/>
          <p:nvPr/>
        </p:nvPicPr>
        <p:blipFill>
          <a:blip r:embed="rId1"/>
          <a:srcRect l="0" t="1496" r="4949" b="2928"/>
          <a:stretch/>
        </p:blipFill>
        <p:spPr>
          <a:xfrm>
            <a:off x="1420920" y="1989000"/>
            <a:ext cx="3511440" cy="446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89" name="Picture 16" descr="Серов-крылов"/>
          <p:cNvPicPr/>
          <p:nvPr/>
        </p:nvPicPr>
        <p:blipFill>
          <a:blip r:embed="rId2"/>
          <a:srcRect l="16139" t="0" r="9515" b="0"/>
          <a:stretch/>
        </p:blipFill>
        <p:spPr>
          <a:xfrm>
            <a:off x="5176800" y="1989000"/>
            <a:ext cx="3861000" cy="446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90" name="Rectangle 17"/>
          <p:cNvSpPr/>
          <p:nvPr/>
        </p:nvSpPr>
        <p:spPr>
          <a:xfrm>
            <a:off x="1403280" y="6524640"/>
            <a:ext cx="3745080" cy="333360"/>
          </a:xfrm>
          <a:prstGeom prst="rect">
            <a:avLst/>
          </a:prstGeom>
          <a:solidFill>
            <a:srgbClr val="ec7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Крук та Лисиця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solidFill>
            <a:srgbClr val="ec7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Лисиця та виноград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ffff"/>
                </a:solidFill>
                <a:latin typeface="Cambria"/>
              </a:rPr>
              <a:t>Знайдіть відповідності між літературними термі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</a:rPr>
              <a:t>Алегорі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</a:rPr>
              <a:t>Мора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</a:rPr>
              <a:t>Езопова м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</a:rPr>
              <a:t>Сат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</a:rPr>
              <a:t>Афо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3828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ff99"/>
                </a:solidFill>
                <a:latin typeface="Comic Sans MS"/>
              </a:rPr>
              <a:t>Повчальний виснов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ff99"/>
                </a:solidFill>
                <a:latin typeface="Comic Sans MS"/>
              </a:rPr>
              <a:t>Недомовки і натя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145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ff99"/>
                </a:solidFill>
                <a:latin typeface="Comic Sans MS"/>
              </a:rPr>
              <a:t>Інакомовле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ff99"/>
                </a:solidFill>
                <a:latin typeface="Comic Sans MS"/>
              </a:rPr>
              <a:t>Крилатий мудрий висл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ff99"/>
                </a:solidFill>
                <a:latin typeface="Comic Sans MS"/>
              </a:rPr>
              <a:t>Злий, дошкульний смі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095880" y="1676520"/>
            <a:ext cx="304812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omic Sans MS"/>
              </a:rPr>
              <a:t>Двопланове зображення дійсн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omic Sans MS"/>
              </a:rPr>
              <a:t>На початку і в кінці бай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omic Sans MS"/>
              </a:rPr>
              <a:t>З метою уникнення цензури і переслідув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omic Sans MS"/>
              </a:rPr>
              <a:t>Для викриття вад людей та суспі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omic Sans MS"/>
              </a:rPr>
              <a:t>Глибока узагальнена дум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Лена</cp:lastModifiedBy>
  <dcterms:modified xsi:type="dcterms:W3CDTF">2012-02-02T16:18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