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9.png" ContentType="image/png"/>
  <Override PartName="/ppt/media/image4.png" ContentType="image/png"/>
  <Override PartName="/ppt/media/image1.gif" ContentType="image/gif"/>
  <Override PartName="/ppt/media/image24.gif" ContentType="image/gif"/>
  <Override PartName="/ppt/media/image25.gif" ContentType="image/gif"/>
  <Override PartName="/ppt/media/image23.png" ContentType="image/png"/>
  <Override PartName="/ppt/media/image21.gif" ContentType="image/gif"/>
  <Override PartName="/ppt/media/image19.gif" ContentType="image/gif"/>
  <Override PartName="/ppt/media/image10.png" ContentType="image/png"/>
  <Override PartName="/ppt/media/image22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832-C912-4684-8572-796AF6DA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573F-16D6-4D9A-8381-8D77DFD4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CBD-22E0-4920-9BBE-31D99155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1397-C95E-4EE0-AE33-87C86285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D083-9A12-4572-BCE4-718AAC50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06D3-6379-4E08-ABC7-B1B450CC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294-03D5-4E9C-B331-45DC4F13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7934-5C60-47A1-ADC3-86134470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F1FE-BD5F-4F60-AEB5-B1D2A023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AFB9-1129-48A3-906F-26FAC9A2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B7B7-F8D9-442D-9E9E-A58AD8FE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8B94-8509-4B61-A269-8C63273F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D68E-DA93-40A1-BC82-2DE5379C2E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Играем </a:t>
            </a: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пальч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ruka"/>
          <p:cNvPicPr/>
          <p:nvPr/>
        </p:nvPicPr>
        <p:blipFill>
          <a:blip r:embed="rId1"/>
          <a:stretch/>
        </p:blipFill>
        <p:spPr>
          <a:xfrm>
            <a:off x="3276720" y="228600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043360" y="6400800"/>
            <a:ext cx="67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: Шагрова Е.В. Учитель начальных классов МОСШ№14 г.Нижневартов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90960" y="2743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Корз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403848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лес корзинку я б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грибы в неё кла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сканирование011"/>
          <p:cNvPicPr/>
          <p:nvPr/>
        </p:nvPicPr>
        <p:blipFill>
          <a:blip r:embed="rId1"/>
          <a:stretch/>
        </p:blipFill>
        <p:spPr>
          <a:xfrm>
            <a:off x="5715000" y="3252960"/>
            <a:ext cx="1800360" cy="133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304920" y="0"/>
            <a:ext cx="1616040" cy="18003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227160" y="6126480"/>
            <a:ext cx="834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дони на себя, пальчики переплетаются и локотки разводятся в сторо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дони как бы разъезжаются, и между пальцами образу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зоры. Большие пальчики образуют руч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4816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Соб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dog1-2"/>
          <p:cNvPicPr/>
          <p:nvPr/>
        </p:nvPicPr>
        <p:blipFill>
          <a:blip r:embed="rId1"/>
          <a:stretch/>
        </p:blipFill>
        <p:spPr>
          <a:xfrm>
            <a:off x="228600" y="380880"/>
            <a:ext cx="1314360" cy="15112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1217520" y="1982880"/>
            <a:ext cx="56854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собаки острый нос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ть и шейка, есть и хвост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5943600" y="3881520"/>
            <a:ext cx="2443320" cy="1728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228600" y="6126480"/>
            <a:ext cx="830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ая ладонь на ребро, на себя. Большой палец вверх. Указательны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ий и безымянный – вместе. Мизинец попеременно опускается и подним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71840" y="27432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Ко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5715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у кошки ушки на макуш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бы лучше слыш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ышь в её норуш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cat4"/>
          <p:cNvPicPr/>
          <p:nvPr/>
        </p:nvPicPr>
        <p:blipFill>
          <a:blip r:embed="rId1"/>
          <a:stretch/>
        </p:blipFill>
        <p:spPr>
          <a:xfrm>
            <a:off x="304920" y="533520"/>
            <a:ext cx="968400" cy="1152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6535800" y="2438280"/>
            <a:ext cx="1347840" cy="18003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458640" y="5911920"/>
            <a:ext cx="619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ий и безымянный пальцы упираются в больш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казательный и мизинец подняты ввер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19920" y="27432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Мы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5334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ренький комок си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бумажкой всё шур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gr09"/>
          <p:cNvPicPr/>
          <p:nvPr/>
        </p:nvPicPr>
        <p:blipFill>
          <a:blip r:embed="rId1"/>
          <a:stretch/>
        </p:blipFill>
        <p:spPr>
          <a:xfrm>
            <a:off x="380880" y="3049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pic16"/>
          <p:cNvPicPr/>
          <p:nvPr/>
        </p:nvPicPr>
        <p:blipFill>
          <a:blip r:embed="rId2"/>
          <a:stretch/>
        </p:blipFill>
        <p:spPr>
          <a:xfrm>
            <a:off x="6629400" y="2043000"/>
            <a:ext cx="1125360" cy="17989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06360" y="5789880"/>
            <a:ext cx="619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ий и безымянный пальцы упираются в больш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казательный и мизинец согнуты в д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прижаты к среднему и безымянному пальц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05360" y="228240"/>
            <a:ext cx="198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К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449568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козы торчат 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жет забодать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400800" y="2975040"/>
            <a:ext cx="2120760" cy="180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jiv860"/>
          <p:cNvPicPr/>
          <p:nvPr/>
        </p:nvPicPr>
        <p:blipFill>
          <a:blip r:embed="rId2"/>
          <a:stretch/>
        </p:blipFill>
        <p:spPr>
          <a:xfrm>
            <a:off x="228600" y="380880"/>
            <a:ext cx="1044720" cy="10447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228600" y="56383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утренняя сторона ладони опущена вни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казательный и мизинец выставлены впере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ий и безымянный прижаты к ладони и обхвачены больш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дерева ствол, на стволе много ве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листья на ветках зеленого ц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nature11"/>
          <p:cNvPicPr/>
          <p:nvPr/>
        </p:nvPicPr>
        <p:blipFill>
          <a:blip r:embed="rId1"/>
          <a:stretch/>
        </p:blipFill>
        <p:spPr>
          <a:xfrm>
            <a:off x="380880" y="152280"/>
            <a:ext cx="1371600" cy="198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6980400" y="3733920"/>
            <a:ext cx="1608120" cy="1800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535320" y="6019920"/>
            <a:ext cx="80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жать руки тыльной стороной друг к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льцы растопырены и подняты вверх. Шевелить кистями и па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953640" y="684720"/>
            <a:ext cx="50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пользованная литератур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. Цвынта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граем пальчиками и развиваем ре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914400" y="228456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В презентации использованы изображения с сай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www.animashky.ru - аним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Лодка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Паро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дочка  плывет по ре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тавляя на воде коле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3505320" y="426708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роход плывет по ре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пыхтит он, словно пе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ic4"/>
          <p:cNvPicPr/>
          <p:nvPr/>
        </p:nvPicPr>
        <p:blipFill>
          <a:blip r:embed="rId1"/>
          <a:stretch/>
        </p:blipFill>
        <p:spPr>
          <a:xfrm>
            <a:off x="1066680" y="3048120"/>
            <a:ext cx="1116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95320" y="30456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Цеп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4572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льчики перебир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цепочку получ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ic8"/>
          <p:cNvPicPr/>
          <p:nvPr/>
        </p:nvPicPr>
        <p:blipFill>
          <a:blip r:embed="rId1"/>
          <a:stretch/>
        </p:blipFill>
        <p:spPr>
          <a:xfrm>
            <a:off x="6553080" y="3216240"/>
            <a:ext cx="2151360" cy="1800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228600" y="55630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ой и указательный пальцы левой руки в коль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ез него попеременно пропускаются колечки из пальчиков правой руки: большой - указательный, большой средний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этом упражнении участвуют все пальч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4640" y="2743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Дом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22860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м стоит с трубой и крыш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 балкон гулять я выш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сканирование005"/>
          <p:cNvPicPr/>
          <p:nvPr/>
        </p:nvPicPr>
        <p:blipFill>
          <a:blip r:embed="rId1">
            <a:lum bright="12000"/>
          </a:blip>
          <a:srcRect l="8614" t="5610" r="0" b="6852"/>
          <a:stretch/>
        </p:blipFill>
        <p:spPr>
          <a:xfrm>
            <a:off x="6781680" y="4624560"/>
            <a:ext cx="2133720" cy="19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gebouw81"/>
          <p:cNvPicPr/>
          <p:nvPr/>
        </p:nvPicPr>
        <p:blipFill>
          <a:blip r:embed="rId2"/>
          <a:stretch/>
        </p:blipFill>
        <p:spPr>
          <a:xfrm>
            <a:off x="533520" y="304920"/>
            <a:ext cx="2438280" cy="16668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151200" y="5334840"/>
            <a:ext cx="48016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дони направлены под угл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чики пальцев соприкасают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ий палец правой руки поднят ввер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чики мизинцев касаются друг друг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яя прямую линию (труба, балкон)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43600" y="274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Сту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057400" y="19051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жки, спинка и сиденье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т вам стул на удивл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55600" y="228600"/>
            <a:ext cx="117324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6705720" y="3733920"/>
            <a:ext cx="1366560" cy="1800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0" y="569772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вая ладонь вертикально ввер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ее нижней части приставляется кулачок  (большим пальцем к себ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43200" y="5331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Сто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pic6"/>
          <p:cNvPicPr/>
          <p:nvPr/>
        </p:nvPicPr>
        <p:blipFill>
          <a:blip r:embed="rId1"/>
          <a:stretch/>
        </p:blipFill>
        <p:spPr>
          <a:xfrm>
            <a:off x="6149880" y="1752480"/>
            <a:ext cx="1543320" cy="1800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231840" y="2209680"/>
            <a:ext cx="53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У стола четыре нож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ерху крышка, как ладошка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28600" y="55630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вая рука в кулачок. Сверху на кулачок опускается ладош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это упражнение легко выполняется, можно менять положение ру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ая в кулачке, левая ладонь сверху кулач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жно делать попеременно на счет р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4640" y="2743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Граб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676520" y="1981080"/>
            <a:ext cx="431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стья падают в саду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Я их граблями см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638680" y="4017960"/>
            <a:ext cx="2847960" cy="180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pic7"/>
          <p:cNvPicPr/>
          <p:nvPr/>
        </p:nvPicPr>
        <p:blipFill>
          <a:blip r:embed="rId2"/>
          <a:srcRect l="0" t="0" r="0" b="33339"/>
          <a:stretch/>
        </p:blipFill>
        <p:spPr>
          <a:xfrm>
            <a:off x="152280" y="0"/>
            <a:ext cx="1865520" cy="19810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304920" y="60192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дони на себя,  пальчики переплете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 собой выпрямлены и тоже направлены на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81120" y="3045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Сквореч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251460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ворец в скворечнике жи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песню звонкую по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44520" cy="1800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6811920" y="2743200"/>
            <a:ext cx="1440000" cy="1800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228600" y="609480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дошки вертикально поставлены друг к другу, мизинцы прижаты (как лодочка), а большие пальцы загнуты вовнут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7120" y="27432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Ё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Ёлка быстро получ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альчики сцепля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котки ты подн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льчики ты разв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Kerstboom209"/>
          <p:cNvPicPr/>
          <p:nvPr/>
        </p:nvPicPr>
        <p:blipFill>
          <a:blip r:embed="rId1"/>
          <a:stretch/>
        </p:blipFill>
        <p:spPr>
          <a:xfrm>
            <a:off x="0" y="0"/>
            <a:ext cx="1611360" cy="176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сканирование010"/>
          <p:cNvPicPr/>
          <p:nvPr/>
        </p:nvPicPr>
        <p:blipFill>
          <a:blip r:embed="rId2"/>
          <a:stretch/>
        </p:blipFill>
        <p:spPr>
          <a:xfrm>
            <a:off x="6248520" y="2955960"/>
            <a:ext cx="2011320" cy="16272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304920" y="5942160"/>
            <a:ext cx="8076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дони от себя, пальчики  пропускаются между соб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ладони под углом друг к друг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льчики выставляются вперед. Локотки к корпусу не прижима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ксим</cp:lastModifiedBy>
  <dcterms:modified xsi:type="dcterms:W3CDTF">2012-02-02T03:22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