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25.gif" ContentType="image/gif"/>
  <Override PartName="/ppt/media/image23.png" ContentType="image/png"/>
  <Override PartName="/ppt/media/image21.gif" ContentType="image/gif"/>
  <Override PartName="/ppt/media/image19.gif" ContentType="image/gif"/>
  <Override PartName="/ppt/media/image10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D0B-282F-460F-BD98-078CC25E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2F4-DB88-466A-B2D0-0AD48EF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A7D-DF41-4383-B077-C467542A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EFA-1738-4DE7-AE22-2162B55F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E32-793D-4F94-930B-82ADCFA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6C8-8D0D-4BBF-A404-FA3906EC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BC7-66D8-45C6-9212-E9EBEB65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EA0-8793-49CA-8DAA-A20C986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01D-3AB5-4FDF-ABD0-9D2A0842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00A-9FCA-462C-BBF7-572AD16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62C-DBAF-49E5-90DA-CCBABC2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EEE-23BD-470A-A0BE-463204F3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0373-DAD5-4FAD-812D-95FBB4F55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Играем 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альч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ruka"/>
          <p:cNvPicPr/>
          <p:nvPr/>
        </p:nvPicPr>
        <p:blipFill>
          <a:blip r:embed="rId1"/>
          <a:stretch/>
        </p:blipFill>
        <p:spPr>
          <a:xfrm>
            <a:off x="3276720" y="22860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043360" y="6400800"/>
            <a:ext cx="67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агрова Е.В. Учитель начальных классов МОСШ№14 г.Нижневартов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9096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Корз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4038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лес корзинку я б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грибы в неё кл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сканирование011"/>
          <p:cNvPicPr/>
          <p:nvPr/>
        </p:nvPicPr>
        <p:blipFill>
          <a:blip r:embed="rId1"/>
          <a:stretch/>
        </p:blipFill>
        <p:spPr>
          <a:xfrm>
            <a:off x="5715000" y="325296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04920" y="0"/>
            <a:ext cx="1616040" cy="1800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27160" y="6126480"/>
            <a:ext cx="834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на себя, пальчики переплетаются и локотки разводятся в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как бы разъезжаются, и между пальцами образу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зоры. Большие пальчики образуют ру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4816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Со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dog1-2"/>
          <p:cNvPicPr/>
          <p:nvPr/>
        </p:nvPicPr>
        <p:blipFill>
          <a:blip r:embed="rId1"/>
          <a:stretch/>
        </p:blipFill>
        <p:spPr>
          <a:xfrm>
            <a:off x="228600" y="380880"/>
            <a:ext cx="131436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217520" y="1982880"/>
            <a:ext cx="5685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собаки острый нос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ь и шейка, есть и хвос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943600" y="3881520"/>
            <a:ext cx="244332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28600" y="6126480"/>
            <a:ext cx="830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ая ладонь на ребро, на себя. Большой палец вверх. Указатель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и безымянный – вместе. Мизинец попеременно опускается и подним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71840" y="2743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К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у кошки ушки на макуш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лучше слы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шь в её нор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at4"/>
          <p:cNvPicPr/>
          <p:nvPr/>
        </p:nvPicPr>
        <p:blipFill>
          <a:blip r:embed="rId1"/>
          <a:stretch/>
        </p:blipFill>
        <p:spPr>
          <a:xfrm>
            <a:off x="304920" y="533520"/>
            <a:ext cx="968400" cy="115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535800" y="2438280"/>
            <a:ext cx="1347840" cy="1800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458640" y="5911920"/>
            <a:ext cx="61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и безымянный пальцы упираются в больш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тельный и мизинец подняты ввер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19920" y="274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Мы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енький комок с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бумажкой всё шур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gr09"/>
          <p:cNvPicPr/>
          <p:nvPr/>
        </p:nvPicPr>
        <p:blipFill>
          <a:blip r:embed="rId1"/>
          <a:stretch/>
        </p:blipFill>
        <p:spPr>
          <a:xfrm>
            <a:off x="380880" y="304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ic16"/>
          <p:cNvPicPr/>
          <p:nvPr/>
        </p:nvPicPr>
        <p:blipFill>
          <a:blip r:embed="rId2"/>
          <a:stretch/>
        </p:blipFill>
        <p:spPr>
          <a:xfrm>
            <a:off x="6629400" y="2043000"/>
            <a:ext cx="1125360" cy="17989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06360" y="5789880"/>
            <a:ext cx="619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и безымянный пальцы упираются в больш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тельный и мизинец согнуты в д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ижаты к среднему и безымянному пальц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05360" y="22824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49568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козы торчат 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жет забодать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400800" y="2975040"/>
            <a:ext cx="212076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iv860"/>
          <p:cNvPicPr/>
          <p:nvPr/>
        </p:nvPicPr>
        <p:blipFill>
          <a:blip r:embed="rId2"/>
          <a:stretch/>
        </p:blipFill>
        <p:spPr>
          <a:xfrm>
            <a:off x="228600" y="380880"/>
            <a:ext cx="1044720" cy="1044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228600" y="56383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енняя сторона ладони опущена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тельный и мизинец выставлены впе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и безымянный прижаты к ладони и обхвачены больш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дерева ствол, на стволе много в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листья на ветках зелен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nature11"/>
          <p:cNvPicPr/>
          <p:nvPr/>
        </p:nvPicPr>
        <p:blipFill>
          <a:blip r:embed="rId1"/>
          <a:stretch/>
        </p:blipFill>
        <p:spPr>
          <a:xfrm>
            <a:off x="380880" y="152280"/>
            <a:ext cx="137160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980400" y="3733920"/>
            <a:ext cx="1608120" cy="180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535320" y="6019920"/>
            <a:ext cx="80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жать руки тыльной стороной друг к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льцы растопырены и подняты вверх. Шевелить кистями и па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953640" y="68472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нная литератур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. Цвынт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граем пальчиками и развиваем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914400" y="228456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 презентации использованы изображения с сай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www.animashky.ru - ани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Лодка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Пар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дочка  плывет по ре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вляя на воде коле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505320" y="4267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оход плывет по ре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пыхтит он, словно пе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ic4"/>
          <p:cNvPicPr/>
          <p:nvPr/>
        </p:nvPicPr>
        <p:blipFill>
          <a:blip r:embed="rId1"/>
          <a:stretch/>
        </p:blipFill>
        <p:spPr>
          <a:xfrm>
            <a:off x="1066680" y="3048120"/>
            <a:ext cx="1116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Це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льчики переб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цепочку получ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c8"/>
          <p:cNvPicPr/>
          <p:nvPr/>
        </p:nvPicPr>
        <p:blipFill>
          <a:blip r:embed="rId1"/>
          <a:stretch/>
        </p:blipFill>
        <p:spPr>
          <a:xfrm>
            <a:off x="6553080" y="3216240"/>
            <a:ext cx="215136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28600" y="5563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ой и указательный пальцы левой руки в коль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него попеременно пропускаются колечки из пальчиков правой руки: большой - указательный, большой средний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ом упражнении участвуют все пальч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46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Дом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м стоит с трубой и кры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балкон гулять я выш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сканирование005"/>
          <p:cNvPicPr/>
          <p:nvPr/>
        </p:nvPicPr>
        <p:blipFill>
          <a:blip r:embed="rId1">
            <a:lum bright="12000"/>
          </a:blip>
          <a:srcRect l="8614" t="5610" r="0" b="6852"/>
          <a:stretch/>
        </p:blipFill>
        <p:spPr>
          <a:xfrm>
            <a:off x="6781680" y="4624560"/>
            <a:ext cx="213372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gebouw81"/>
          <p:cNvPicPr/>
          <p:nvPr/>
        </p:nvPicPr>
        <p:blipFill>
          <a:blip r:embed="rId2"/>
          <a:stretch/>
        </p:blipFill>
        <p:spPr>
          <a:xfrm>
            <a:off x="533520" y="304920"/>
            <a:ext cx="2438280" cy="1666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151200" y="5334840"/>
            <a:ext cx="48016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направлены под угл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чики пальцев соприкасают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палец правой руки поднят ввер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чики мизинцев касаются друг дру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я прямую линию (труба, балкон)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Ст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057400" y="19051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жки, спинка и сидень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вам стул на уди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5600" y="228600"/>
            <a:ext cx="11732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705720" y="3733920"/>
            <a:ext cx="1366560" cy="1800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0" y="56977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вая ладонь вертикально ввер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ее нижней части приставляется кулачок  (большим пальцем к себ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5331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Сто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pic6"/>
          <p:cNvPicPr/>
          <p:nvPr/>
        </p:nvPicPr>
        <p:blipFill>
          <a:blip r:embed="rId1"/>
          <a:stretch/>
        </p:blipFill>
        <p:spPr>
          <a:xfrm>
            <a:off x="6149880" y="1752480"/>
            <a:ext cx="1543320" cy="1800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231840" y="2209680"/>
            <a:ext cx="53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У стола четыре нож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рху крышка, как ладошк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28600" y="55630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вая рука в кулачок. Сверху на кулачок опускается ладо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 упражнение легко выполняется, можно менять положение ру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ая в кулачке, левая ладонь сверху кула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делать попеременно на счет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46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Граб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676520" y="1981080"/>
            <a:ext cx="431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стья падают в саду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 их граблями с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638680" y="4017960"/>
            <a:ext cx="28479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pic7"/>
          <p:cNvPicPr/>
          <p:nvPr/>
        </p:nvPicPr>
        <p:blipFill>
          <a:blip r:embed="rId2"/>
          <a:srcRect l="0" t="0" r="0" b="33339"/>
          <a:stretch/>
        </p:blipFill>
        <p:spPr>
          <a:xfrm>
            <a:off x="152280" y="0"/>
            <a:ext cx="1865520" cy="1981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304920" y="6019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на себя,  пальчики переплет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собой выпрямлены и тоже направлены на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Сквор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25146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ворец в скворечнике жи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песню звонкую по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4452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6811920" y="2743200"/>
            <a:ext cx="144000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228600" y="60948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шки вертикально поставлены друг к другу, мизинцы прижаты (как лодочка), а большие пальцы загнуты вовнут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7120" y="27432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Ё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Ёлка быстро получ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альчики сцепл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отки ты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льчики ты разв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Kerstboom209"/>
          <p:cNvPicPr/>
          <p:nvPr/>
        </p:nvPicPr>
        <p:blipFill>
          <a:blip r:embed="rId1"/>
          <a:stretch/>
        </p:blipFill>
        <p:spPr>
          <a:xfrm>
            <a:off x="0" y="0"/>
            <a:ext cx="1611360" cy="17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сканирование010"/>
          <p:cNvPicPr/>
          <p:nvPr/>
        </p:nvPicPr>
        <p:blipFill>
          <a:blip r:embed="rId2"/>
          <a:stretch/>
        </p:blipFill>
        <p:spPr>
          <a:xfrm>
            <a:off x="6248520" y="2955960"/>
            <a:ext cx="2011320" cy="1627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304920" y="5942160"/>
            <a:ext cx="8076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дони от себя, пальчики  пропускаются между со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ладони под углом друг к друг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льчики выставляются вперед. Локотки к корпусу не прижим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сим</cp:lastModifiedBy>
  <dcterms:modified xsi:type="dcterms:W3CDTF">2012-02-02T03:22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