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D3E-1220-4AF1-BC90-FBDDD80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231-81CD-431A-8F60-3CF3FE31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735-93A3-40CC-A146-F102E5B2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F69-09E3-48DD-9A1F-CB862DF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BACC-B309-45B9-BD80-36860C17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0C35-5D7E-4BF0-8BF9-BFEFDD9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A926-3AC3-4CC8-A18A-9D91B51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CC2-5DB1-4BF9-B4B0-B082D20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6796-36E1-4FD0-B3CB-024828F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9105-C780-4D65-BF30-8CDB369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A44A-EA35-4446-92A1-7144601E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4AA-D913-4189-9049-BB85363B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F02-38CA-4E0C-A7D4-C500804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4A9B-FC15-4E10-BA8B-E98AF46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6674-175A-41AA-AD6A-17D91F5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BC96-C9B6-41E6-A866-2B25C291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7D9F-0969-4337-9663-37B8B7CA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230-ED5C-4CB3-B183-78776ED7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50E-2AAD-4D97-90F3-0917B34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968-7E0D-4E95-B9D5-2ECE5F37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669-1DA7-4EA0-B4A8-43A0CEB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F51-97EE-4B2B-B3CD-81543EB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B2C-80B4-41B1-80BF-C7F597D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EF2-F6FF-40E9-9D51-7EBA8229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lnTo>
                  <a:pt x="0" y="358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F0C1D-A903-48D7-B55B-FC8EB192EE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lnTo>
                  <a:pt x="0" y="358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31C043-CEC2-4AEC-9536-47BA5BD96FB4}" type="slidenum">
              <a:rPr b="0" lang="ru-RU" sz="1400" spc="-1" strike="noStrike">
                <a:solidFill>
                  <a:srgbClr val="ffffcc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5640" y="324000"/>
            <a:ext cx="495288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Цель О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052640"/>
            <a:ext cx="7743960" cy="18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Мыследеятельностная педагогика (МД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3789360"/>
            <a:ext cx="453528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ыследеятельностны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08720" y="3284640"/>
            <a:ext cx="316692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собност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836640"/>
            <a:ext cx="144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666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хема метапредмет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задач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133720"/>
            <a:ext cx="1368360" cy="20872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268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05264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1989000"/>
            <a:ext cx="1368720" cy="208764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1052640"/>
            <a:ext cx="502920" cy="30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1700280"/>
            <a:ext cx="237636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оним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2276640"/>
            <a:ext cx="237636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моделиров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924280"/>
            <a:ext cx="2808000" cy="28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выдвижение способа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573360"/>
            <a:ext cx="273672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реализация способа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916280"/>
            <a:ext cx="129564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2421000"/>
            <a:ext cx="129564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3068640"/>
            <a:ext cx="86364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3645000"/>
            <a:ext cx="5047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24720" y="2565360"/>
            <a:ext cx="576360" cy="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13125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естандартные 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едполагают получение различными способами конкретного результа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349360"/>
            <a:ext cx="7772400" cy="136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ворческие 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едполагают создание новых по замыслу продуктов, идей, где проявляются индивидуальные способности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4292640"/>
            <a:ext cx="7772400" cy="12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вышенные труд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едполагают от ребенка демонстрации ЗУНов, превышающих условную норму возрастного развития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1773360"/>
            <a:ext cx="3024000" cy="26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ышление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оммуникативность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ейств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59280" y="1981080"/>
          <a:ext cx="2808360" cy="24926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4474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ображе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288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5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нима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89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ышле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2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рганизация способов действия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288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 txBox="1"/>
          <p:nvPr/>
        </p:nvSpPr>
        <p:spPr>
          <a:xfrm>
            <a:off x="4932360" y="1484280"/>
            <a:ext cx="2800440" cy="523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99344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Способности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052640"/>
            <a:ext cx="3456000" cy="1800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99397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Мыследеятельностные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360" y="26028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ляющие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2637000"/>
            <a:ext cx="2808360" cy="144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00280"/>
            <a:ext cx="2880000" cy="18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570840" y="1127520"/>
            <a:ext cx="1006200" cy="7488360"/>
          </a:xfrm>
          <a:custGeom>
            <a:avLst/>
            <a:gdLst>
              <a:gd name="textAreaLeft" fmla="*/ 0 w 1006200"/>
              <a:gd name="textAreaRight" fmla="*/ 363240 w 1006200"/>
              <a:gd name="textAreaTop" fmla="*/ 195120 h 7488360"/>
              <a:gd name="textAreaBottom" fmla="*/ 7293240 h 748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5445000"/>
            <a:ext cx="4464000" cy="792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учебная самостоятельнос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8569080" cy="5832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ыследеятельностная педагогика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редполагает новые формы работы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Новизна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*Учитель работает со способностями учащегося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*Ученик получает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* знания об организованности мышления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* знания об устройстве самого знания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* способах деятельности, которые являются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ниверсальными и применимыми  везде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51280" y="1484280"/>
            <a:ext cx="4968720" cy="2736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пособности – как некоторый дар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пособности подразумевают развитость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ндивида в какой-либо предметной области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пособности -   от слова «способ»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пособности – предполагают наличие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целостного осознанного способа,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торый можно переконструировать.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пособности – учат действовать на создание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пособа действия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341360"/>
            <a:ext cx="3203640" cy="1081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Д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– мысли,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буждающие  к действию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2920" y="260280"/>
            <a:ext cx="12240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Д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00720" y="115920"/>
            <a:ext cx="24588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особност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869000"/>
            <a:ext cx="7777440" cy="12952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д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Д способностями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мы понимаем: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овладение индивидом культурным способом, который реализуется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разных предметных областях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3120" y="4365720"/>
            <a:ext cx="65412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2492280"/>
            <a:ext cx="1513080" cy="23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773360"/>
            <a:ext cx="3024000" cy="26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ышление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оммуникативность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ейств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859280" y="1981080"/>
          <a:ext cx="2808360" cy="24926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4474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ображе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288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45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нима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489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ышле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478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1440">
                      <a:solidFill>
                        <a:srgbClr val="66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2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рганизация способов действия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663300"/>
                      </a:solidFill>
                    </a:lnL>
                    <a:lnR w="2880">
                      <a:solidFill>
                        <a:srgbClr val="663300"/>
                      </a:solidFill>
                    </a:lnR>
                    <a:lnT w="1440">
                      <a:solidFill>
                        <a:srgbClr val="663300"/>
                      </a:solidFill>
                    </a:lnT>
                    <a:lnB w="2880">
                      <a:solidFill>
                        <a:srgbClr val="6633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 txBox="1"/>
          <p:nvPr/>
        </p:nvSpPr>
        <p:spPr>
          <a:xfrm>
            <a:off x="4932360" y="1484280"/>
            <a:ext cx="2800440" cy="523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особно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341360"/>
            <a:ext cx="3456000" cy="1511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99397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ыследеятельнос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00360" y="26028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ляющ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637000"/>
            <a:ext cx="2808360" cy="144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500280"/>
            <a:ext cx="2880000" cy="18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Характеристика понят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ышление- процесс познавательной деятельности человека, способность субъекта отражать объективную реальность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ыслить – рассуждать, сопоставляя данные опыта, мысли и делая из них выводы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ысль – отдельная, но сложная идея, суждение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еятельность – активное отношение к окружающей действительности, выражающееся в воздействии на нее.  Деятельность складывается из действий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92360" y="1125360"/>
            <a:ext cx="194328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(МД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907560"/>
            <a:ext cx="8061480" cy="223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ышление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оцесс познавательной деятельности человека, способность отражать объективную реальность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68360" y="189000"/>
            <a:ext cx="395928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Способно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1668240" cy="1214280"/>
          </a:xfrm>
          <a:custGeom>
            <a:avLst/>
            <a:gdLst>
              <a:gd name="textAreaLeft" fmla="*/ 223200 w 1668240"/>
              <a:gd name="textAreaRight" fmla="*/ 1445040 w 166824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рассуждение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1557360"/>
            <a:ext cx="2303640" cy="1008000"/>
          </a:xfrm>
          <a:prstGeom prst="rightArrow">
            <a:avLst>
              <a:gd name="adj1" fmla="val 50000"/>
              <a:gd name="adj2" fmla="val 57134"/>
            </a:avLst>
          </a:prstGeom>
          <a:solidFill>
            <a:srgbClr val="cc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нятийное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едставление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484280"/>
            <a:ext cx="1440000" cy="1008000"/>
          </a:xfrm>
          <a:prstGeom prst="rightArrow">
            <a:avLst>
              <a:gd name="adj1" fmla="val 50000"/>
              <a:gd name="adj2" fmla="val 35714"/>
            </a:avLst>
          </a:prstGeom>
          <a:solidFill>
            <a:srgbClr val="cc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6585840" y="764280"/>
            <a:ext cx="1295280" cy="14400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рефлексия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3284640"/>
            <a:ext cx="5975280" cy="129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ображение -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оздание новых наглядных образов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 основе имеющихся представлений,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оссоздание  какого-либо объекта умственно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724280"/>
            <a:ext cx="7848720" cy="1740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рганизация способов действий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«Дело»;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проектная деятельность;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деятельность проектирования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снова проектирования- самостоятельные действия ребенка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64360" cy="29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оделиров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4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цесс составления модел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дель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это либо мысленно представляемая, либо материально реализованная система, которая может отображать или воспроизводить (замещать) объект исследования 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3357360"/>
            <a:ext cx="7772400" cy="29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0280" indent="-530280" algn="ctr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нимание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особность осмыслять, постигать содержание смысл, значение.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Развитие способности понимания является введением в культуру коммуникации. В МД педагогике – два базовых способов понимания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0280" indent="-530280"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Выделение предмета о котором идет речь;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0280" indent="-530280"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Выделение позиции коммуниканта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74160"/>
            <a:ext cx="59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тапредметные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836640"/>
            <a:ext cx="201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"знание"</a:t>
            </a:r>
            <a:endParaRPr b="0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516720" y="83664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знак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40000" y="342900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проблем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16720" y="3284640"/>
            <a:ext cx="15811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задач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484280"/>
            <a:ext cx="288108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Определение границы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своего незнания,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работа с культурными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образцами мышления,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умение порождать новые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знания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1484280"/>
            <a:ext cx="180000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Схемы, знаки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4076640"/>
            <a:ext cx="288108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Формирование позиции и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постановка комплексных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пробле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933720"/>
            <a:ext cx="31669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ведение в разные культурные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способы решения задач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ыдвижение своего способа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624040" y="549360"/>
            <a:ext cx="1446480" cy="718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620640"/>
            <a:ext cx="187344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89480" y="620640"/>
            <a:ext cx="653760" cy="2664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620640"/>
            <a:ext cx="2880000" cy="2664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етапредмет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ЗАДАЧА»</a:t>
            </a:r>
            <a:br>
              <a:rPr sz="28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дачная форма: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* учитель создает ситуацию «сбоя»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не хватает знаний)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* ребенок осознает эту недостаточность, нехватку и пытается найти пути решения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аким образом: происходит добыча новых знаний, способов решени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Задачная форма используется в метапредмете «зна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4724280"/>
            <a:ext cx="7772400" cy="1441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дача (проблема) –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цель деятельности, данная в определенных условиях и требующая для достижения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спользования адекватных этим условиям средств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4:28:21Z</dcterms:created>
  <dc:creator>Импульс</dc:creator>
  <dc:description/>
  <dc:language>en-US</dc:language>
  <cp:lastModifiedBy>USER</cp:lastModifiedBy>
  <dcterms:modified xsi:type="dcterms:W3CDTF">2009-01-29T05:20:53Z</dcterms:modified>
  <cp:revision>53</cp:revision>
  <dc:subject/>
  <dc:title>Социальный паспорт ОУ (07-08)</dc:title>
</cp:coreProperties>
</file>