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170-94CF-45DB-BA09-4EA6BB1B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A00-B07D-4295-9D27-7109D99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CA4-C1D4-4150-86F0-BC0D0522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436-A2E6-47EC-B699-D22F180A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3A1C-A096-4A8A-8E08-575461BD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04AE-7EC9-4AA1-B518-E3E23DE6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7E9B-8854-4B59-B3A3-181D5622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20E9-87E1-45B4-9C03-5F48DE34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EE6-BC69-423C-8577-39FAE46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D054-3DFB-4BD9-8A19-9B06D65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CB5-026E-4D4D-99F7-8E5BD8E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DBF-17F9-4738-ACAD-3FC09BB9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AEF0-A773-4AA2-A58E-E43831F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5DC-2D6B-4D98-82F7-0A8AA72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1248-DE69-4527-98C7-D4BA6D4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9E6-C80A-4CB4-A42C-9765EBBA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0CE4-C631-495F-B54E-5267CECF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20B-A1DE-4C5E-8926-B7F04945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B70-8E5E-4326-BAE1-977491A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674-5FA0-48F9-BEE8-8D28C7A5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6BB-7767-4D80-9620-B2F16E3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EF2-9130-4363-8760-27BF353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269-0E93-4FAF-B4A8-1489DC1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E0E-B54D-4D46-B00F-64993DB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3144-1772-452D-812F-FB0FE76E94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e70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e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70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70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e70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d8e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d8e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708f8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F00D-A2FD-4A71-8594-A0D5DFD747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70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70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708f8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152280"/>
            <a:ext cx="680076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Чего стоит опасаться в новом учебном год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265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1.Перемен в личной жизни, которые могут произойти на перемене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9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2.Потерять учебник по «любимому» предмет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9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3.Однажды прийти в школу в свитере наизнанку и не заметить этого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9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4.Своего острого язы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d79ed"/>
                </a:solidFill>
                <a:latin typeface="Comic Sans MS"/>
              </a:rPr>
              <a:t>Гадалоч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1.    Что о вас говорят учител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2    .Что о тебе думают одноклассни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Comic Sans MS"/>
              </a:rPr>
              <a:t>Параметры 11 «Г» 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1) Длина нос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2) Ширина улыбки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3) Цвет гла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8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Comic Sans MS"/>
              </a:rPr>
              <a:t>ДАВАЙТЕ ПОСМЕЁМСЯ!!! </a:t>
            </a:r>
            <a:r>
              <a:rPr b="0" lang="en-US" sz="7200" spc="-1" strike="noStrike">
                <a:solidFill>
                  <a:srgbClr val="ed79ed"/>
                </a:solidFill>
                <a:latin typeface="Comic Sans MS"/>
              </a:rPr>
              <a:t>«Прикольная перемена» 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5492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Говорят учителя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77744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Чтобы дежурных нашли и вымыли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Ваше место находится в другом мес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Прочитать и попробовать пон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Как вы готовились дома? Плаваете стоите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Почему у вас тряпочка не мочи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Иванов, оторви недвижимость от стула и отвеча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-80028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55496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А ну-ка иди бегом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Заведите тонкую тетрадь на случай нужд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Отчего ты такой умный?Ты вундеркинд или киндерсюрприз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Когда я проверяю ваши работы, у меня опускаются руки и челюс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Не думайте, что я глухая, я всё вижу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Вы должны вынести из школы всё, что може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6945120" cy="32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Comic Sans MS"/>
              </a:rPr>
              <a:t>Вспомним приятные минуты из школьной жизн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3789360"/>
            <a:ext cx="784692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99"/>
                </a:solidFill>
                <a:latin typeface="Comic Sans MS"/>
              </a:rPr>
              <a:t>КОНКУРСЫ!!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В добрый пут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41300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Незаметно вы стали взрослыми,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Быстро школьные годы летят,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Десять классов уже стали прошлыми,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Их, увы, не 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Впереди будет год замечательный,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Замечательный, но непростой,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Будет он для вас испытательный,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Ведь одиннадцатый – выпуск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356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И вот опять зовет сентябрь за парты -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Случайных баллов и побед не жди,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И помни: школа стала только стартом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Дальнейшего тернистого пу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461120" cy="595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3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1.Делай в этом году все, чтобы себе понравить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901"/>
              </a:spcBef>
              <a:buClr>
                <a:srgbClr val="d8eb7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eb7b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2.Пусть с вами чаще случаются сердечные приступы к одноклассникам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9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3. Не экономь на своем здоровье, не пропускай уроки физкультуры</a:t>
            </a:r>
            <a:r>
              <a:rPr b="0" lang="en-US" sz="3600" spc="-1" strike="noStrike">
                <a:solidFill>
                  <a:srgbClr val="d8eb7b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4. Будь независим, но не от своих друзей!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000" y="260280"/>
            <a:ext cx="748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МОИ ПОЖЕЛАНИЯ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96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5.Выучи однажды все уроки и проживи хоть один день в году спокой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6.Будь более расточительным на комплементы для одноклассниц и мам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7.Засыпая, чаще думай о том, что завтра будет лучше, чем сегодня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70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8f8"/>
                </a:solidFill>
                <a:latin typeface="Comic Sans MS"/>
              </a:rPr>
              <a:t>8.Поменьше в тетрадях ошибок, побольше на лицах улыбок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Comic Sans MS"/>
              </a:rPr>
              <a:t>РИТУАЛ №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Comic Sans MS"/>
              </a:rPr>
              <a:t>Почешите голову обеими руками, затем сбросьте то не нужное, что пристало к вашим пальцам , и так 3 раза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99"/>
                </a:solidFill>
                <a:latin typeface="Comic Sans MS"/>
              </a:rPr>
              <a:t>Ритуал № 2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Произнесите хором священную фраз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«ИКРЕТЯП АН ЯСЬТИЧУ УХОЧ!!!»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Затем поднимите руки вверх с растопыренными пальцами, которые символизируют отметку «5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Comic Sans MS"/>
              </a:rPr>
              <a:t>Ритуал № 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Все сидящие за партами парами, наступите друг другу на ноги одновременно</a:t>
            </a:r>
            <a:r>
              <a:rPr b="0" lang="en-US" sz="4000" spc="-1" strike="noStrike">
                <a:solidFill>
                  <a:srgbClr val="d8eb7b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следствие этого священнодействия вам гарантировано избежание ссор и конфликтов с одноклассник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Comic Sans MS"/>
              </a:rPr>
              <a:t>ЗАГЛЯНЕМ В БУДУЩЕ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Учебный год нам пророчит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Хронические недосыпания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Непредвиденные вызовы родителей в школ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Временную амнезию во время ответов у доск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Циклические( в конце каждого полугодия) припадки любви к школьным учителям и их предмета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Быть героями школьных истор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7:36:07Z</dcterms:created>
  <dc:creator>Администратор</dc:creator>
  <dc:description/>
  <dc:language>en-US</dc:language>
  <cp:lastModifiedBy>Zver</cp:lastModifiedBy>
  <dcterms:modified xsi:type="dcterms:W3CDTF">2011-08-31T13:56:00Z</dcterms:modified>
  <cp:revision>7</cp:revision>
  <dc:subject/>
  <dc:title>Слайд 1</dc:title>
</cp:coreProperties>
</file>