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660C-B80F-456A-B1D2-0286C0B1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C54-228C-4386-99F8-6E4E0CE4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E0A-05B4-4504-B832-49DFC023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6FE-02DA-4097-8202-F578C3AD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2360-B58A-4135-9D43-40F62D82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5074-D038-43D1-8686-1D1067CD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40F2-B29C-4257-82B4-B449CD7C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2B9A-B04F-4F58-8341-286ABC13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52D6-9DCF-40A9-A9D2-414E0396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EF10-FD84-41EB-A19B-F8893514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CABF-30A4-4D78-9943-E422EA23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61DB-DE77-4C61-BD78-54827815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12D5-8C9A-46FE-8662-A697B522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4807-1B2A-4B12-AFE4-2BE00856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9992-AE8A-4EAC-897D-398D8E35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2282-6BA2-41CE-B39F-239A8AA3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3AC0-9715-4AB0-AD0E-0E4FAC73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9A9-27D0-4B3E-BCC1-56E8A987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B6B2-1BCE-4FC7-A814-8058129B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88D-18EA-4D4A-8DC5-F4162515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0EB3-A0D5-49F1-9A94-E59DB170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95B6-AD6D-4312-B31E-5AFC847C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F0B2-0C83-4C1D-97E6-AACF3C6E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6468-F3FE-4C26-BA38-504D50CE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84BE-A737-41AC-9147-E42D056FC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B73A-B1E1-454F-86E9-4FC1111146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Самостоятельная работа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на уроках русского языка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оринской средней школы №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обашина М.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Лабораторная работа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тапы исследов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блюдение и изучение явлений, подлежащих исследова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движение гипоте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троение плана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яснение связей изучаемого явления с друг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шение лингвистической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 клас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а: Фоне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но: слова «почка», «палка», «рама», «сон», «коз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ль: доказать, что с изменением хотя бы одного звука, меняется лексическое значение сл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од рабо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Внимательно прочти сл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Попробуй без словаря определить лексическое значение сл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Замени 1 букву в слове так, чтобы получилось новое сл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Определи лексическое значение полученных с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Сделай вывод (смотри цель работ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620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Уроки в форме лабораторных работ обеспечивают одну из основных целей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90720" y="3573360"/>
            <a:ext cx="67816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спитание самостоятельнос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витие навыков самостоятельно наблюдать, анализировать и обобщать языковой материа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вершенствование навыков самостоятельной работы с научной литературой, фактическим материалом, навыков грамотного оформления полученных результатов, культуры научного изло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Лабораторная работа в 10 класс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ема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Отражение норм русского литературного языка в разных типах лингвистических словар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Цели для учител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ть понятие о классификации лингвистических словар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формировать у учащихся умение работать со словарё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учить рационально работать со словарё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вивать творческие способности учащихся; выработать навыки самостоятельной работы (составление словарной стать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Цели для учащихс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нать типы лингвистических словарей, особенности словарной стат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меть пользоваться конкретным видом лингвистического словаря, решая определённую лингвистическую задач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ционально работать с лингвистическим словарём на основе знаний структуры словарной стат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лять словарную статью по типу указанного лингвистического слова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од рабо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Проверка усвоения опорных знан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 Что изучает стилисти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какие группы делятся стили ре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ие языковые особенности характерны для этих стилевых групп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им стилем вы будете пользоваться, готовя доклад, реферат, сообще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зовите алгоритм, позволяющий определить стилевую принадлежность текс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07552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ыборочная проверка знаний и                      умений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779560"/>
            <a:ext cx="822960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Составление сравнительной таблицы, отражающей основные черты книжных сти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актическая ча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ределение стилевой принадлежности тек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ление текста определённого стиля (задания в группа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ределение жанра текста, принадлежности к стилю, указание ведущих стилевых чер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дение исследовательской раб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ализ текс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исковая деятель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диционное зад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ровень сложности (самостоятельности): репродуктивный – по образц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йте вопросы к выделенным слов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кажите их морфологические признаки и синтаксическую роль в предлжен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рганизация индивидуальной, групповой и коллективной работ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ль работы в групп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еспечение активности учебного проце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стижение высокого уровня овладения грамматическим материал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здание оптимальных условий для овладения навыками устной 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исковая задач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астично поиск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уровень сложнос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продуктивно-продуктивны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ны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леко разносились их голо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ждь освежал 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ите зад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изведите синтаксический разбор пред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одинаковой ли синтаксической роли употреблены местоим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оснуйте свой 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иск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уровень сложнос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дуктивны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ны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леко разносились их голо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ждь освежал 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ите зад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Сравните предлож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Что вы можете сказать о синтаксической роли изменяемых слов в этих предложениях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ехнология модульного обуч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ание разбивается на небольшие темы (модул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аждом модуле указывается результат, которого ученик должен доб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хнологическая карта – руководство по освоению темы (модул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хнологическая карта</a:t>
            </a:r>
            <a:br>
              <a:rPr sz="4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(по комплексу В.В.Бабайцевой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ема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«Способы передачи чужой реч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адача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освоить в сопоставлен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ные способы передачи чужой 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чащиеся должны зна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 такое чужая реч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етыре способа передачи чужой ре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личия в строении предложений с чужой реч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собенности передачи полноты чужого высказы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еятельность учащихс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чащиеся должны уме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ознавать различные способы передачи чужой 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давать разными способами одно и то же чужое высказы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чащиеся должны исследова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феру использования различных конструкций с чужой реч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амятка «Как работать с карточкой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Закройте закладкой текст до первой горизонтальной ли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Внимательно прочитайте задание, выполните 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Передвиньте закладку до следующей горизонтальной линии, проверьте, правильно ли вы сделали зад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Если допущена ошибка, исправьте е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При проверке будьте внимательны, не оставляйте неисправленных ошиб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В случае затруднений возвращайтесь к правилу и ранее разобранным пример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 класс. Фонет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, к, т, 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ыжника, лыжника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мелому, о смел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780000" y="162864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 класс. Фонет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ногие согласные образуют пары по звонкости-глухости б-п, в-ф, ж-ш. Для данных звонких найдите парные глух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-…, г-…, д-…, в-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нова и окончание сл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кончания образуют форму сл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пишите указанные формы слова: лыжник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д. ч.,р.п. - …, мн.ч…, т.п. - …, смелый, ед.ч., д.п.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 класс. Причаст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пл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отографи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ван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з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ый (чем?) нож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211280" y="1600200"/>
            <a:ext cx="47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рьте: от глагола ли образовано слово, если да, действуйте по схем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     С приставкой, кром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       Есть суффикс –ованн-, -еванн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       Есть зависимое сло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ши –нн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з приставки (или приставка не-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з зависимого сл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атк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ъясните написание –нн-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топле…ый, фотографирова…ый, реза…ый нож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Материалы для организации работы в групп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ма и цель индивидуальной, групповой или коллективной работы. Результаты, которых следует добивать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просы и задания по овладению приёмами самостоятельной работы с лингвистическим текс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ингвистические задачи и творческие зад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зыковые и речевые таблицы, схемы, алгорит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пражнения для индивидуальной, групповой или коллективной работ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дробные инструкции по выполнению зада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ноуровневые домашние зад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сновные критерии оценки выполнения раб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собенности организации работы в группе или в пар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этап – подготовка к выполнению зад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новка языковой или речевой за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инструктаж учителя о последовательности действий при выполнении зад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 раздача дидактического материала по группам или пар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этап – групповая работа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знакомство с дидактическим материалом, планирование работы (пути решения задач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распределение заданий в групп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индивидуальное выполнение задания(реализация путей решения задачи на практик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обсуждение индивидуальных результатов 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обсуждение общего задания в группе и подведение итог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II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этап - заключительны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Сообщение члена группы о выполнении задания (представление найденного совместного результат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Анализ познавательной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Общий вывод о групповой работе и достижении поставленной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Дополнительная информация уч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инципы работы в групп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Во временную группу входят учащиеся разной степени подготовки, учитываются личностные предпочтения и наличие навыков самостоятельной раб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Каждая группа (пара) получает задание и выполняет его сообщ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Распределяются заранее роли-функции (организатор рабочей группы; секретарь, ответственный за ведение записей; диспетчер, следящий за временем выполнения; контролёр, фиксирующий работу каждого в групп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Руководитель группы отчитывается по теме. Он не только контролирует, проводит работу по предупреждению ошибок, но и ставит оцен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Каждый член группы получает оценки за знание теории и за качество выполнения практического задания. Руководителю группы оценку ставит учите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Работа в группе строится на принципах доверия и уважительного отношения друг к дру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Памятка учащимся для работы в паре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выполни задания №1 и 2 своей карт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расскажи напарнику свой теоретический вопрос, запиши в тетради и прокомментируй свои примеры. Ответь на его вопро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выслушай рассказ товарища по его теоретическому вопросу, дай ему свою тетрадь для записи и комментирования его примеров. Уточни с помощью вопросов всё, что тебе показалось не совсем яс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выполни задание №2 из карточки напарника(и одновременно дай ему выполнить своё задание №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 сверьте, одинаково ли вы выполнили задание №2. в случае необходимости обратитесь к орфографическому словар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 выполни задание №3 карт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 проверьте с товарищем, как вы выполнили задание №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если осталась время, выполняй дополнительное зад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Лабораторная работ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Особый вид самостоятельной работы учащихс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05:48:04Z</dcterms:created>
  <dc:creator>клиент</dc:creator>
  <dc:description/>
  <dc:language>en-US</dc:language>
  <cp:lastModifiedBy>Марина</cp:lastModifiedBy>
  <dcterms:modified xsi:type="dcterms:W3CDTF">2010-01-27T08:51:30Z</dcterms:modified>
  <cp:revision>20</cp:revision>
  <dc:subject/>
  <dc:title>Самостоятельная работа на уроках русского языка </dc:title>
</cp:coreProperties>
</file>