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0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6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93C-9ABE-4C69-B5DB-41BCA12C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BDA7-269A-4A1E-A852-30718CE1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4FECC-4D4D-4893-8A46-F51FDB94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9E47E-5DCF-4D6E-ADAC-76CA6B36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02277-EF09-4C23-8BCA-B5E9F21F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86D2F-A13D-4D35-B254-298D1C4C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77FD1-D9DB-414A-B452-1AAE28CC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212FD-D2B6-4DCB-BE57-E6D19E5C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B70EE-5048-49F0-836B-900954A9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32392-8748-4DCC-A760-6C64F425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C15EC-8EA7-4E88-A338-3F2A90A3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77997-85ED-403C-935B-882E5482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B6F-9120-4E13-AF3E-55661787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504D8-6FDB-4722-8EE0-A72468A5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1099F-0999-4044-993B-44F3A25C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8B276-FDF4-40B4-9602-984BCB8C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D88F5-FB53-4778-8F4B-FE2421C7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DA97A-A1AB-4350-8CD5-BDD7917E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4824F-CC20-4060-A788-8144D32A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14FB1-5389-4F8C-8A8C-B86C7389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F0B6C-0258-40E9-8FCE-F4B26DCF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8E83C-CE05-4C0F-871E-06DBA549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F1AED-FD15-42A6-B725-B85FD01D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031E-5310-4D84-ACBE-E452CBA4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4D056-316A-4C47-8B48-D6C4D950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85A3B-51B4-4D0A-9E9C-9DC19963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F80EC-CCD1-443A-AA5F-D1A3B889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87502-DE59-40B0-B97B-F2D48D35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E16E0-B368-41C7-83FC-0DA933D3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8CD2C-C349-4DCE-88F8-BA47E345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D3926-4F65-4B7A-9A8F-0507B630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69055-0AB3-4923-8ECF-A6D587B7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BC8A0-5B09-4A12-9F7D-85D58122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2E36A-985C-4E6A-8D9D-E61527EF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07C6-997E-41C2-AEA2-E6CCB92A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EB8E0-AB30-4368-9C81-BFE5A250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D312D-BCED-4F6D-AC95-1565AADD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0BE84-3BCB-4909-989C-4292FDE0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1E2E5-5415-4987-9853-243F43C4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153F3-57F0-4F04-99E7-B7494CB7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3310E-069F-47DD-BB5D-CEFCA72A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B8A7F-0AB9-4A76-9BF8-AD428164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2BF14-B417-4F1E-B8CE-8CB07CF0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69467-5AE9-424F-9275-F3934E51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911AA-D794-45D5-A212-B8633AB5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C970-9FE8-49CB-8E16-65F074E6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22815-6690-4B44-9F62-F80438B7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83B5F-4BE6-4067-9232-DB9D7754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F903C-5DE1-4ECB-916E-283A77B3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2A33D-E8E9-4FB6-BEBB-A86735F3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C0F4E-B618-4608-808C-9CBDB1C6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2EAC-A509-4309-9BF7-FCD8E7B8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C0B0-40DD-465F-B055-272244D0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4C24-814B-4A14-9499-BE2C2580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746F-8A37-4BA3-8F29-DDFA4DCE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2DA9-B66B-4654-ACD5-20BDDB71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52D-BDB3-440B-8743-11CC89CC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0B76-2130-48F5-92D8-37EA94B9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751D-19BC-4F8F-A192-DE808300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2C37-B671-4C9C-89E2-491F8693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FE61-EE11-4E4C-8E7E-86BB0B45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997B-C1D3-4897-B4FA-52BDA0CB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BE7CE-81E1-4987-8FB2-60147409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79A01-2BAB-452F-9001-CD0E7F70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80A76-8FF2-4CF1-8C52-0751DD57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17455-FEE8-41FB-91B2-EE4C75BB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D2249-E481-4806-822B-8D61295C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C76-4FC4-4562-9ABE-F19AF8C6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BBA13-0968-49EC-8316-AC10755D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BEB49-C1C6-4D2B-957C-A4C18FEC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0890D-5C39-4D58-B8E7-9EF49D35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7DAC2-E5F9-4C2C-A013-EA578460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ACB6A-C48E-46B9-BA22-00DF50CF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3F8D6-9B15-4562-A216-258B9E0A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083E1-466D-4C6B-948A-D5966FBA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EAA60-2354-4F3C-AD37-D267E5A8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81188-B59A-455D-80C1-4F3E350B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575E3-935F-4CDA-822D-FF3292D5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060-43A4-42EC-A150-C4139205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3F509-5993-40C0-863C-C537A9A5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17471-BA58-49E7-B56A-392033AB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58D7F-C8D2-4DA0-9AF8-BE1C57DE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14DCA-D5B2-48B4-B85C-E010D24F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1881C-0A5F-42D2-8243-36A296A8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FD42B-90E5-4693-A844-A28E142E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BEBFE-7C8A-4D97-80DC-977EE48E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DCA18-5C82-4211-B909-ACAAAB65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D88DF-6F22-49A3-AE3C-4E7E470E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DB420-3214-4F0F-892E-96A5B8DF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38B-372A-4B89-81EE-0BD2F9C7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85685-5C2C-4B9D-9FDB-5D8E0E49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6F8C5-D754-41AB-9FD3-80CEEEE4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80095-3659-44BA-B4E7-4C8784BB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56C1D-F8F8-4BEC-A5D8-5772601D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28A1A-F485-41DE-995D-66873865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459FC-12A0-43D5-9779-34841674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0E7D5-50B3-4314-980F-731FE438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E499A-146C-4C36-9E87-8CE7E6C9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8DCFC-0322-4E72-84EA-34CFF753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73867-D5BA-47AC-85B0-1B7E1F08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A83-1063-4701-80E8-3A57850B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D9AA3-8ED1-4A86-9171-A2269241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67E2B-6D53-4C76-AA8D-12307ACB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B5E7D-3CF8-4D97-B3FD-83E39C56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752F1-7F5E-472A-820C-EC579A67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C0744-3D44-4FEE-B21E-62703420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A79F0-4924-4B69-8EF7-48556566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018C2-521E-4E1B-9B38-745DF450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09972-0D79-460F-95C4-1CF72612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C22EE-DE2A-41C0-AB4F-4840C379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11ACE-9914-48A8-9DD6-68D3D1D1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ADC-70B0-4FF4-AB46-65BEAE99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148DB-71D5-41BC-AC8D-0EE5F750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7B40F-FBAD-4025-BD86-CAD55AA9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C6F53-2A8F-444A-BAD5-7970B4BB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DA4D9-1022-486D-AAF4-99C98AC0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C18D4-3589-4B22-A4AC-093581BD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6B1BF-66E1-4020-A32C-51A421B6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CC476-7C49-4954-A284-887C0110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7CB2B-ADBB-4832-9409-A4F2A6E2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E00EE-AB1D-404F-A461-CC3E11E7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F141D-652A-46EF-AF95-A60973E9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2D5-510A-4BFD-BF4E-A56B91FC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C53A9-55BD-422B-8A51-18A9D479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59BE6-09C0-45C1-ADC3-101C9AC6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28978-86AC-49B3-B381-843CE78B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6D96A-B4A9-4F30-BC03-5242A7F8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3ECCB-72D8-4239-926D-3A235F66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2A194-9E92-431E-94B6-32B2A369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E0361-3FCB-4880-B6C7-8A5B96B2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18272-E739-4300-BF16-0FECEED5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1CB98-DE3B-4488-A93C-90834AF5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D6DB5-42D8-4BE1-A4B9-241B934B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C11-8F05-470E-8D06-536A1B1A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8DDEC-350D-47DE-AB4E-1F75BCE1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33357-AFC5-440F-8B8C-E62DFC92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E130E-B226-4231-9AD2-BB2CE5FB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AECB1-9576-41B9-ABA0-75E917E0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5583A-B407-464F-B8B6-4D526D24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F9DED-B194-48FE-8B54-87BC2F84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97F02-9B38-47F5-9EC7-0C050B54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CF5C1-2C2D-40A3-A710-6EB75686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A44E3-C137-4EEF-B287-7B98DB7E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7043D-4D81-40E7-82D1-4FB009F6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6639-A615-4CD2-886B-E5A5B5C6E613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F4E6-4D01-49A1-8731-BCE87EE7E1A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9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39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7111-583A-4F58-874F-62213C953875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9458-836A-4745-A4D5-D15652E0838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4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44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75BA-0509-4194-ACE4-E9B06D5F7428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433F-A693-4CAE-A2E8-AC747EE039A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8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48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5DF1-71BC-4AE1-A27F-C76BD6667797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7601-53DE-4411-B7B9-C32BD30D9CF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3D19-BC36-4FB3-873D-044D548717A6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8810-FFA5-41D0-AA9C-77A1D73BC21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BF6C-52A2-4E92-ABA8-E2430A2B6288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97B5-8520-4DC8-8126-BE9715AEC5A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14C5-42FF-435B-9FB8-7D98F2252BF2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CEEB-3E71-4A3F-8BF7-1FD569BFFFB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3203-6D33-4510-89F9-080A37236194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0132-C79F-490B-9BCA-9F32822A270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2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93E1-B508-4E63-B843-A74E451FE5B9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6708-E515-4A01-A208-8A6AB66DAC5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26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799C-D7C9-414B-A3B4-5BE13F47459C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3E43-EE8B-4535-A982-DA21C68FFCE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31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DB1F-D14C-4068-9650-A1965CE624D1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A909-8C54-4AE3-B5B4-4D194C5249A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e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  <p:sp>
          <p:nvSpPr>
            <p:cNvPr id="35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cript MT Bold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D478-029F-4373-AE1A-44F2279A27BF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A1B3-B1E4-4E17-8252-E898361781C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9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9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9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WordArt 8"/>
          <p:cNvSpPr txBox="1"/>
          <p:nvPr/>
        </p:nvSpPr>
        <p:spPr>
          <a:xfrm>
            <a:off x="838080" y="2057400"/>
            <a:ext cx="8001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лимпийск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9" name="Picture 9" descr="Э Хейден"/>
          <p:cNvPicPr/>
          <p:nvPr/>
        </p:nvPicPr>
        <p:blipFill>
          <a:blip r:embed="rId1"/>
          <a:stretch/>
        </p:blipFill>
        <p:spPr>
          <a:xfrm>
            <a:off x="457200" y="4800600"/>
            <a:ext cx="1494000" cy="18018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0" descr="В Третьяк_1"/>
          <p:cNvPicPr/>
          <p:nvPr/>
        </p:nvPicPr>
        <p:blipFill>
          <a:blip r:embed="rId2"/>
          <a:stretch/>
        </p:blipFill>
        <p:spPr>
          <a:xfrm>
            <a:off x="7391520" y="4800600"/>
            <a:ext cx="1172880" cy="18032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1" descr="olympic_009"/>
          <p:cNvPicPr/>
          <p:nvPr/>
        </p:nvPicPr>
        <p:blipFill>
          <a:blip r:embed="rId3"/>
          <a:stretch/>
        </p:blipFill>
        <p:spPr>
          <a:xfrm>
            <a:off x="5867280" y="152280"/>
            <a:ext cx="954360" cy="12589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2" descr="Г Сван"/>
          <p:cNvPicPr/>
          <p:nvPr/>
        </p:nvPicPr>
        <p:blipFill>
          <a:blip r:embed="rId4"/>
          <a:stretch/>
        </p:blipFill>
        <p:spPr>
          <a:xfrm>
            <a:off x="2438280" y="4800600"/>
            <a:ext cx="1212840" cy="17985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3" descr="_7689460_704987"/>
          <p:cNvPicPr/>
          <p:nvPr/>
        </p:nvPicPr>
        <p:blipFill>
          <a:blip r:embed="rId5"/>
          <a:srcRect l="668" t="14004" r="668" b="18001"/>
          <a:stretch/>
        </p:blipFill>
        <p:spPr>
          <a:xfrm>
            <a:off x="2133720" y="228600"/>
            <a:ext cx="2819160" cy="12952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5" descr="d7c23a641b17efbdb22816285cbc1479"/>
          <p:cNvPicPr/>
          <p:nvPr/>
        </p:nvPicPr>
        <p:blipFill>
          <a:blip r:embed="rId6"/>
          <a:stretch/>
        </p:blipFill>
        <p:spPr>
          <a:xfrm>
            <a:off x="228600" y="152280"/>
            <a:ext cx="1036800" cy="16160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6" descr="К-А Омодт_1"/>
          <p:cNvPicPr/>
          <p:nvPr/>
        </p:nvPicPr>
        <p:blipFill>
          <a:blip r:embed="rId7"/>
          <a:stretch/>
        </p:blipFill>
        <p:spPr>
          <a:xfrm>
            <a:off x="5715000" y="4800600"/>
            <a:ext cx="1147680" cy="17971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7" descr="post-2-1267226471,1787_thumb"/>
          <p:cNvPicPr/>
          <p:nvPr/>
        </p:nvPicPr>
        <p:blipFill>
          <a:blip r:embed="rId8"/>
          <a:stretch/>
        </p:blipFill>
        <p:spPr>
          <a:xfrm>
            <a:off x="4191120" y="4800600"/>
            <a:ext cx="102240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2"/>
          <p:cNvSpPr txBox="1"/>
          <p:nvPr/>
        </p:nvSpPr>
        <p:spPr>
          <a:xfrm>
            <a:off x="1828800" y="45720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елет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3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04" name="Picture 4" descr="olimpijskie-koltsa"/>
          <p:cNvPicPr/>
          <p:nvPr/>
        </p:nvPicPr>
        <p:blipFill>
          <a:blip r:embed="rId1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605" name="WordArt 5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5181480" y="2057400"/>
            <a:ext cx="3733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Вид спорта, представляющий собой спуск по ледяному желобу на двухполозьевых санях на укрепленной раме, победитель которого определяется по сумме двух заездов.</a:t>
            </a: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07" name="Picture 7" descr="Скелетон"/>
          <p:cNvPicPr/>
          <p:nvPr/>
        </p:nvPicPr>
        <p:blipFill>
          <a:blip r:embed="rId2"/>
          <a:stretch/>
        </p:blipFill>
        <p:spPr>
          <a:xfrm>
            <a:off x="380880" y="2057400"/>
            <a:ext cx="4496040" cy="44956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9" descr="1265975258_16061"/>
          <p:cNvPicPr/>
          <p:nvPr/>
        </p:nvPicPr>
        <p:blipFill>
          <a:blip r:embed="rId3"/>
          <a:stretch/>
        </p:blipFill>
        <p:spPr>
          <a:xfrm>
            <a:off x="157320" y="380880"/>
            <a:ext cx="1439640" cy="959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WordArt 2"/>
          <p:cNvSpPr txBox="1"/>
          <p:nvPr/>
        </p:nvSpPr>
        <p:spPr>
          <a:xfrm>
            <a:off x="1828800" y="152280"/>
            <a:ext cx="5133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ртстн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г на конька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0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11" name="Picture 4" descr="send_ph"/>
          <p:cNvPicPr/>
          <p:nvPr/>
        </p:nvPicPr>
        <p:blipFill>
          <a:blip r:embed="rId1"/>
          <a:stretch/>
        </p:blipFill>
        <p:spPr>
          <a:xfrm>
            <a:off x="228600" y="2362320"/>
            <a:ext cx="4800600" cy="36306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" descr="olimpijskie-koltsa"/>
          <p:cNvPicPr/>
          <p:nvPr/>
        </p:nvPicPr>
        <p:blipFill>
          <a:blip r:embed="rId2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613" name="WordArt 6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4" name="Text Box 7"/>
          <p:cNvSpPr/>
          <p:nvPr/>
        </p:nvSpPr>
        <p:spPr>
          <a:xfrm>
            <a:off x="5257800" y="1752480"/>
            <a:ext cx="36576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Вид спорта, в котором необходимо как можно быстрее преодолевать определённую дистанцию на ледовом стадионе по замкнутому кругу. Относится к циклическим видам спорта.</a:t>
            </a:r>
            <a:endParaRPr b="0" lang="en-US" sz="26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15" name="Picture 9" descr="00002477"/>
          <p:cNvPicPr/>
          <p:nvPr/>
        </p:nvPicPr>
        <p:blipFill>
          <a:blip r:embed="rId3"/>
          <a:stretch/>
        </p:blipFill>
        <p:spPr>
          <a:xfrm>
            <a:off x="157320" y="378000"/>
            <a:ext cx="1439640" cy="919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1828800" y="45720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ноубор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7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18" name="Picture 4" descr="olimpijskie-koltsa"/>
          <p:cNvPicPr/>
          <p:nvPr/>
        </p:nvPicPr>
        <p:blipFill>
          <a:blip r:embed="rId1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619" name="WordArt 5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5257800" y="1752480"/>
            <a:ext cx="36576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Вид горнолыжного спорта, включающий в себя различные спуски с гор по специальной трассе на одной доске – сноуборде и акробатические прыжки на сноуборде на различных трамплинах.</a:t>
            </a: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21" name="Picture 7" descr="Выступления на зимних Играх1996 года"/>
          <p:cNvPicPr/>
          <p:nvPr/>
        </p:nvPicPr>
        <p:blipFill>
          <a:blip r:embed="rId2"/>
          <a:stretch/>
        </p:blipFill>
        <p:spPr>
          <a:xfrm>
            <a:off x="304920" y="2209680"/>
            <a:ext cx="4647960" cy="37702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8" descr="i_1"/>
          <p:cNvPicPr/>
          <p:nvPr/>
        </p:nvPicPr>
        <p:blipFill>
          <a:blip r:embed="rId3"/>
          <a:stretch/>
        </p:blipFill>
        <p:spPr>
          <a:xfrm>
            <a:off x="228600" y="228600"/>
            <a:ext cx="1440000" cy="107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WordArt 2"/>
          <p:cNvSpPr txBox="1"/>
          <p:nvPr/>
        </p:nvSpPr>
        <p:spPr>
          <a:xfrm>
            <a:off x="1828800" y="152280"/>
            <a:ext cx="5133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гур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т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4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25" name="Picture 6" descr="olimpijskie-koltsa"/>
          <p:cNvPicPr/>
          <p:nvPr/>
        </p:nvPicPr>
        <p:blipFill>
          <a:blip r:embed="rId1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626" name="WordArt 7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5181480" y="1981080"/>
            <a:ext cx="3810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ид спорта, в котором спортсмены перемещаются на коньках по льду с выполнением дополнительных элементов, чаще всего под музыку. Как правило, разыгрываются четыре комплекта медалей: в женском одиночном катании, в мужском одиночном катании, в парном катании, а также в спортивных танцах на льду.</a:t>
            </a: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28" name="Picture 9" descr="11_2"/>
          <p:cNvPicPr/>
          <p:nvPr/>
        </p:nvPicPr>
        <p:blipFill>
          <a:blip r:embed="rId2"/>
          <a:stretch/>
        </p:blipFill>
        <p:spPr>
          <a:xfrm>
            <a:off x="228600" y="380880"/>
            <a:ext cx="1440000" cy="9590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1" descr="b_5873fk"/>
          <p:cNvPicPr/>
          <p:nvPr/>
        </p:nvPicPr>
        <p:blipFill>
          <a:blip r:embed="rId3"/>
          <a:stretch/>
        </p:blipFill>
        <p:spPr>
          <a:xfrm>
            <a:off x="1887480" y="2438280"/>
            <a:ext cx="3138480" cy="342900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13"/>
          <p:cNvSpPr/>
          <p:nvPr/>
        </p:nvSpPr>
        <p:spPr>
          <a:xfrm>
            <a:off x="152280" y="5562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Script MT Bold"/>
              </a:rPr>
              <a:t>Одиночное катание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1828800" y="5867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Script MT Bold"/>
              </a:rPr>
              <a:t>Спортивные танцы на льду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32" name="Picture 15" descr="Junior_Worlds"/>
          <p:cNvPicPr/>
          <p:nvPr/>
        </p:nvPicPr>
        <p:blipFill>
          <a:blip r:embed="rId4"/>
          <a:stretch/>
        </p:blipFill>
        <p:spPr>
          <a:xfrm>
            <a:off x="193680" y="2438280"/>
            <a:ext cx="1600200" cy="3124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WordArt 2"/>
          <p:cNvSpPr txBox="1"/>
          <p:nvPr/>
        </p:nvSpPr>
        <p:spPr>
          <a:xfrm>
            <a:off x="1828800" y="45720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ристай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35" name="Picture 5" descr="olimpijskie-koltsa"/>
          <p:cNvPicPr/>
          <p:nvPr/>
        </p:nvPicPr>
        <p:blipFill>
          <a:blip r:embed="rId1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636" name="WordArt 6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7" name="Text Box 7"/>
          <p:cNvSpPr/>
          <p:nvPr/>
        </p:nvSpPr>
        <p:spPr>
          <a:xfrm>
            <a:off x="5181480" y="1676520"/>
            <a:ext cx="38102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Вид лыжного спорта. В состав фристайла входят: лыжная акробатика, ски-кросс и могул. В лыжной акробатике спортсмены со специально трамплина совершают серию различных по сложности прыжков и сальто. Могул – это спуск по бугристому, кочковатому склону. Ски-кросс – гонка по специальной горнолыжной трассе, включающая в себя снежные препятствия в виде различных трамплинов, волн, и виражей.</a:t>
            </a: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38" name="Picture 9" descr="CAX9BB7R"/>
          <p:cNvPicPr/>
          <p:nvPr/>
        </p:nvPicPr>
        <p:blipFill>
          <a:blip r:embed="rId2"/>
          <a:stretch/>
        </p:blipFill>
        <p:spPr>
          <a:xfrm>
            <a:off x="157320" y="380880"/>
            <a:ext cx="1439640" cy="9558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1" descr="Women"/>
          <p:cNvPicPr/>
          <p:nvPr/>
        </p:nvPicPr>
        <p:blipFill>
          <a:blip r:embed="rId3"/>
          <a:stretch/>
        </p:blipFill>
        <p:spPr>
          <a:xfrm>
            <a:off x="990720" y="4648320"/>
            <a:ext cx="3200400" cy="18399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2" descr="200px-Skijaguars1thb"/>
          <p:cNvPicPr/>
          <p:nvPr/>
        </p:nvPicPr>
        <p:blipFill>
          <a:blip r:embed="rId4"/>
          <a:stretch/>
        </p:blipFill>
        <p:spPr>
          <a:xfrm>
            <a:off x="2895480" y="2057400"/>
            <a:ext cx="2073240" cy="213372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13"/>
          <p:cNvSpPr/>
          <p:nvPr/>
        </p:nvSpPr>
        <p:spPr>
          <a:xfrm>
            <a:off x="1219320" y="6394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Script MT Bold"/>
              </a:rPr>
              <a:t>Ски-кросс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642" name="Text Box 14"/>
          <p:cNvSpPr/>
          <p:nvPr/>
        </p:nvSpPr>
        <p:spPr>
          <a:xfrm>
            <a:off x="152280" y="4191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Script MT Bold"/>
              </a:rPr>
              <a:t>Могул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643" name="Text Box 15"/>
          <p:cNvSpPr/>
          <p:nvPr/>
        </p:nvSpPr>
        <p:spPr>
          <a:xfrm>
            <a:off x="2666880" y="4191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Script MT Bold"/>
              </a:rPr>
              <a:t>Лыжная акробатика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44" name="Picture 16" descr="mogul"/>
          <p:cNvPicPr/>
          <p:nvPr/>
        </p:nvPicPr>
        <p:blipFill>
          <a:blip r:embed="rId5"/>
          <a:stretch/>
        </p:blipFill>
        <p:spPr>
          <a:xfrm>
            <a:off x="228600" y="2057400"/>
            <a:ext cx="246852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WordArt 2"/>
          <p:cNvSpPr txBox="1"/>
          <p:nvPr/>
        </p:nvSpPr>
        <p:spPr>
          <a:xfrm>
            <a:off x="1828800" y="152280"/>
            <a:ext cx="5133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окк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шайб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6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47" name="Picture 5" descr="maltsev-1"/>
          <p:cNvPicPr/>
          <p:nvPr/>
        </p:nvPicPr>
        <p:blipFill>
          <a:blip r:embed="rId1"/>
          <a:stretch/>
        </p:blipFill>
        <p:spPr>
          <a:xfrm>
            <a:off x="228600" y="2133720"/>
            <a:ext cx="4800600" cy="41958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6"/>
          <p:cNvSpPr/>
          <p:nvPr/>
        </p:nvSpPr>
        <p:spPr>
          <a:xfrm>
            <a:off x="5181480" y="1752480"/>
            <a:ext cx="3962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портивная игра, заключающаяся в противоборстве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вух команд, которые, передавая шайбу клюшками,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тремятся забросить её наибольшее количество раз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 ворота соперника и не пропустить в свои.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беждает команда, забросившая наибольшее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оличество шайб в ворота соперника.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тносится к игровым (командным) видам спорта.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49" name="Picture 7" descr="olimpijskie-koltsa"/>
          <p:cNvPicPr/>
          <p:nvPr/>
        </p:nvPicPr>
        <p:blipFill>
          <a:blip r:embed="rId2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8" descr="fc5815c6a53f"/>
          <p:cNvPicPr/>
          <p:nvPr/>
        </p:nvPicPr>
        <p:blipFill>
          <a:blip r:embed="rId3"/>
          <a:stretch/>
        </p:blipFill>
        <p:spPr>
          <a:xfrm>
            <a:off x="157320" y="338040"/>
            <a:ext cx="1439640" cy="1152720"/>
          </a:xfrm>
          <a:prstGeom prst="rect">
            <a:avLst/>
          </a:prstGeom>
          <a:ln w="0">
            <a:noFill/>
          </a:ln>
        </p:spPr>
      </p:pic>
      <p:sp>
        <p:nvSpPr>
          <p:cNvPr id="651" name="WordArt 9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WordArt 2"/>
          <p:cNvSpPr txBox="1"/>
          <p:nvPr/>
        </p:nvSpPr>
        <p:spPr>
          <a:xfrm>
            <a:off x="1828800" y="45720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орт-тре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3" name="Picture 3" descr="1998W_short_track"/>
          <p:cNvPicPr/>
          <p:nvPr/>
        </p:nvPicPr>
        <p:blipFill>
          <a:blip r:embed="rId1"/>
          <a:stretch/>
        </p:blipFill>
        <p:spPr>
          <a:xfrm>
            <a:off x="228600" y="2057400"/>
            <a:ext cx="4800600" cy="4533840"/>
          </a:xfrm>
          <a:prstGeom prst="rect">
            <a:avLst/>
          </a:prstGeom>
          <a:ln w="0">
            <a:noFill/>
          </a:ln>
        </p:spPr>
      </p:pic>
      <p:sp>
        <p:nvSpPr>
          <p:cNvPr id="654" name="AutoShape 4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55" name="Picture 5" descr="olimpijskie-koltsa"/>
          <p:cNvPicPr/>
          <p:nvPr/>
        </p:nvPicPr>
        <p:blipFill>
          <a:blip r:embed="rId2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656" name="WordArt 6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7" name="Text Box 7"/>
          <p:cNvSpPr/>
          <p:nvPr/>
        </p:nvSpPr>
        <p:spPr>
          <a:xfrm>
            <a:off x="5257800" y="2133720"/>
            <a:ext cx="3733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Вид скоростного бега на коньках, заключающийся в максимально быстром преодолении дистанции внутри хоккейной площадки (окружность катка – 111,12 м).</a:t>
            </a:r>
            <a:r>
              <a:rPr b="0" lang="ru-RU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58" name="Picture 9" descr="Шорт"/>
          <p:cNvPicPr/>
          <p:nvPr/>
        </p:nvPicPr>
        <p:blipFill>
          <a:blip r:embed="rId3"/>
          <a:stretch/>
        </p:blipFill>
        <p:spPr>
          <a:xfrm>
            <a:off x="157320" y="378000"/>
            <a:ext cx="1439640" cy="102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5" descr="olimpijskie-koltsa"/>
          <p:cNvPicPr/>
          <p:nvPr/>
        </p:nvPicPr>
        <p:blipFill>
          <a:blip r:embed="rId1"/>
          <a:stretch/>
        </p:blipFill>
        <p:spPr>
          <a:xfrm>
            <a:off x="7308720" y="304920"/>
            <a:ext cx="1689120" cy="847440"/>
          </a:xfrm>
          <a:prstGeom prst="rect">
            <a:avLst/>
          </a:prstGeom>
          <a:ln w="0">
            <a:noFill/>
          </a:ln>
        </p:spPr>
      </p:pic>
      <p:sp>
        <p:nvSpPr>
          <p:cNvPr id="660" name="WordArt 8"/>
          <p:cNvSpPr txBox="1"/>
          <p:nvPr/>
        </p:nvSpPr>
        <p:spPr>
          <a:xfrm>
            <a:off x="914400" y="152280"/>
            <a:ext cx="62485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лимпийск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152280" y="28954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cc"/>
                </a:solidFill>
                <a:uFillTx/>
                <a:latin typeface="Verdana"/>
              </a:rPr>
              <a:t>Презентацию подготовил: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662" name="Text Box 13"/>
          <p:cNvSpPr/>
          <p:nvPr/>
        </p:nvSpPr>
        <p:spPr>
          <a:xfrm>
            <a:off x="4367160" y="2363760"/>
            <a:ext cx="4114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399"/>
                </a:solidFill>
                <a:latin typeface="Verdana"/>
              </a:rPr>
              <a:t>Ученик 11 класса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399"/>
                </a:solidFill>
                <a:latin typeface="Verdana"/>
              </a:rPr>
              <a:t>МОУ «Тверская СОШ» 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399"/>
                </a:solidFill>
                <a:latin typeface="Verdana"/>
              </a:rPr>
              <a:t>Логинов Никита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2841480" y="6308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Verdana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64" name="Picture 18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3962160" cy="26668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" descr="Фото1663"/>
          <p:cNvPicPr/>
          <p:nvPr/>
        </p:nvPicPr>
        <p:blipFill>
          <a:blip r:embed="rId3"/>
          <a:stretch/>
        </p:blipFill>
        <p:spPr>
          <a:xfrm>
            <a:off x="4876920" y="4152960"/>
            <a:ext cx="4120920" cy="252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WordArt 2"/>
          <p:cNvSpPr txBox="1"/>
          <p:nvPr/>
        </p:nvSpPr>
        <p:spPr>
          <a:xfrm>
            <a:off x="1828800" y="45720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бс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8" name="AutoShape 4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39" name="Picture 5" descr="olimpijskie-koltsa"/>
          <p:cNvPicPr/>
          <p:nvPr/>
        </p:nvPicPr>
        <p:blipFill>
          <a:blip r:embed="rId1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6"/>
          <p:cNvSpPr/>
          <p:nvPr/>
        </p:nvSpPr>
        <p:spPr>
          <a:xfrm>
            <a:off x="5181480" y="1905120"/>
            <a:ext cx="38102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Вид спорта, представляющий собой скоростной спуск с гор по специально оборудованным ледовым трассам на управляемых санях - бобах. Бобслей относится к техническим видам спорта</a:t>
            </a:r>
            <a:r>
              <a:rPr b="1" lang="ru-RU" sz="18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41" name="Picture 7" descr="otv2"/>
          <p:cNvPicPr/>
          <p:nvPr/>
        </p:nvPicPr>
        <p:blipFill>
          <a:blip r:embed="rId2"/>
          <a:stretch/>
        </p:blipFill>
        <p:spPr>
          <a:xfrm>
            <a:off x="228600" y="2057400"/>
            <a:ext cx="4800600" cy="4414680"/>
          </a:xfrm>
          <a:prstGeom prst="rect">
            <a:avLst/>
          </a:prstGeom>
          <a:ln w="0">
            <a:noFill/>
          </a:ln>
        </p:spPr>
      </p:pic>
      <p:sp>
        <p:nvSpPr>
          <p:cNvPr id="542" name="WordArt 8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3" name="Picture 9" descr="Современный боб - двойки"/>
          <p:cNvPicPr/>
          <p:nvPr/>
        </p:nvPicPr>
        <p:blipFill>
          <a:blip r:embed="rId3"/>
          <a:stretch/>
        </p:blipFill>
        <p:spPr>
          <a:xfrm>
            <a:off x="152280" y="380880"/>
            <a:ext cx="1440000" cy="993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2"/>
          <p:cNvSpPr txBox="1"/>
          <p:nvPr/>
        </p:nvSpPr>
        <p:spPr>
          <a:xfrm>
            <a:off x="1828800" y="45720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атл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5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5181480" y="2133720"/>
            <a:ext cx="3810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Arial"/>
              </a:rPr>
              <a:t>Вид спорта, сочетающий</a:t>
            </a:r>
            <a:endParaRPr b="0" lang="en-US" sz="21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Arial"/>
              </a:rPr>
              <a:t>лыжную гонку со стрельбой из малокалиберной винтовки на огневых рубежах. Каждый спортсмен должен пройти на лыжах несколько кругов. Стрельба после каждого круга. Зимнее двоеборье. Относится к циклическим видам спорта.</a:t>
            </a:r>
            <a:endParaRPr b="0" lang="en-US" sz="21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47" name="Picture 5" descr="539881fbbc7e"/>
          <p:cNvPicPr/>
          <p:nvPr/>
        </p:nvPicPr>
        <p:blipFill>
          <a:blip r:embed="rId1"/>
          <a:stretch/>
        </p:blipFill>
        <p:spPr>
          <a:xfrm>
            <a:off x="304920" y="2057400"/>
            <a:ext cx="4724280" cy="45720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6" descr="75127804"/>
          <p:cNvPicPr/>
          <p:nvPr/>
        </p:nvPicPr>
        <p:blipFill>
          <a:blip r:embed="rId2"/>
          <a:stretch/>
        </p:blipFill>
        <p:spPr>
          <a:xfrm>
            <a:off x="152280" y="380880"/>
            <a:ext cx="1440000" cy="10224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7" descr="olimpijskie-koltsa"/>
          <p:cNvPicPr/>
          <p:nvPr/>
        </p:nvPicPr>
        <p:blipFill>
          <a:blip r:embed="rId3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550" name="WordArt 8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WordArt 2"/>
          <p:cNvSpPr txBox="1"/>
          <p:nvPr/>
        </p:nvSpPr>
        <p:spPr>
          <a:xfrm>
            <a:off x="1828800" y="152280"/>
            <a:ext cx="5133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нолыж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2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53" name="Picture 4" descr="olimpijskie-koltsa"/>
          <p:cNvPicPr/>
          <p:nvPr/>
        </p:nvPicPr>
        <p:blipFill>
          <a:blip r:embed="rId1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554" name="WordArt 5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5181480" y="1828800"/>
            <a:ext cx="3810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ид спорта – спуск с гор на специальных лыжах. Включает пять спортивных дисциплин: слалом, гигантский слалом, супергигант, скоростной спуск, альпийское двоеборье. Во время спуска с гор спортсмены должны преодолеть специальные трассы, размеченные воротами и флагами. Относится к сложно координационным видам спорта.</a:t>
            </a:r>
            <a:r>
              <a:rPr b="0" lang="ru-RU" sz="20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56" name="Picture 7" descr="Hahnenkamm%20Downhill(1)"/>
          <p:cNvPicPr/>
          <p:nvPr/>
        </p:nvPicPr>
        <p:blipFill>
          <a:blip r:embed="rId2"/>
          <a:stretch/>
        </p:blipFill>
        <p:spPr>
          <a:xfrm>
            <a:off x="150840" y="380880"/>
            <a:ext cx="1440000" cy="9651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Gornyie-lyzhi-1329-1"/>
          <p:cNvPicPr/>
          <p:nvPr/>
        </p:nvPicPr>
        <p:blipFill>
          <a:blip r:embed="rId3"/>
          <a:stretch/>
        </p:blipFill>
        <p:spPr>
          <a:xfrm>
            <a:off x="1066680" y="4191120"/>
            <a:ext cx="2925720" cy="21333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9" descr="Super%20GS"/>
          <p:cNvPicPr/>
          <p:nvPr/>
        </p:nvPicPr>
        <p:blipFill>
          <a:blip r:embed="rId4"/>
          <a:stretch/>
        </p:blipFill>
        <p:spPr>
          <a:xfrm>
            <a:off x="2743200" y="20574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0" descr="Slalom"/>
          <p:cNvPicPr/>
          <p:nvPr/>
        </p:nvPicPr>
        <p:blipFill>
          <a:blip r:embed="rId5"/>
          <a:stretch/>
        </p:blipFill>
        <p:spPr>
          <a:xfrm>
            <a:off x="228600" y="2057400"/>
            <a:ext cx="2286000" cy="171612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1"/>
          <p:cNvSpPr/>
          <p:nvPr/>
        </p:nvSpPr>
        <p:spPr>
          <a:xfrm>
            <a:off x="53352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Script MT Bold"/>
              </a:rPr>
              <a:t>Слалом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561" name="Text Box 12"/>
          <p:cNvSpPr/>
          <p:nvPr/>
        </p:nvSpPr>
        <p:spPr>
          <a:xfrm>
            <a:off x="2666880" y="3733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Script MT Bold"/>
              </a:rPr>
              <a:t>Скоростной спуск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562" name="Text Box 13"/>
          <p:cNvSpPr/>
          <p:nvPr/>
        </p:nvSpPr>
        <p:spPr>
          <a:xfrm>
            <a:off x="106668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Script MT Bold"/>
              </a:rPr>
              <a:t>Гигантский слалом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WordArt 2"/>
          <p:cNvSpPr txBox="1"/>
          <p:nvPr/>
        </p:nvSpPr>
        <p:spPr>
          <a:xfrm>
            <a:off x="1828800" y="45720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ёрлин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65" name="Picture 4" descr="34429553_x_449b5b17aa"/>
          <p:cNvPicPr/>
          <p:nvPr/>
        </p:nvPicPr>
        <p:blipFill>
          <a:blip r:embed="rId1"/>
          <a:stretch/>
        </p:blipFill>
        <p:spPr>
          <a:xfrm>
            <a:off x="228600" y="2057400"/>
            <a:ext cx="4724280" cy="451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olimpijskie-koltsa"/>
          <p:cNvPicPr/>
          <p:nvPr/>
        </p:nvPicPr>
        <p:blipFill>
          <a:blip r:embed="rId2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567" name="WordArt 6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5181480" y="1981080"/>
            <a:ext cx="381024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66"/>
                </a:solidFill>
                <a:latin typeface="Arial"/>
              </a:rPr>
              <a:t>Командная спортивная игра на ледяной площадке. Участники двух команд поочерёдно пускают по льду специальные тяжёлые гранитные снаряды («камни») в сторону размеченной на льду мишени. Относится к командным видам спорта.</a:t>
            </a:r>
            <a:r>
              <a:rPr b="1" lang="ru-RU" sz="21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69" name="Picture 8" descr="2006_curling_stone"/>
          <p:cNvPicPr/>
          <p:nvPr/>
        </p:nvPicPr>
        <p:blipFill>
          <a:blip r:embed="rId3"/>
          <a:stretch/>
        </p:blipFill>
        <p:spPr>
          <a:xfrm>
            <a:off x="152280" y="378000"/>
            <a:ext cx="1440000" cy="1072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WordArt 2"/>
          <p:cNvSpPr txBox="1"/>
          <p:nvPr/>
        </p:nvSpPr>
        <p:spPr>
          <a:xfrm>
            <a:off x="1828800" y="45720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ыжное двоеборь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1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72" name="Picture 4" descr="olimpijskie-koltsa"/>
          <p:cNvPicPr/>
          <p:nvPr/>
        </p:nvPicPr>
        <p:blipFill>
          <a:blip r:embed="rId1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573" name="WordArt 5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5181480" y="1828800"/>
            <a:ext cx="37339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Вид спорта, включающий прыжки с трамплина и лыжные гонки. каждый участник сначала совершает 2 прыжка с 90-метрового трамплина, а затем принимает участие в гонке на 15 км.</a:t>
            </a: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75" name="Picture 13" descr="Лыжное двоеборье - XVIII Зимние Олимпийские игры 1998 год – Нагано (Япония)"/>
          <p:cNvPicPr/>
          <p:nvPr/>
        </p:nvPicPr>
        <p:blipFill>
          <a:blip r:embed="rId2"/>
          <a:stretch/>
        </p:blipFill>
        <p:spPr>
          <a:xfrm>
            <a:off x="157320" y="380880"/>
            <a:ext cx="1439640" cy="9795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Лыжное двоеборье, лыжная гонка - XVI Зимние Олимпийские игры 1992 год – Альбервиль (Франция)"/>
          <p:cNvPicPr/>
          <p:nvPr/>
        </p:nvPicPr>
        <p:blipFill>
          <a:blip r:embed="rId3"/>
          <a:stretch/>
        </p:blipFill>
        <p:spPr>
          <a:xfrm>
            <a:off x="2819520" y="2438280"/>
            <a:ext cx="2225520" cy="33530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5" descr="Полётная фаза прыжка V стилем - 1998 год"/>
          <p:cNvPicPr/>
          <p:nvPr/>
        </p:nvPicPr>
        <p:blipFill>
          <a:blip r:embed="rId4"/>
          <a:stretch/>
        </p:blipFill>
        <p:spPr>
          <a:xfrm>
            <a:off x="228600" y="2438280"/>
            <a:ext cx="2455920" cy="3353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WordArt 2"/>
          <p:cNvSpPr txBox="1"/>
          <p:nvPr/>
        </p:nvSpPr>
        <p:spPr>
          <a:xfrm>
            <a:off x="1828800" y="45720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ыжный 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80" name="Picture 4" descr="olimpijskie-koltsa"/>
          <p:cNvPicPr/>
          <p:nvPr/>
        </p:nvPicPr>
        <p:blipFill>
          <a:blip r:embed="rId1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581" name="WordArt 5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5105520" y="1828800"/>
            <a:ext cx="380988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66"/>
                </a:solidFill>
                <a:latin typeface="Arial"/>
              </a:rPr>
              <a:t>Гонки на лыжах на определённую дистанцию по специально подготовленной трассе отдельно среди мужчин и женщин. Различают два вида хода: классический (по лыжне) и свободный (коньковый). Относятся к циклическим видам спорта.</a:t>
            </a:r>
            <a:r>
              <a:rPr b="1" lang="ru-RU" sz="21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83" name="Picture 7" descr="Л Лазутина_2"/>
          <p:cNvPicPr/>
          <p:nvPr/>
        </p:nvPicPr>
        <p:blipFill>
          <a:blip r:embed="rId2"/>
          <a:stretch/>
        </p:blipFill>
        <p:spPr>
          <a:xfrm>
            <a:off x="157320" y="380880"/>
            <a:ext cx="1439640" cy="8668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1998W_cross_skiling"/>
          <p:cNvPicPr/>
          <p:nvPr/>
        </p:nvPicPr>
        <p:blipFill>
          <a:blip r:embed="rId3"/>
          <a:stretch/>
        </p:blipFill>
        <p:spPr>
          <a:xfrm>
            <a:off x="228600" y="2057400"/>
            <a:ext cx="1905120" cy="380988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10"/>
          <p:cNvSpPr/>
          <p:nvPr/>
        </p:nvSpPr>
        <p:spPr>
          <a:xfrm>
            <a:off x="228600" y="6019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Script MT Bold"/>
              </a:rPr>
              <a:t>Классический стиль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2743200" y="6019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Script MT Bold"/>
              </a:rPr>
              <a:t>Свободный  стиль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87" name="Picture 12" descr="3_Ski"/>
          <p:cNvPicPr/>
          <p:nvPr/>
        </p:nvPicPr>
        <p:blipFill>
          <a:blip r:embed="rId4"/>
          <a:stretch/>
        </p:blipFill>
        <p:spPr>
          <a:xfrm>
            <a:off x="2286000" y="2057400"/>
            <a:ext cx="262908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89" name="Picture 4" descr="olimpijskie-koltsa"/>
          <p:cNvPicPr/>
          <p:nvPr/>
        </p:nvPicPr>
        <p:blipFill>
          <a:blip r:embed="rId1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590" name="WordArt 5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5105520" y="1828800"/>
            <a:ext cx="380988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66"/>
                </a:solidFill>
                <a:latin typeface="Arial"/>
              </a:rPr>
              <a:t>Гонки на лыжах на определённую дистанцию по специально подготовленной трассе отдельно среди мужчин и женщин. Различают два вида хода: классический (по лыжне) и свободный (коньковый). Относятся к циклическим видам спорта.</a:t>
            </a:r>
            <a:r>
              <a:rPr b="1" lang="ru-RU" sz="21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592" name="WordArt 12"/>
          <p:cNvSpPr txBox="1"/>
          <p:nvPr/>
        </p:nvSpPr>
        <p:spPr>
          <a:xfrm>
            <a:off x="1828800" y="152280"/>
            <a:ext cx="5133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ыжки на лыжа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трампл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3" name="Picture 14" descr="К Фунаки_1"/>
          <p:cNvPicPr/>
          <p:nvPr/>
        </p:nvPicPr>
        <p:blipFill>
          <a:blip r:embed="rId2"/>
          <a:stretch/>
        </p:blipFill>
        <p:spPr>
          <a:xfrm>
            <a:off x="157320" y="380880"/>
            <a:ext cx="1439640" cy="10018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6" descr="1285560985_111"/>
          <p:cNvPicPr/>
          <p:nvPr/>
        </p:nvPicPr>
        <p:blipFill>
          <a:blip r:embed="rId3"/>
          <a:stretch/>
        </p:blipFill>
        <p:spPr>
          <a:xfrm>
            <a:off x="228600" y="2362320"/>
            <a:ext cx="4800600" cy="3606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WordArt 2"/>
          <p:cNvSpPr txBox="1"/>
          <p:nvPr/>
        </p:nvSpPr>
        <p:spPr>
          <a:xfrm>
            <a:off x="1828800" y="457200"/>
            <a:ext cx="513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нный 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5181480" y="1676520"/>
            <a:ext cx="3810240" cy="4952880"/>
          </a:xfrm>
          <a:custGeom>
            <a:avLst/>
            <a:gdLst>
              <a:gd name="textAreaLeft" fmla="*/ 185760 w 3810240"/>
              <a:gd name="textAreaRight" fmla="*/ 3624480 w 3810240"/>
              <a:gd name="textAreaTop" fmla="*/ 185760 h 4952880"/>
              <a:gd name="textAreaBottom" fmla="*/ 4767120 h 4952880"/>
            </a:gdLst>
            <a:ahLst/>
            <a:rect l="textAreaLeft" t="textAreaTop" r="textAreaRight" b="textAreaBottom"/>
            <a:pathLst>
              <a:path w="21600" h="28077">
                <a:moveTo>
                  <a:pt x="3600" y="0"/>
                </a:moveTo>
                <a:arcTo wR="3600" hR="3600" stAng="16200000" swAng="-5400000"/>
                <a:lnTo>
                  <a:pt x="0" y="24477"/>
                </a:lnTo>
                <a:arcTo wR="3600" hR="3600" stAng="10800000" swAng="-5400000"/>
                <a:lnTo>
                  <a:pt x="18000" y="28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deeff"/>
              </a:gs>
              <a:gs pos="100000">
                <a:srgbClr val="4bc3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597" name="Picture 4" descr="olimpijskie-koltsa"/>
          <p:cNvPicPr/>
          <p:nvPr/>
        </p:nvPicPr>
        <p:blipFill>
          <a:blip r:embed="rId1"/>
          <a:stretch/>
        </p:blipFill>
        <p:spPr>
          <a:xfrm>
            <a:off x="7696080" y="71280"/>
            <a:ext cx="1079640" cy="541440"/>
          </a:xfrm>
          <a:prstGeom prst="rect">
            <a:avLst/>
          </a:prstGeom>
          <a:ln w="0">
            <a:noFill/>
          </a:ln>
        </p:spPr>
      </p:pic>
      <p:sp>
        <p:nvSpPr>
          <p:cNvPr id="598" name="WordArt 5"/>
          <p:cNvSpPr txBox="1"/>
          <p:nvPr/>
        </p:nvSpPr>
        <p:spPr>
          <a:xfrm>
            <a:off x="7315200" y="685800"/>
            <a:ext cx="16765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9" name="Picture 6" descr="Скоростной спуск на двухместных (микс) санях - 2002 год"/>
          <p:cNvPicPr/>
          <p:nvPr/>
        </p:nvPicPr>
        <p:blipFill>
          <a:blip r:embed="rId2"/>
          <a:stretch/>
        </p:blipFill>
        <p:spPr>
          <a:xfrm>
            <a:off x="304920" y="2057400"/>
            <a:ext cx="4647960" cy="44211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А это - XIX Зимние Олимпийские игры 2002 год – Солт-Лейк-Сити (США)"/>
          <p:cNvPicPr/>
          <p:nvPr/>
        </p:nvPicPr>
        <p:blipFill>
          <a:blip r:embed="rId3"/>
          <a:stretch/>
        </p:blipFill>
        <p:spPr>
          <a:xfrm>
            <a:off x="157320" y="378000"/>
            <a:ext cx="1439640" cy="97308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8"/>
          <p:cNvSpPr/>
          <p:nvPr/>
        </p:nvSpPr>
        <p:spPr>
          <a:xfrm>
            <a:off x="5181480" y="1905120"/>
            <a:ext cx="381024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Скоростной спуск на спортивных санях по специально изготовленным трассам длиной 800 – 1200 м. Соревнования проводятся среди мужчин и женщин.</a:t>
            </a: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1-20T10:10:23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