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165-AF39-409C-8D2D-246A4F13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806-B121-433A-A895-2CC10850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91979-60AA-4FB4-BDA5-334DEC6F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6FE54-E253-4A7F-B4FA-63044E00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F9BFE-E8DD-49BF-A345-2A3F11CC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5A406-EB80-4BA6-A08E-2CE73AFF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A1906-0C11-4375-B2D7-F8ADAA5B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EBE90-58B1-49E5-ADA0-6366A14D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97087-CA3F-4AE4-BEC6-24832E84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C8B0D-FB7D-4929-A8F9-BFDA6E6E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17984-4ECA-4262-8A87-78485163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85274-2119-464B-8E57-E70CD159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5AE-ADCA-400D-8B4E-351398BC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F8694-749A-406A-9186-8ECE4850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29A0A-7D9A-45E6-84AB-5F15C6C2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ED2B7-4658-4EDE-A5EF-B221828C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114BE-7F85-4821-9832-1636A5E2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07C2E-63D7-46C7-B7BA-C6051C53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6D8FD-1EE9-420D-9927-AAAC8E04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924DC-CE85-4D8C-9F03-866EBB44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D76DB-801E-4E9E-B540-3FBD894C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63EC8-EA34-450D-B288-225FC72C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F6A3E-65C1-48C1-8424-79D4D90B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504-4F3E-4D8C-AA64-3EFC5446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C3B1A-87AC-42E8-8DE7-D0C0372F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5D162-2519-4278-8B36-F5B4B91D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BEEA7-FF73-42B6-9F18-86BC660C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1E83A-CF3C-4783-A607-C8AA00BA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AABB4-A23C-4CDC-BE80-7F7EB8A7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F7B3A-D40B-4A9A-AE41-5E8A44B7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F948E-D768-45CD-BAAD-93C33FFD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8F15A-F1DD-401F-83AC-51CDEB06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FD06D-4087-4906-947A-C618F99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ED5B5-7236-4418-8E91-32BC815F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D31D-8630-4A09-92FA-E62E35C6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4E5B6-D084-4712-9D67-719729D3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42BC3-57B1-446A-98AD-90A52EDD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29D7B-0CE3-417B-81BC-64D7AE09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E9300-ED9B-4D2E-8324-B6911F58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4BFF0-C92D-42B8-8E85-2F4704A4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9DA3D-6302-475D-B075-05C604C0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A584A-3EDB-48BC-950B-D0A13ED8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3725A-FA66-4505-B66A-79E9ABF9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9D724-90C9-4342-B0CA-A74EDEDC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B84F9-D79A-4869-9CDA-289285AB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EBE5-326B-4DEF-B30B-E9F8B3CF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4CACE-B5ED-41DC-89D8-02943AB6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31EE1-D453-4186-A0B1-03950EAD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21FAE-5579-409F-B9F7-DCD556B9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2FC2B-1FB3-4A8E-8D94-19634323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2EDDF-A37B-4B82-9F66-ABC1AEE9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3724-4C7F-4ECF-8B6E-6D5E3D75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5795-D691-4758-9EA0-AF59C1BD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BB38-39AC-4ADD-897E-4ECCA022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FD6A-2FB9-474B-819F-7B5B7CE6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318D-147E-4960-ADE3-404C4B8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033-4F6E-4635-9468-9C9FA700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7F84-8060-40BB-8804-80F40B8E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6B10-FA70-4A45-928D-92C19065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DB43-D3DC-4C31-92C9-9E7380BD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4813-A45B-44E1-891F-D3DB2218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1B16-A3CF-4A84-9163-A52E84FC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0B84-C3C9-4BC9-9445-241E8E18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333F-D738-4639-9080-DE4ED5AA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ED53-F945-47F6-A355-46B6822F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2DD7-7AF4-45F0-A53A-3003FE18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B11E-C0E3-477B-9F40-D704CC1F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CA5-CD72-4400-9F85-6E4FE4BB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74FE-DE29-4B04-9198-73878E1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D6B2-9CEB-4CDD-AA7D-809BE4CA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760B-7F45-43D7-ABB6-3E644AAE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B351-6AD3-4228-B9B9-01C019F9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1656-9EFF-4D96-A815-4333DA3A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1E76E-D7C1-4649-B57C-22CCC8ED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F5AD-E913-4EAD-A6FF-0F60C0AE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188D-0BA6-4F06-B56C-4045FCA1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B20D6-397D-42EF-BDEA-CD9B97DE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A7E2-3599-42DB-903B-BDF112E7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2A9-DC44-4EEB-B523-D2BE28AE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BB4D-E91E-4555-B0A9-8ED62D57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1BA2-05DB-476D-A8F6-575332DC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28184-E846-41E5-91BE-8AA95198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8A3D-8954-4C93-8783-8C2A30BF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DF6A1-A004-49C0-9C93-AF6DBA4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C9FC9-0CFA-4608-BDDF-77A1E403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A3CFA-9757-4483-A720-C69A5D5D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3110E-3066-4856-BBE7-A8672FD2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F0AF8-3AF2-4FAB-A2DE-1F85FA11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22BFF-166E-4010-BF2A-4FACFF81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C81-90C3-4820-8BD7-16AE74C0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EEE84-CB2D-4351-A618-E271F7A2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94F04-E949-4FB0-B09B-22F3F186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35235-9B65-4FA4-906B-E5B45B9F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8E28D-BF77-43A7-9B9C-1526BE5C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70E2C-FD0E-4A20-92BA-9A584760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F2DE8-A877-4014-A53B-0286CAF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E31C9-58C3-4C82-973E-DF6FAC12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4D32A-251F-4B8F-83B9-4D200999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611B5-EE1C-4D72-BD32-574904B9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420F1-CCA6-45F4-AD60-2F5BEC34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725-0E87-4810-96FF-E8695CA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7F2B0-755D-4157-9620-F093B547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81424-AD6E-42EF-B641-7F3761B0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ACA62-F2B5-4AEF-B8EE-8E885321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1184B-2BA4-46AD-9CC4-3BAF1235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104C1-2CF1-4C51-8B32-9CB2CF59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39B28-6B36-40FA-9ECD-1AD6A4A5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675DF-B269-4E5B-834A-5DBE5A65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A1E3B-8198-42FD-ACCE-D45401FE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19689-FD21-44AD-B8EB-769C2622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94460-5960-4750-811A-3B70A811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FBA-6855-41F1-B7CA-7B4476CB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8C72A-B1C8-4206-9E18-A43F7B74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4D561-9C70-417D-AABE-7BBA44DC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96E55-7E85-440E-BF34-E9A46F75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106A8-2754-4DD3-9B7E-16C53B82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CF7B6-1AA6-4204-9491-3E328E79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7FC52-99D2-45F9-90C7-08CFB8E8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C3D36-C5BE-4670-B212-C3AED230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2CD45-2C20-4D5F-B857-C793E1DF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534FC-7207-4895-9379-16A97960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6584C-4181-4855-BF92-680CC3AD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065-641B-4589-A34B-98AFCAF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32F4A-771D-41DA-AB28-C3650BCF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06FF2-DBB3-4109-99D8-1A4EBBB7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1BDBF-DFBE-4EDD-BFD1-1F37E7D5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C1DB5-A887-4073-B436-DFA012A1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720D1-070E-4ABC-A61E-17BE4EF5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7CD83-685A-41F8-BA4E-30FC54FE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323D-28BE-47C8-90B8-0CBF3F67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C4F35-4155-4141-8952-545EA4C6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26A9D-E03E-4FCA-A1D4-DBC1CAB2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BA17F-BFDF-4D4E-B860-5F4CC6CD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E75-73E0-4B87-96C7-48DC641D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8802C-F721-4088-959C-7E5FD0EA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700F9-6852-4BF8-9642-21423A69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65C61-33E4-4F88-A5C1-7A38B95A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DC163-3707-4DA4-B406-51E69084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8B0EB-7D52-4489-BA21-76A2FB13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4AF6D-BEB5-4384-AA02-E60B6EF4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F26F6-0BA6-4192-9344-2FE49228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AE1F7-4736-4641-8A90-90DE703A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FDC41-74A9-4D89-961F-47D07E92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5E3F0-8E72-4845-80EE-FBA7DA01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A966-41FF-46DB-8BDC-3AAD303A5FC3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138D-EE0B-4BBE-9081-CA429AFF328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BF85-47BC-42B7-9DA1-AB524AF948A7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1072-BA68-4139-99A3-172C89A6DE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9758-66AB-4314-90A3-609B2C657FE1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A844-AEF0-490E-9820-612B80B33CC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9129-E50B-4E80-931C-F181E34EEC66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5211-D61D-4D51-9130-515CC3E799D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F8A9-E615-4BCD-B2AE-BA0DC0881FF3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E6BE-0F47-4F7E-8F40-70A997C5B68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78D5-1B33-43F5-8CDE-65E4283E8687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E6D6-150A-4227-BC91-4A0211F983A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A643-EEA7-4512-B3F5-A5D6DDF929E7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EC56-2FAA-4F14-98E0-6FC54619EB8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13DE-F7C3-4F18-9D3D-0C8D330168AA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5B8E-46B2-4C70-9F3E-68D14800E7D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4939-A2BF-433C-BF9F-5A8B58975D2A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2C78-9E81-40E0-8951-50B955C6DA0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A8AD-6F84-45B2-AFF3-BA9DF39E62A4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D869-7DB5-45A1-B659-6C418F59304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AFEE-58A1-426B-99B7-127E5A3898A0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6282-7779-4A3E-87B1-09010211E47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15D7-6641-48BC-879F-AE7B8E756C50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803F-0544-4A6E-8FED-A27918006F6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9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9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9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WordArt 8"/>
          <p:cNvSpPr txBox="1"/>
          <p:nvPr/>
        </p:nvSpPr>
        <p:spPr>
          <a:xfrm>
            <a:off x="838080" y="2057400"/>
            <a:ext cx="8001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лимпийск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9" name="Picture 9" descr="Э Хейден"/>
          <p:cNvPicPr/>
          <p:nvPr/>
        </p:nvPicPr>
        <p:blipFill>
          <a:blip r:embed="rId1"/>
          <a:stretch/>
        </p:blipFill>
        <p:spPr>
          <a:xfrm>
            <a:off x="457200" y="4800600"/>
            <a:ext cx="1494000" cy="18018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0" descr="В Третьяк_1"/>
          <p:cNvPicPr/>
          <p:nvPr/>
        </p:nvPicPr>
        <p:blipFill>
          <a:blip r:embed="rId2"/>
          <a:stretch/>
        </p:blipFill>
        <p:spPr>
          <a:xfrm>
            <a:off x="7391520" y="4800600"/>
            <a:ext cx="1172880" cy="1803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1" descr="olympic_009"/>
          <p:cNvPicPr/>
          <p:nvPr/>
        </p:nvPicPr>
        <p:blipFill>
          <a:blip r:embed="rId3"/>
          <a:stretch/>
        </p:blipFill>
        <p:spPr>
          <a:xfrm>
            <a:off x="5867280" y="152280"/>
            <a:ext cx="954360" cy="12589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Г Сван"/>
          <p:cNvPicPr/>
          <p:nvPr/>
        </p:nvPicPr>
        <p:blipFill>
          <a:blip r:embed="rId4"/>
          <a:stretch/>
        </p:blipFill>
        <p:spPr>
          <a:xfrm>
            <a:off x="2438280" y="4800600"/>
            <a:ext cx="1212840" cy="1798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3" descr="_7689460_704987"/>
          <p:cNvPicPr/>
          <p:nvPr/>
        </p:nvPicPr>
        <p:blipFill>
          <a:blip r:embed="rId5"/>
          <a:srcRect l="668" t="14004" r="668" b="18001"/>
          <a:stretch/>
        </p:blipFill>
        <p:spPr>
          <a:xfrm>
            <a:off x="2133720" y="228600"/>
            <a:ext cx="2819160" cy="1295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5" descr="d7c23a641b17efbdb22816285cbc1479"/>
          <p:cNvPicPr/>
          <p:nvPr/>
        </p:nvPicPr>
        <p:blipFill>
          <a:blip r:embed="rId6"/>
          <a:stretch/>
        </p:blipFill>
        <p:spPr>
          <a:xfrm>
            <a:off x="228600" y="152280"/>
            <a:ext cx="1036800" cy="1616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6" descr="К-А Омодт_1"/>
          <p:cNvPicPr/>
          <p:nvPr/>
        </p:nvPicPr>
        <p:blipFill>
          <a:blip r:embed="rId7"/>
          <a:stretch/>
        </p:blipFill>
        <p:spPr>
          <a:xfrm>
            <a:off x="5715000" y="4800600"/>
            <a:ext cx="1147680" cy="1797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7" descr="post-2-1267226471,1787_thumb"/>
          <p:cNvPicPr/>
          <p:nvPr/>
        </p:nvPicPr>
        <p:blipFill>
          <a:blip r:embed="rId8"/>
          <a:stretch/>
        </p:blipFill>
        <p:spPr>
          <a:xfrm>
            <a:off x="4191120" y="4800600"/>
            <a:ext cx="10224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елет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04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05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181480" y="2057400"/>
            <a:ext cx="3733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ид спорта, представляющий собой спуск по ледяному желобу на двухполозьевых санях на укрепленной раме, победитель которого определяется по сумме двух заездов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07" name="Picture 7" descr="Скелетон"/>
          <p:cNvPicPr/>
          <p:nvPr/>
        </p:nvPicPr>
        <p:blipFill>
          <a:blip r:embed="rId2"/>
          <a:stretch/>
        </p:blipFill>
        <p:spPr>
          <a:xfrm>
            <a:off x="380880" y="2057400"/>
            <a:ext cx="4496040" cy="4495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1265975258_16061"/>
          <p:cNvPicPr/>
          <p:nvPr/>
        </p:nvPicPr>
        <p:blipFill>
          <a:blip r:embed="rId3"/>
          <a:stretch/>
        </p:blipFill>
        <p:spPr>
          <a:xfrm>
            <a:off x="157320" y="380880"/>
            <a:ext cx="1439640" cy="959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2"/>
          <p:cNvSpPr txBox="1"/>
          <p:nvPr/>
        </p:nvSpPr>
        <p:spPr>
          <a:xfrm>
            <a:off x="1828800" y="152280"/>
            <a:ext cx="5133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тстн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г на коньк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0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11" name="Picture 4" descr="send_ph"/>
          <p:cNvPicPr/>
          <p:nvPr/>
        </p:nvPicPr>
        <p:blipFill>
          <a:blip r:embed="rId1"/>
          <a:stretch/>
        </p:blipFill>
        <p:spPr>
          <a:xfrm>
            <a:off x="228600" y="2362320"/>
            <a:ext cx="4800600" cy="36306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" descr="olimpijskie-koltsa"/>
          <p:cNvPicPr/>
          <p:nvPr/>
        </p:nvPicPr>
        <p:blipFill>
          <a:blip r:embed="rId2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13" name="WordArt 6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5257800" y="1752480"/>
            <a:ext cx="36576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ид спорта, в котором необходимо как можно быстрее преодолевать определённую дистанцию на ледовом стадионе по замкнутому кругу. Относится к циклическим видам спорта.</a:t>
            </a:r>
            <a:endParaRPr b="0" lang="en-US" sz="26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15" name="Picture 9" descr="00002477"/>
          <p:cNvPicPr/>
          <p:nvPr/>
        </p:nvPicPr>
        <p:blipFill>
          <a:blip r:embed="rId3"/>
          <a:stretch/>
        </p:blipFill>
        <p:spPr>
          <a:xfrm>
            <a:off x="157320" y="378000"/>
            <a:ext cx="1439640" cy="91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ноубор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18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19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5257800" y="1752480"/>
            <a:ext cx="36576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Вид горнолыжного спорта, включающий в себя различные спуски с гор по специальной трассе на одной доске – сноуборде и акробатические прыжки на сноуборде на различных трамплинах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21" name="Picture 7" descr="Выступления на зимних Играх1996 года"/>
          <p:cNvPicPr/>
          <p:nvPr/>
        </p:nvPicPr>
        <p:blipFill>
          <a:blip r:embed="rId2"/>
          <a:stretch/>
        </p:blipFill>
        <p:spPr>
          <a:xfrm>
            <a:off x="304920" y="2209680"/>
            <a:ext cx="4647960" cy="37702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8" descr="i_1"/>
          <p:cNvPicPr/>
          <p:nvPr/>
        </p:nvPicPr>
        <p:blipFill>
          <a:blip r:embed="rId3"/>
          <a:stretch/>
        </p:blipFill>
        <p:spPr>
          <a:xfrm>
            <a:off x="228600" y="228600"/>
            <a:ext cx="1440000" cy="107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WordArt 2"/>
          <p:cNvSpPr txBox="1"/>
          <p:nvPr/>
        </p:nvSpPr>
        <p:spPr>
          <a:xfrm>
            <a:off x="1828800" y="152280"/>
            <a:ext cx="5133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гур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т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4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25" name="Picture 6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26" name="WordArt 7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5181480" y="1981080"/>
            <a:ext cx="3810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ид спорта, в котором спортсмены перемещаются на коньках по льду с выполнением дополнительных элементов, чаще всего под музыку. Как правило, разыгрываются четыре комплекта медалей: в женском одиночном катании, в мужском одиночном катании, в парном катании, а также в спортивных танцах на льду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28" name="Picture 9" descr="11_2"/>
          <p:cNvPicPr/>
          <p:nvPr/>
        </p:nvPicPr>
        <p:blipFill>
          <a:blip r:embed="rId2"/>
          <a:stretch/>
        </p:blipFill>
        <p:spPr>
          <a:xfrm>
            <a:off x="228600" y="380880"/>
            <a:ext cx="1440000" cy="9590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1" descr="b_5873fk"/>
          <p:cNvPicPr/>
          <p:nvPr/>
        </p:nvPicPr>
        <p:blipFill>
          <a:blip r:embed="rId3"/>
          <a:stretch/>
        </p:blipFill>
        <p:spPr>
          <a:xfrm>
            <a:off x="1887480" y="2438280"/>
            <a:ext cx="3138480" cy="34290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3"/>
          <p:cNvSpPr/>
          <p:nvPr/>
        </p:nvSpPr>
        <p:spPr>
          <a:xfrm>
            <a:off x="152280" y="5562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Одиночное катание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1828800" y="5867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Спортивные танцы на льду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32" name="Picture 15" descr="Junior_Worlds"/>
          <p:cNvPicPr/>
          <p:nvPr/>
        </p:nvPicPr>
        <p:blipFill>
          <a:blip r:embed="rId4"/>
          <a:stretch/>
        </p:blipFill>
        <p:spPr>
          <a:xfrm>
            <a:off x="193680" y="2438280"/>
            <a:ext cx="160020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ристай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35" name="Picture 5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36" name="WordArt 6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5181480" y="1676520"/>
            <a:ext cx="38102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Вид лыжного спорта. В состав фристайла входят: лыжная акробатика, ски-кросс и могул. В лыжной акробатике спортсмены со специально трамплина совершают серию различных по сложности прыжков и сальто. Могул – это спуск по бугристому, кочковатому склону. Ски-кросс – гонка по специальной горнолыжной трассе, включающая в себя снежные препятствия в виде различных трамплинов, волн, и виражей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38" name="Picture 9" descr="CAX9BB7R"/>
          <p:cNvPicPr/>
          <p:nvPr/>
        </p:nvPicPr>
        <p:blipFill>
          <a:blip r:embed="rId2"/>
          <a:stretch/>
        </p:blipFill>
        <p:spPr>
          <a:xfrm>
            <a:off x="157320" y="380880"/>
            <a:ext cx="1439640" cy="9558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1" descr="Women"/>
          <p:cNvPicPr/>
          <p:nvPr/>
        </p:nvPicPr>
        <p:blipFill>
          <a:blip r:embed="rId3"/>
          <a:stretch/>
        </p:blipFill>
        <p:spPr>
          <a:xfrm>
            <a:off x="990720" y="4648320"/>
            <a:ext cx="3200400" cy="18399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2" descr="200px-Skijaguars1thb"/>
          <p:cNvPicPr/>
          <p:nvPr/>
        </p:nvPicPr>
        <p:blipFill>
          <a:blip r:embed="rId4"/>
          <a:stretch/>
        </p:blipFill>
        <p:spPr>
          <a:xfrm>
            <a:off x="2895480" y="205740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3"/>
          <p:cNvSpPr/>
          <p:nvPr/>
        </p:nvSpPr>
        <p:spPr>
          <a:xfrm>
            <a:off x="1219320" y="6394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Ски-кросс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42" name="Text Box 14"/>
          <p:cNvSpPr/>
          <p:nvPr/>
        </p:nvSpPr>
        <p:spPr>
          <a:xfrm>
            <a:off x="152280" y="4191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Могул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43" name="Text Box 15"/>
          <p:cNvSpPr/>
          <p:nvPr/>
        </p:nvSpPr>
        <p:spPr>
          <a:xfrm>
            <a:off x="266688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Лыжная акробатика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44" name="Picture 16" descr="mogul"/>
          <p:cNvPicPr/>
          <p:nvPr/>
        </p:nvPicPr>
        <p:blipFill>
          <a:blip r:embed="rId5"/>
          <a:stretch/>
        </p:blipFill>
        <p:spPr>
          <a:xfrm>
            <a:off x="228600" y="2057400"/>
            <a:ext cx="24685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WordArt 2"/>
          <p:cNvSpPr txBox="1"/>
          <p:nvPr/>
        </p:nvSpPr>
        <p:spPr>
          <a:xfrm>
            <a:off x="1828800" y="152280"/>
            <a:ext cx="5133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кк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шайб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47" name="Picture 5" descr="maltsev-1"/>
          <p:cNvPicPr/>
          <p:nvPr/>
        </p:nvPicPr>
        <p:blipFill>
          <a:blip r:embed="rId1"/>
          <a:stretch/>
        </p:blipFill>
        <p:spPr>
          <a:xfrm>
            <a:off x="228600" y="2133720"/>
            <a:ext cx="4800600" cy="41958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6"/>
          <p:cNvSpPr/>
          <p:nvPr/>
        </p:nvSpPr>
        <p:spPr>
          <a:xfrm>
            <a:off x="5181480" y="1752480"/>
            <a:ext cx="3962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портивная игра, заключающаяся в противоборстве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вух команд, которые, передавая шайбу клюшками,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тремятся забросить её наибольшее количество раз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ворота соперника и не пропустить в свои.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беждает команда, забросившая наибольшее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личество шайб в ворота соперника.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тносится к игровым (командным) видам спорта.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49" name="Picture 7" descr="olimpijskie-koltsa"/>
          <p:cNvPicPr/>
          <p:nvPr/>
        </p:nvPicPr>
        <p:blipFill>
          <a:blip r:embed="rId2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8" descr="fc5815c6a53f"/>
          <p:cNvPicPr/>
          <p:nvPr/>
        </p:nvPicPr>
        <p:blipFill>
          <a:blip r:embed="rId3"/>
          <a:stretch/>
        </p:blipFill>
        <p:spPr>
          <a:xfrm>
            <a:off x="157320" y="338040"/>
            <a:ext cx="1439640" cy="1152720"/>
          </a:xfrm>
          <a:prstGeom prst="rect">
            <a:avLst/>
          </a:prstGeom>
          <a:ln w="0">
            <a:noFill/>
          </a:ln>
        </p:spPr>
      </p:pic>
      <p:sp>
        <p:nvSpPr>
          <p:cNvPr id="651" name="WordArt 9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орт-тре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3" name="Picture 3" descr="1998W_short_track"/>
          <p:cNvPicPr/>
          <p:nvPr/>
        </p:nvPicPr>
        <p:blipFill>
          <a:blip r:embed="rId1"/>
          <a:stretch/>
        </p:blipFill>
        <p:spPr>
          <a:xfrm>
            <a:off x="228600" y="2057400"/>
            <a:ext cx="4800600" cy="453384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4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55" name="Picture 5" descr="olimpijskie-koltsa"/>
          <p:cNvPicPr/>
          <p:nvPr/>
        </p:nvPicPr>
        <p:blipFill>
          <a:blip r:embed="rId2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56" name="WordArt 6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5257800" y="2133720"/>
            <a:ext cx="3733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ид скоростного бега на коньках, заключающийся в максимально быстром преодолении дистанции внутри хоккейной площадки (окружность катка – 111,12 м).</a:t>
            </a:r>
            <a:r>
              <a:rPr b="0" lang="ru-RU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58" name="Picture 9" descr="Шорт"/>
          <p:cNvPicPr/>
          <p:nvPr/>
        </p:nvPicPr>
        <p:blipFill>
          <a:blip r:embed="rId3"/>
          <a:stretch/>
        </p:blipFill>
        <p:spPr>
          <a:xfrm>
            <a:off x="157320" y="378000"/>
            <a:ext cx="1439640" cy="102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5" descr="olimpijskie-koltsa"/>
          <p:cNvPicPr/>
          <p:nvPr/>
        </p:nvPicPr>
        <p:blipFill>
          <a:blip r:embed="rId1"/>
          <a:stretch/>
        </p:blipFill>
        <p:spPr>
          <a:xfrm>
            <a:off x="7308720" y="304920"/>
            <a:ext cx="1689120" cy="847440"/>
          </a:xfrm>
          <a:prstGeom prst="rect">
            <a:avLst/>
          </a:prstGeom>
          <a:ln w="0">
            <a:noFill/>
          </a:ln>
        </p:spPr>
      </p:pic>
      <p:sp>
        <p:nvSpPr>
          <p:cNvPr id="660" name="WordArt 8"/>
          <p:cNvSpPr txBox="1"/>
          <p:nvPr/>
        </p:nvSpPr>
        <p:spPr>
          <a:xfrm>
            <a:off x="914400" y="152280"/>
            <a:ext cx="6248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лимпийск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152280" y="2895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cc"/>
                </a:solidFill>
                <a:uFillTx/>
                <a:latin typeface="Verdana"/>
              </a:rPr>
              <a:t>Презентацию подготовил: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62" name="Text Box 13"/>
          <p:cNvSpPr/>
          <p:nvPr/>
        </p:nvSpPr>
        <p:spPr>
          <a:xfrm>
            <a:off x="4367160" y="2363760"/>
            <a:ext cx="4114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399"/>
                </a:solidFill>
                <a:latin typeface="Verdana"/>
              </a:rPr>
              <a:t>Ученик 11 класса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399"/>
                </a:solidFill>
                <a:latin typeface="Verdana"/>
              </a:rPr>
              <a:t>МОУ «Тверская СОШ» 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99"/>
                </a:solidFill>
                <a:latin typeface="Verdana"/>
              </a:rPr>
              <a:t>Логинов Никита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2841480" y="6308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Verdana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64" name="Picture 18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3962160" cy="2666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Фото1663"/>
          <p:cNvPicPr/>
          <p:nvPr/>
        </p:nvPicPr>
        <p:blipFill>
          <a:blip r:embed="rId3"/>
          <a:stretch/>
        </p:blipFill>
        <p:spPr>
          <a:xfrm>
            <a:off x="4876920" y="4152960"/>
            <a:ext cx="412092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бс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39" name="Picture 5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6"/>
          <p:cNvSpPr/>
          <p:nvPr/>
        </p:nvSpPr>
        <p:spPr>
          <a:xfrm>
            <a:off x="5181480" y="1905120"/>
            <a:ext cx="38102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Вид спорта, представляющий собой скоростной спуск с гор по специально оборудованным ледовым трассам на управляемых санях - бобах. Бобслей относится к техническим видам спорта</a:t>
            </a:r>
            <a:r>
              <a:rPr b="1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41" name="Picture 7" descr="otv2"/>
          <p:cNvPicPr/>
          <p:nvPr/>
        </p:nvPicPr>
        <p:blipFill>
          <a:blip r:embed="rId2"/>
          <a:stretch/>
        </p:blipFill>
        <p:spPr>
          <a:xfrm>
            <a:off x="228600" y="2057400"/>
            <a:ext cx="4800600" cy="4414680"/>
          </a:xfrm>
          <a:prstGeom prst="rect">
            <a:avLst/>
          </a:prstGeom>
          <a:ln w="0">
            <a:noFill/>
          </a:ln>
        </p:spPr>
      </p:pic>
      <p:sp>
        <p:nvSpPr>
          <p:cNvPr id="542" name="WordArt 8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3" name="Picture 9" descr="Современный боб - двойки"/>
          <p:cNvPicPr/>
          <p:nvPr/>
        </p:nvPicPr>
        <p:blipFill>
          <a:blip r:embed="rId3"/>
          <a:stretch/>
        </p:blipFill>
        <p:spPr>
          <a:xfrm>
            <a:off x="152280" y="380880"/>
            <a:ext cx="1440000" cy="993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атл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5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5181480" y="21337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Вид спорта, сочетающий</a:t>
            </a:r>
            <a:endParaRPr b="0" lang="en-US" sz="21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лыжную гонку со стрельбой из малокалиберной винтовки на огневых рубежах. Каждый спортсмен должен пройти на лыжах несколько кругов. Стрельба после каждого круга. Зимнее двоеборье. Относится к циклическим видам спорта.</a:t>
            </a:r>
            <a:endParaRPr b="0" lang="en-US" sz="21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47" name="Picture 5" descr="539881fbbc7e"/>
          <p:cNvPicPr/>
          <p:nvPr/>
        </p:nvPicPr>
        <p:blipFill>
          <a:blip r:embed="rId1"/>
          <a:stretch/>
        </p:blipFill>
        <p:spPr>
          <a:xfrm>
            <a:off x="304920" y="2057400"/>
            <a:ext cx="4724280" cy="45720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6" descr="75127804"/>
          <p:cNvPicPr/>
          <p:nvPr/>
        </p:nvPicPr>
        <p:blipFill>
          <a:blip r:embed="rId2"/>
          <a:stretch/>
        </p:blipFill>
        <p:spPr>
          <a:xfrm>
            <a:off x="152280" y="380880"/>
            <a:ext cx="1440000" cy="10224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olimpijskie-koltsa"/>
          <p:cNvPicPr/>
          <p:nvPr/>
        </p:nvPicPr>
        <p:blipFill>
          <a:blip r:embed="rId3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50" name="WordArt 8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WordArt 2"/>
          <p:cNvSpPr txBox="1"/>
          <p:nvPr/>
        </p:nvSpPr>
        <p:spPr>
          <a:xfrm>
            <a:off x="1828800" y="152280"/>
            <a:ext cx="5133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нолыж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53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54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5181480" y="1828800"/>
            <a:ext cx="3810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ид спорта – спуск с гор на специальных лыжах. Включает пять спортивных дисциплин: слалом, гигантский слалом, супергигант, скоростной спуск, альпийское двоеборье. Во время спуска с гор спортсмены должны преодолеть специальные трассы, размеченные воротами и флагами. Относится к сложно координационным видам спорта.</a:t>
            </a:r>
            <a:r>
              <a:rPr b="0" lang="ru-RU" sz="20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56" name="Picture 7" descr="Hahnenkamm%20Downhill(1)"/>
          <p:cNvPicPr/>
          <p:nvPr/>
        </p:nvPicPr>
        <p:blipFill>
          <a:blip r:embed="rId2"/>
          <a:stretch/>
        </p:blipFill>
        <p:spPr>
          <a:xfrm>
            <a:off x="150840" y="380880"/>
            <a:ext cx="1440000" cy="9651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Gornyie-lyzhi-1329-1"/>
          <p:cNvPicPr/>
          <p:nvPr/>
        </p:nvPicPr>
        <p:blipFill>
          <a:blip r:embed="rId3"/>
          <a:stretch/>
        </p:blipFill>
        <p:spPr>
          <a:xfrm>
            <a:off x="1066680" y="4191120"/>
            <a:ext cx="2925720" cy="2133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Super%20GS"/>
          <p:cNvPicPr/>
          <p:nvPr/>
        </p:nvPicPr>
        <p:blipFill>
          <a:blip r:embed="rId4"/>
          <a:stretch/>
        </p:blipFill>
        <p:spPr>
          <a:xfrm>
            <a:off x="2743200" y="2057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0" descr="Slalom"/>
          <p:cNvPicPr/>
          <p:nvPr/>
        </p:nvPicPr>
        <p:blipFill>
          <a:blip r:embed="rId5"/>
          <a:stretch/>
        </p:blipFill>
        <p:spPr>
          <a:xfrm>
            <a:off x="228600" y="2057400"/>
            <a:ext cx="2286000" cy="17161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1"/>
          <p:cNvSpPr/>
          <p:nvPr/>
        </p:nvSpPr>
        <p:spPr>
          <a:xfrm>
            <a:off x="53352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Слалом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2666880" y="3733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Скоростной спуск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106668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Гигантский слалом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ёрлин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65" name="Picture 4" descr="34429553_x_449b5b17aa"/>
          <p:cNvPicPr/>
          <p:nvPr/>
        </p:nvPicPr>
        <p:blipFill>
          <a:blip r:embed="rId1"/>
          <a:stretch/>
        </p:blipFill>
        <p:spPr>
          <a:xfrm>
            <a:off x="228600" y="2057400"/>
            <a:ext cx="4724280" cy="451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olimpijskie-koltsa"/>
          <p:cNvPicPr/>
          <p:nvPr/>
        </p:nvPicPr>
        <p:blipFill>
          <a:blip r:embed="rId2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67" name="WordArt 6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5181480" y="1981080"/>
            <a:ext cx="381024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. Относится к командным видам спорта.</a:t>
            </a: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69" name="Picture 8" descr="2006_curling_stone"/>
          <p:cNvPicPr/>
          <p:nvPr/>
        </p:nvPicPr>
        <p:blipFill>
          <a:blip r:embed="rId3"/>
          <a:stretch/>
        </p:blipFill>
        <p:spPr>
          <a:xfrm>
            <a:off x="152280" y="378000"/>
            <a:ext cx="1440000" cy="1072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ыжное двоебор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1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72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73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181480" y="1828800"/>
            <a:ext cx="37339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ид спорта, включающий прыжки с трамплина и лыжные гонки. каждый участник сначала совершает 2 прыжка с 90-метрового трамплина, а затем принимает участие в гонке на 15 км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75" name="Picture 13" descr="Лыжное двоеборье - XVIII Зимние Олимпийские игры 1998 год – Нагано (Япония)"/>
          <p:cNvPicPr/>
          <p:nvPr/>
        </p:nvPicPr>
        <p:blipFill>
          <a:blip r:embed="rId2"/>
          <a:stretch/>
        </p:blipFill>
        <p:spPr>
          <a:xfrm>
            <a:off x="157320" y="380880"/>
            <a:ext cx="1439640" cy="979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Лыжное двоеборье, лыжная гонка - XVI Зимние Олимпийские игры 1992 год – Альбервиль (Франция)"/>
          <p:cNvPicPr/>
          <p:nvPr/>
        </p:nvPicPr>
        <p:blipFill>
          <a:blip r:embed="rId3"/>
          <a:stretch/>
        </p:blipFill>
        <p:spPr>
          <a:xfrm>
            <a:off x="2819520" y="2438280"/>
            <a:ext cx="2225520" cy="33530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5" descr="Полётная фаза прыжка V стилем - 1998 год"/>
          <p:cNvPicPr/>
          <p:nvPr/>
        </p:nvPicPr>
        <p:blipFill>
          <a:blip r:embed="rId4"/>
          <a:stretch/>
        </p:blipFill>
        <p:spPr>
          <a:xfrm>
            <a:off x="228600" y="2438280"/>
            <a:ext cx="2455920" cy="335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ыжный 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80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81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5105520" y="1828800"/>
            <a:ext cx="380988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Гонки на лыжах на определённую дистанцию по специально подготовленной трассе отдельно среди мужчин и женщин. Различают два вида хода: классический (по лыжне) и свободный (коньковый). Относятся к циклическим видам спорта.</a:t>
            </a: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83" name="Picture 7" descr="Л Лазутина_2"/>
          <p:cNvPicPr/>
          <p:nvPr/>
        </p:nvPicPr>
        <p:blipFill>
          <a:blip r:embed="rId2"/>
          <a:stretch/>
        </p:blipFill>
        <p:spPr>
          <a:xfrm>
            <a:off x="157320" y="380880"/>
            <a:ext cx="1439640" cy="866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1998W_cross_skiling"/>
          <p:cNvPicPr/>
          <p:nvPr/>
        </p:nvPicPr>
        <p:blipFill>
          <a:blip r:embed="rId3"/>
          <a:stretch/>
        </p:blipFill>
        <p:spPr>
          <a:xfrm>
            <a:off x="228600" y="2057400"/>
            <a:ext cx="1905120" cy="38098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10"/>
          <p:cNvSpPr/>
          <p:nvPr/>
        </p:nvSpPr>
        <p:spPr>
          <a:xfrm>
            <a:off x="22860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Классический стиль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274320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Свободный  стиль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87" name="Picture 12" descr="3_Ski"/>
          <p:cNvPicPr/>
          <p:nvPr/>
        </p:nvPicPr>
        <p:blipFill>
          <a:blip r:embed="rId4"/>
          <a:stretch/>
        </p:blipFill>
        <p:spPr>
          <a:xfrm>
            <a:off x="2286000" y="2057400"/>
            <a:ext cx="26290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89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90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5105520" y="1828800"/>
            <a:ext cx="380988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Гонки на лыжах на определённую дистанцию по специально подготовленной трассе отдельно среди мужчин и женщин. Различают два вида хода: классический (по лыжне) и свободный (коньковый). Относятся к циклическим видам спорта.</a:t>
            </a: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92" name="WordArt 12"/>
          <p:cNvSpPr txBox="1"/>
          <p:nvPr/>
        </p:nvSpPr>
        <p:spPr>
          <a:xfrm>
            <a:off x="1828800" y="152280"/>
            <a:ext cx="5133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ыжки на лыж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трампл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3" name="Picture 14" descr="К Фунаки_1"/>
          <p:cNvPicPr/>
          <p:nvPr/>
        </p:nvPicPr>
        <p:blipFill>
          <a:blip r:embed="rId2"/>
          <a:stretch/>
        </p:blipFill>
        <p:spPr>
          <a:xfrm>
            <a:off x="157320" y="380880"/>
            <a:ext cx="1439640" cy="1001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6" descr="1285560985_111"/>
          <p:cNvPicPr/>
          <p:nvPr/>
        </p:nvPicPr>
        <p:blipFill>
          <a:blip r:embed="rId3"/>
          <a:stretch/>
        </p:blipFill>
        <p:spPr>
          <a:xfrm>
            <a:off x="228600" y="2362320"/>
            <a:ext cx="4800600" cy="3606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нный 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97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98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9" name="Picture 6" descr="Скоростной спуск на двухместных (микс) санях - 2002 год"/>
          <p:cNvPicPr/>
          <p:nvPr/>
        </p:nvPicPr>
        <p:blipFill>
          <a:blip r:embed="rId2"/>
          <a:stretch/>
        </p:blipFill>
        <p:spPr>
          <a:xfrm>
            <a:off x="304920" y="2057400"/>
            <a:ext cx="4647960" cy="4421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А это - XIX Зимние Олимпийские игры 2002 год – Солт-Лейк-Сити (США)"/>
          <p:cNvPicPr/>
          <p:nvPr/>
        </p:nvPicPr>
        <p:blipFill>
          <a:blip r:embed="rId3"/>
          <a:stretch/>
        </p:blipFill>
        <p:spPr>
          <a:xfrm>
            <a:off x="157320" y="378000"/>
            <a:ext cx="1439640" cy="97308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8"/>
          <p:cNvSpPr/>
          <p:nvPr/>
        </p:nvSpPr>
        <p:spPr>
          <a:xfrm>
            <a:off x="5181480" y="1905120"/>
            <a:ext cx="381024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Скоростной спуск на спортивных санях по специально изготовленным трассам длиной 800 – 1200 м. Соревнования проводятся среди мужчин и женщин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1-20T10:10:23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