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dt" idx="1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B0F62-914C-43E8-8403-B40BDD1B919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D71A6-B6ED-4BD8-9849-E827721B7E9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4F49B-6F4F-4C4B-8B6F-4976776C5CA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D11B2-562B-403A-8A64-18F91ED5862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F990B-4276-47A2-8B80-1FD4C772271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8620B-AA3D-43EB-B002-1EEA0377C66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58057-7158-4E26-BFD2-D588A099F0A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D9CE4-B437-498F-9C38-1F3B2064629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C3BF1-05A4-40DF-A901-0BD14ED9AFA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2D4C3-91FE-4910-81B0-FCEEB0FE09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85B2-72BE-4AF5-A84D-94DAB108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BD7A0-621D-44C7-80CF-6BD83F7D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C8843-B6CD-46A6-BBA7-2991A67C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7C804-C34D-40F4-BFF0-62AF21D2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D3D38-FA15-4A82-BD16-8087D3DA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0134F-AA8C-4269-A260-CC60F81E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07BB-3CEC-4C10-A646-8C14BDB4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3AC8C-3C3E-45DC-AD92-70F0D065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0A1C3-4F72-4657-8006-31B989F7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D3840-3C87-4194-9F00-CEEB6798D6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9717C-2099-45BA-A139-3BBF920B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2036-9E08-40BD-BD5B-641E7E1E8C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5FABA-326B-4616-94C8-F9ECEB5866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C36BD-039F-4172-8467-74771373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AA649-9F4D-4A8E-901A-33C1BBDB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9A0C3-C98C-4D30-B07D-2F63E7C1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CE1FE-D094-47E7-925F-6AE41699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331EF-14CC-428F-9935-A5248423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1D929-572F-4D31-AE66-2CF629BC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15869-371D-4E57-8756-03E38BB7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8FFB6-7708-4BFF-9290-93E79B4E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E283E-BF02-4EEA-B2F1-BDA2C58A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77EF9-F4B0-4969-9954-420E88DE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0A8BF-EA1C-4B15-8CC4-6CABE6AD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DCAAA-72B1-4EAA-8982-3B5961AFFB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A159-F578-43A3-A173-9F5F5CCAA3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F37B-5B7A-4F97-A6ED-96555895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E52C-043F-444A-97FD-0BD885C0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D26C-546C-4864-9A9D-3C1C2A57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750F-B32B-4C33-8996-832230D7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1C6A-DA13-4993-842A-6289674E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D74B-B01C-462D-80F4-082A483D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869A-5AF0-49CE-AF30-5B6D5818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91F5-40CC-4FFA-968D-9ED1AFB1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6A67-23D4-42E7-93D0-B90A1142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9D5D-B6BD-4C4D-BA4C-AB2D63D5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AA99-52CC-486F-B755-6E1F5E8C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7FD1-7E1B-4D04-B930-FB10A74255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77E50-2D72-4EDD-ABF1-C6C8DD0B3C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D44CE-7F07-4A60-8666-4931186C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62C4E-84A3-489A-ACCD-D9AFA7E5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5E93-DC91-443E-BD0B-520053B9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CCC85-3343-4F16-A773-C33F2F45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55F7A-612E-43FD-ACB8-51CB419C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AD5ED-DF45-428B-96D4-A10A1F5F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747E7-258B-4E5C-B236-B2B223BD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CE902-79EF-49EC-B273-B6387280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978F3-DB52-40A2-B54F-422B4190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966E3-350F-403C-B4E8-81823142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A64B7-BC96-4DE1-A972-96E7BF16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928F8-97EF-47DB-895F-E6EA63BBDA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9AFBB-67F1-4A3C-B56C-E1A60C17BA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A8BC-22AF-409C-9DC0-8390DDCB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6537A-1B19-4791-A9EE-0AF804E3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A3EE84-04A5-4CAC-95E2-D1A65C75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2AAA8-A83C-4A36-8FC1-3FE53401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97B360-6DDA-4F9A-8082-4B71BD25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1D1EF-55D2-4367-A7CE-ECC97D7B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2AA155-9D6B-4C29-BF47-11EEC0CD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AE225F-B3BB-403A-9DD2-1F37973F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BB1A4E-2408-44E2-AC8C-A90F4ADE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26D4B3-29FF-4AD5-BB7A-D173F260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AB2296-ECED-47EE-9F0B-ED2457E6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1D42-100E-4BCD-B8BC-8B5A3CF5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9CB643-F29A-438F-83A6-07A2E76B30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85EFA-9C9E-414E-9DF3-81CF3A521C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95DC6-E781-4E43-9724-233810BD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0BC68-5486-49BC-99FB-3D2441A8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29FCA-C4A7-46A5-8A0C-D1AB61C1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62F16-59E5-4283-9EF5-20AE3AAF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5F76D-DEDE-4A60-B9FA-B7F60A5A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1FAC5-AEF7-4EC6-9624-8179F879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6741C-9C12-4926-A896-F20E01E4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737F6-075A-46BC-9D64-DF4F6406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5453-42DE-4520-B34F-587A8182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07190-01DA-41C1-B7ED-6E6EA3CC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3AE19-88B5-463F-BA5E-D1C41ACD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DF1CB-1B59-48D6-ABE6-D80FFA7BC7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2D0A8-D4AA-4E8B-A506-D36BFE0E38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29611-519A-417B-9BA3-70EF9D9F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726AD-DB1A-47F3-98FE-81ABB6BF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AE1AC-E41F-4E36-A9AF-DE6032EA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7D1D8-2B2A-4434-887B-A084D5B2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1213E6-487E-4023-9F81-79E3781E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D8799-3E4B-4712-B6CA-41C1DDF3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0AE8-FBC1-4D3E-96AD-52508509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2FFB27-8817-4F02-8345-DA52AFB7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9A06CE-FC40-4656-832D-C11E6A3B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550E97-773A-4780-A352-6E3341D4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52247-6EC6-4D00-A09A-0901DACE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A5A882-C6AF-43ED-AC53-881715E6FF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B92305-1A92-427A-8B11-6ED24A48DC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D352A4-96FC-46F5-9C66-58DEEF3B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84DDB4-6C07-41A2-8984-FEEE86E9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C5C7BE-AA5E-4DE3-BEAE-6BAEF4DF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1E2598-5E3D-4284-BCAA-E8F02CDF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FD4A-3A84-44E5-A93C-C836932C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748DAA-F789-44D3-A3B0-EEF2D667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03BE4D-623F-4F66-B582-5C39E26C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0D2272-6669-4514-9B01-766428D8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F749AC-CF9F-43CD-847A-88010805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4EB1A0-8D8B-4324-9CE8-52F88EC7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912019-3F7E-4186-9103-929ABE43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74EFE8-A767-425C-9CDB-793F362AC5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CE404-DAC4-4811-8F7A-443DB80F36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F79C1-95BC-47FD-B5A7-0EA11F39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87139-0AF2-4F36-B9EE-463A80B0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12640" y="1042920"/>
            <a:ext cx="8629920" cy="15840"/>
            <a:chOff x="512640" y="1042920"/>
            <a:chExt cx="8629920" cy="1584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9920" cy="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76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7120"/>
            <a:ext cx="760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87683E-65E9-4100-B3B5-6975E0024C5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12640" y="1042920"/>
            <a:ext cx="8629920" cy="15840"/>
            <a:chOff x="512640" y="1042920"/>
            <a:chExt cx="8629920" cy="1584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9920" cy="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12640" y="1054080"/>
            <a:ext cx="8629920" cy="11160"/>
            <a:chOff x="512640" y="1054080"/>
            <a:chExt cx="8629920" cy="1116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99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12640" y="5346720"/>
            <a:ext cx="8629920" cy="9360"/>
            <a:chOff x="512640" y="5346720"/>
            <a:chExt cx="8629920" cy="936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29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582D6F7-7CEE-4B50-904D-99D4175B3BA6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12640" y="1042920"/>
            <a:ext cx="8629920" cy="15840"/>
            <a:chOff x="512640" y="1042920"/>
            <a:chExt cx="8629920" cy="1584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9920" cy="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12640" y="1042920"/>
            <a:ext cx="8629920" cy="15840"/>
            <a:chOff x="512640" y="1042920"/>
            <a:chExt cx="8629920" cy="1584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9920" cy="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12640" y="1054080"/>
            <a:ext cx="8629920" cy="11160"/>
            <a:chOff x="512640" y="1054080"/>
            <a:chExt cx="8629920" cy="1116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99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5219ECA-35A2-4A92-8B71-5F87C2973BEF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12640" y="3438360"/>
            <a:ext cx="8629920" cy="9720"/>
            <a:chOff x="512640" y="3438360"/>
            <a:chExt cx="8629920" cy="972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299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828FF9D-C31A-48AA-AD94-9A22BCE8FAEC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12640" y="6016680"/>
            <a:ext cx="8629920" cy="11160"/>
            <a:chOff x="512640" y="6016680"/>
            <a:chExt cx="8629920" cy="1116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299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EBF3238-F8EB-4FF7-A888-1C5026EEB6D7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7B7A7EC-892D-402F-A467-09A2BC8EFB29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"/>
          <p:cNvGrpSpPr/>
          <p:nvPr/>
        </p:nvGrpSpPr>
        <p:grpSpPr>
          <a:xfrm>
            <a:off x="512640" y="5846760"/>
            <a:ext cx="8629920" cy="9360"/>
            <a:chOff x="512640" y="5846760"/>
            <a:chExt cx="8629920" cy="9360"/>
          </a:xfrm>
        </p:grpSpPr>
        <p:pic>
          <p:nvPicPr>
            <p:cNvPr id="274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29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E3879FF-DB4E-4EF8-91D6-563867D26A73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D7A8596-6C58-4339-8B58-CF89056B7F5F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BD70697-8286-4462-84C9-C5BDAEFC9FDD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hyperlink" Target="mailto:ds35mr@spb.edu.ru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1"/>
          <p:cNvGrpSpPr/>
          <p:nvPr/>
        </p:nvGrpSpPr>
        <p:grpSpPr>
          <a:xfrm>
            <a:off x="469800" y="1652760"/>
            <a:ext cx="8496360" cy="4471920"/>
            <a:chOff x="469800" y="1652760"/>
            <a:chExt cx="8496360" cy="4471920"/>
          </a:xfrm>
        </p:grpSpPr>
        <p:pic>
          <p:nvPicPr>
            <p:cNvPr id="408" name="Picture 2" descr=""/>
            <p:cNvPicPr/>
            <p:nvPr/>
          </p:nvPicPr>
          <p:blipFill>
            <a:blip r:embed="rId1"/>
            <a:stretch/>
          </p:blipFill>
          <p:spPr>
            <a:xfrm>
              <a:off x="469800" y="1652760"/>
              <a:ext cx="8496360" cy="44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3"/>
            <p:cNvSpPr/>
            <p:nvPr/>
          </p:nvSpPr>
          <p:spPr>
            <a:xfrm>
              <a:off x="469800" y="1652760"/>
              <a:ext cx="8496360" cy="44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410" name="Text Box 4"/>
          <p:cNvSpPr/>
          <p:nvPr/>
        </p:nvSpPr>
        <p:spPr>
          <a:xfrm>
            <a:off x="179280" y="115920"/>
            <a:ext cx="84582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Государственное Дошкольное образовательное учреждение Детский сад №35 компенсирующего вида с приоритетным осуществлением квалифицированной коррекции отклонений в физическом и психическом развитии воспитанников Московского района 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г. Санкт-Петербурга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"/>
          <p:cNvGrpSpPr/>
          <p:nvPr/>
        </p:nvGrpSpPr>
        <p:grpSpPr>
          <a:xfrm>
            <a:off x="244440" y="231840"/>
            <a:ext cx="8690040" cy="893520"/>
            <a:chOff x="244440" y="231840"/>
            <a:chExt cx="8690040" cy="893520"/>
          </a:xfrm>
        </p:grpSpPr>
        <p:pic>
          <p:nvPicPr>
            <p:cNvPr id="412" name="Picture 2" descr=""/>
            <p:cNvPicPr/>
            <p:nvPr/>
          </p:nvPicPr>
          <p:blipFill>
            <a:blip r:embed="rId1"/>
            <a:stretch/>
          </p:blipFill>
          <p:spPr>
            <a:xfrm>
              <a:off x="244440" y="231840"/>
              <a:ext cx="869004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 Box 3"/>
            <p:cNvSpPr/>
            <p:nvPr/>
          </p:nvSpPr>
          <p:spPr>
            <a:xfrm>
              <a:off x="244440" y="231840"/>
              <a:ext cx="869004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14" name="Group 4"/>
          <p:cNvGrpSpPr/>
          <p:nvPr/>
        </p:nvGrpSpPr>
        <p:grpSpPr>
          <a:xfrm>
            <a:off x="324000" y="1413000"/>
            <a:ext cx="3741480" cy="2428920"/>
            <a:chOff x="324000" y="1413000"/>
            <a:chExt cx="3741480" cy="2428920"/>
          </a:xfrm>
        </p:grpSpPr>
        <p:pic>
          <p:nvPicPr>
            <p:cNvPr id="415" name="Picture 5" descr=""/>
            <p:cNvPicPr/>
            <p:nvPr/>
          </p:nvPicPr>
          <p:blipFill>
            <a:blip r:embed="rId2"/>
            <a:stretch/>
          </p:blipFill>
          <p:spPr>
            <a:xfrm>
              <a:off x="324000" y="1413000"/>
              <a:ext cx="3741480" cy="24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6"/>
            <p:cNvSpPr/>
            <p:nvPr/>
          </p:nvSpPr>
          <p:spPr>
            <a:xfrm>
              <a:off x="324000" y="1413000"/>
              <a:ext cx="374148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417" name="Text Box 7"/>
          <p:cNvSpPr/>
          <p:nvPr/>
        </p:nvSpPr>
        <p:spPr>
          <a:xfrm>
            <a:off x="4648320" y="1600200"/>
            <a:ext cx="4343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ГДОУ детский сад №35 находится по адресу:  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196105, г. Санкт-Петербург, ул. Кузнецовская, 42. 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Тел../ факс: 388-39-49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4e3b30"/>
                </a:solidFill>
                <a:latin typeface="Franklin Gothic Book"/>
              </a:rPr>
              <a:t>e-mail</a:t>
            </a: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Franklin Gothic Book"/>
                <a:hlinkClick r:id="rId3"/>
              </a:rPr>
              <a:t>ds35mr@spb.edu.ru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Детский сад является встроенным в жилое здание.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Функционируют 4 возрастные группы: 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младшая, средняя, старшая, подготовительная.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В нашем саду детей с </a:t>
            </a:r>
            <a:r>
              <a:rPr b="1" lang="en-US" sz="14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 группой здоровья нет. Основная масса – это  дети со </a:t>
            </a:r>
            <a:r>
              <a:rPr b="1" lang="en-US" sz="1400" spc="-1" strike="noStrike">
                <a:solidFill>
                  <a:srgbClr val="4e3b30"/>
                </a:solidFill>
                <a:latin typeface="Franklin Gothic Book"/>
              </a:rPr>
              <a:t> II – III</a:t>
            </a: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 группами здоровья. Несколько человек имеют </a:t>
            </a:r>
            <a:r>
              <a:rPr b="1" lang="en-US" sz="1400" spc="-1" strike="noStrike">
                <a:solidFill>
                  <a:srgbClr val="4e3b30"/>
                </a:solidFill>
                <a:latin typeface="Franklin Gothic Book"/>
              </a:rPr>
              <a:t>IV </a:t>
            </a: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группу здоровья.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18" name="Picture 8" descr=""/>
          <p:cNvPicPr/>
          <p:nvPr/>
        </p:nvPicPr>
        <p:blipFill>
          <a:blip r:embed="rId4"/>
          <a:stretch/>
        </p:blipFill>
        <p:spPr>
          <a:xfrm>
            <a:off x="403200" y="4129200"/>
            <a:ext cx="1773360" cy="23637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9" descr=""/>
          <p:cNvPicPr/>
          <p:nvPr/>
        </p:nvPicPr>
        <p:blipFill>
          <a:blip r:embed="rId5"/>
          <a:stretch/>
        </p:blipFill>
        <p:spPr>
          <a:xfrm>
            <a:off x="2340000" y="4159080"/>
            <a:ext cx="17272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1"/>
          <p:cNvGrpSpPr/>
          <p:nvPr/>
        </p:nvGrpSpPr>
        <p:grpSpPr>
          <a:xfrm>
            <a:off x="304920" y="457200"/>
            <a:ext cx="8685000" cy="998640"/>
            <a:chOff x="304920" y="457200"/>
            <a:chExt cx="8685000" cy="998640"/>
          </a:xfrm>
        </p:grpSpPr>
        <p:pic>
          <p:nvPicPr>
            <p:cNvPr id="421" name="Picture 2" descr=""/>
            <p:cNvPicPr/>
            <p:nvPr/>
          </p:nvPicPr>
          <p:blipFill>
            <a:blip r:embed="rId1"/>
            <a:stretch/>
          </p:blipFill>
          <p:spPr>
            <a:xfrm>
              <a:off x="304920" y="457200"/>
              <a:ext cx="86850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 Box 3"/>
            <p:cNvSpPr/>
            <p:nvPr/>
          </p:nvSpPr>
          <p:spPr>
            <a:xfrm>
              <a:off x="304920" y="457200"/>
              <a:ext cx="868500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423" name="Text Box 4"/>
          <p:cNvSpPr/>
          <p:nvPr/>
        </p:nvSpPr>
        <p:spPr>
          <a:xfrm>
            <a:off x="61920" y="1504800"/>
            <a:ext cx="8686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5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Коррекция питания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5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Создание гипоаллергенного 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быта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5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Профилактическая и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оздоровительная работа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5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Коррекционная работа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специалистов 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2"/>
          <a:stretch/>
        </p:blipFill>
        <p:spPr>
          <a:xfrm>
            <a:off x="3219480" y="920880"/>
            <a:ext cx="1985760" cy="1670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3"/>
          <a:stretch/>
        </p:blipFill>
        <p:spPr>
          <a:xfrm>
            <a:off x="5162400" y="938160"/>
            <a:ext cx="1847880" cy="1633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"/>
          <p:cNvPicPr/>
          <p:nvPr/>
        </p:nvPicPr>
        <p:blipFill>
          <a:blip r:embed="rId4"/>
          <a:stretch/>
        </p:blipFill>
        <p:spPr>
          <a:xfrm>
            <a:off x="4473720" y="2467080"/>
            <a:ext cx="1223640" cy="15080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"/>
          <p:cNvPicPr/>
          <p:nvPr/>
        </p:nvPicPr>
        <p:blipFill>
          <a:blip r:embed="rId5"/>
          <a:stretch/>
        </p:blipFill>
        <p:spPr>
          <a:xfrm>
            <a:off x="5918040" y="2538360"/>
            <a:ext cx="1629000" cy="1322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"/>
          <p:cNvPicPr/>
          <p:nvPr/>
        </p:nvPicPr>
        <p:blipFill>
          <a:blip r:embed="rId6"/>
          <a:stretch/>
        </p:blipFill>
        <p:spPr>
          <a:xfrm>
            <a:off x="7693200" y="2395440"/>
            <a:ext cx="1338120" cy="16509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0" descr=""/>
          <p:cNvPicPr/>
          <p:nvPr/>
        </p:nvPicPr>
        <p:blipFill>
          <a:blip r:embed="rId7"/>
          <a:stretch/>
        </p:blipFill>
        <p:spPr>
          <a:xfrm>
            <a:off x="4094280" y="4124160"/>
            <a:ext cx="1400040" cy="10764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"/>
          <p:cNvPicPr/>
          <p:nvPr/>
        </p:nvPicPr>
        <p:blipFill>
          <a:blip r:embed="rId8"/>
          <a:stretch/>
        </p:blipFill>
        <p:spPr>
          <a:xfrm>
            <a:off x="5692680" y="4121280"/>
            <a:ext cx="1403280" cy="10778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2" descr=""/>
          <p:cNvPicPr/>
          <p:nvPr/>
        </p:nvPicPr>
        <p:blipFill>
          <a:blip r:embed="rId9"/>
          <a:stretch/>
        </p:blipFill>
        <p:spPr>
          <a:xfrm>
            <a:off x="7343640" y="4122720"/>
            <a:ext cx="1405080" cy="1076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3" descr=""/>
          <p:cNvPicPr/>
          <p:nvPr/>
        </p:nvPicPr>
        <p:blipFill>
          <a:blip r:embed="rId10"/>
          <a:stretch/>
        </p:blipFill>
        <p:spPr>
          <a:xfrm>
            <a:off x="3708360" y="5405400"/>
            <a:ext cx="1206720" cy="1249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4" descr=""/>
          <p:cNvPicPr/>
          <p:nvPr/>
        </p:nvPicPr>
        <p:blipFill>
          <a:blip r:embed="rId11"/>
          <a:stretch/>
        </p:blipFill>
        <p:spPr>
          <a:xfrm>
            <a:off x="5257800" y="5462640"/>
            <a:ext cx="1314360" cy="11350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5" descr=""/>
          <p:cNvPicPr/>
          <p:nvPr/>
        </p:nvPicPr>
        <p:blipFill>
          <a:blip r:embed="rId12"/>
          <a:stretch/>
        </p:blipFill>
        <p:spPr>
          <a:xfrm>
            <a:off x="7072200" y="5424480"/>
            <a:ext cx="1476360" cy="1195560"/>
          </a:xfrm>
          <a:prstGeom prst="rect">
            <a:avLst/>
          </a:prstGeom>
          <a:ln w="0">
            <a:noFill/>
          </a:ln>
        </p:spPr>
      </p:pic>
      <p:sp>
        <p:nvSpPr>
          <p:cNvPr id="435" name="Freeform 16"/>
          <p:cNvSpPr/>
          <p:nvPr/>
        </p:nvSpPr>
        <p:spPr>
          <a:xfrm>
            <a:off x="2562120" y="1628640"/>
            <a:ext cx="863640" cy="208080"/>
          </a:xfrm>
          <a:custGeom>
            <a:avLst/>
            <a:gdLst/>
            <a:ahLst/>
            <a:rect l="l" t="t" r="r" b="b"/>
            <a:pathLst>
              <a:path w="863600" h="207963">
                <a:moveTo>
                  <a:pt x="0" y="51991"/>
                </a:moveTo>
                <a:lnTo>
                  <a:pt x="6499" y="51991"/>
                </a:lnTo>
                <a:lnTo>
                  <a:pt x="6499" y="155972"/>
                </a:lnTo>
                <a:lnTo>
                  <a:pt x="0" y="155972"/>
                </a:lnTo>
                <a:lnTo>
                  <a:pt x="0" y="51991"/>
                </a:lnTo>
                <a:close/>
                <a:moveTo>
                  <a:pt x="12998" y="51991"/>
                </a:moveTo>
                <a:lnTo>
                  <a:pt x="25995" y="51991"/>
                </a:lnTo>
                <a:lnTo>
                  <a:pt x="25995" y="155972"/>
                </a:lnTo>
                <a:lnTo>
                  <a:pt x="12998" y="155972"/>
                </a:lnTo>
                <a:lnTo>
                  <a:pt x="12998" y="51991"/>
                </a:lnTo>
                <a:close/>
                <a:moveTo>
                  <a:pt x="32494" y="51991"/>
                </a:moveTo>
                <a:lnTo>
                  <a:pt x="759619" y="51991"/>
                </a:lnTo>
                <a:lnTo>
                  <a:pt x="759619" y="0"/>
                </a:lnTo>
                <a:lnTo>
                  <a:pt x="863600" y="103982"/>
                </a:lnTo>
                <a:lnTo>
                  <a:pt x="759619" y="207963"/>
                </a:lnTo>
                <a:lnTo>
                  <a:pt x="759619" y="155972"/>
                </a:lnTo>
                <a:lnTo>
                  <a:pt x="32494" y="155972"/>
                </a:lnTo>
                <a:lnTo>
                  <a:pt x="32494" y="51991"/>
                </a:lnTo>
                <a:close/>
              </a:path>
            </a:pathLst>
          </a:custGeom>
          <a:gradFill rotWithShape="0">
            <a:gsLst>
              <a:gs pos="0">
                <a:srgbClr val="6c6c6c"/>
              </a:gs>
              <a:gs pos="100000">
                <a:srgbClr val="dadada"/>
              </a:gs>
            </a:gsLst>
            <a:lin ang="5400000"/>
          </a:gradFill>
          <a:ln w="10080">
            <a:solidFill>
              <a:srgbClr val="000000"/>
            </a:solidFill>
            <a:round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6" name="Freeform 17"/>
          <p:cNvSpPr/>
          <p:nvPr/>
        </p:nvSpPr>
        <p:spPr>
          <a:xfrm>
            <a:off x="4915080" y="1671480"/>
            <a:ext cx="448920" cy="181080"/>
          </a:xfrm>
          <a:custGeom>
            <a:avLst/>
            <a:gdLst/>
            <a:ahLst/>
            <a:rect l="l" t="t" r="r" b="b"/>
            <a:pathLst>
              <a:path w="449263" h="180975">
                <a:moveTo>
                  <a:pt x="0" y="45244"/>
                </a:moveTo>
                <a:lnTo>
                  <a:pt x="5655" y="45244"/>
                </a:lnTo>
                <a:lnTo>
                  <a:pt x="5655" y="135731"/>
                </a:lnTo>
                <a:lnTo>
                  <a:pt x="0" y="135731"/>
                </a:lnTo>
                <a:lnTo>
                  <a:pt x="0" y="45244"/>
                </a:lnTo>
                <a:close/>
                <a:moveTo>
                  <a:pt x="11311" y="45244"/>
                </a:moveTo>
                <a:lnTo>
                  <a:pt x="22622" y="45244"/>
                </a:lnTo>
                <a:lnTo>
                  <a:pt x="22622" y="135731"/>
                </a:lnTo>
                <a:lnTo>
                  <a:pt x="11311" y="135731"/>
                </a:lnTo>
                <a:lnTo>
                  <a:pt x="11311" y="45244"/>
                </a:lnTo>
                <a:close/>
                <a:moveTo>
                  <a:pt x="28277" y="45244"/>
                </a:moveTo>
                <a:lnTo>
                  <a:pt x="358776" y="45244"/>
                </a:lnTo>
                <a:lnTo>
                  <a:pt x="358776" y="0"/>
                </a:lnTo>
                <a:lnTo>
                  <a:pt x="449263" y="90488"/>
                </a:lnTo>
                <a:lnTo>
                  <a:pt x="358776" y="180975"/>
                </a:lnTo>
                <a:lnTo>
                  <a:pt x="358776" y="135731"/>
                </a:lnTo>
                <a:lnTo>
                  <a:pt x="28277" y="135731"/>
                </a:lnTo>
                <a:lnTo>
                  <a:pt x="28277" y="45244"/>
                </a:lnTo>
                <a:close/>
              </a:path>
            </a:pathLst>
          </a:custGeom>
          <a:gradFill rotWithShape="0">
            <a:gsLst>
              <a:gs pos="0">
                <a:srgbClr val="6c6c6c"/>
              </a:gs>
              <a:gs pos="100000">
                <a:srgbClr val="dadada"/>
              </a:gs>
            </a:gsLst>
            <a:lin ang="5400000"/>
          </a:gradFill>
          <a:ln w="10080">
            <a:solidFill>
              <a:srgbClr val="000000"/>
            </a:solidFill>
            <a:round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3363840" y="2919240"/>
            <a:ext cx="1146240" cy="301680"/>
          </a:xfrm>
          <a:custGeom>
            <a:avLst/>
            <a:gdLst/>
            <a:ahLst/>
            <a:rect l="l" t="t" r="r" b="b"/>
            <a:pathLst>
              <a:path w="1146175" h="301625">
                <a:moveTo>
                  <a:pt x="0" y="75406"/>
                </a:moveTo>
                <a:lnTo>
                  <a:pt x="9426" y="75406"/>
                </a:lnTo>
                <a:lnTo>
                  <a:pt x="9426" y="226219"/>
                </a:lnTo>
                <a:lnTo>
                  <a:pt x="0" y="226219"/>
                </a:lnTo>
                <a:lnTo>
                  <a:pt x="0" y="75406"/>
                </a:lnTo>
                <a:close/>
                <a:moveTo>
                  <a:pt x="18852" y="75406"/>
                </a:moveTo>
                <a:lnTo>
                  <a:pt x="37703" y="75406"/>
                </a:lnTo>
                <a:lnTo>
                  <a:pt x="37703" y="226219"/>
                </a:lnTo>
                <a:lnTo>
                  <a:pt x="18852" y="226219"/>
                </a:lnTo>
                <a:lnTo>
                  <a:pt x="18852" y="75406"/>
                </a:lnTo>
                <a:close/>
                <a:moveTo>
                  <a:pt x="47129" y="75406"/>
                </a:moveTo>
                <a:lnTo>
                  <a:pt x="995363" y="75406"/>
                </a:lnTo>
                <a:lnTo>
                  <a:pt x="995363" y="0"/>
                </a:lnTo>
                <a:lnTo>
                  <a:pt x="1146175" y="150813"/>
                </a:lnTo>
                <a:lnTo>
                  <a:pt x="995363" y="301625"/>
                </a:lnTo>
                <a:lnTo>
                  <a:pt x="995363" y="226219"/>
                </a:lnTo>
                <a:lnTo>
                  <a:pt x="47129" y="226219"/>
                </a:lnTo>
                <a:lnTo>
                  <a:pt x="47129" y="75406"/>
                </a:lnTo>
                <a:close/>
              </a:path>
            </a:pathLst>
          </a:custGeom>
          <a:gradFill rotWithShape="0">
            <a:gsLst>
              <a:gs pos="0">
                <a:srgbClr val="6c6c6c"/>
              </a:gs>
              <a:gs pos="100000">
                <a:srgbClr val="dadada"/>
              </a:gs>
            </a:gsLst>
            <a:lin ang="5400000"/>
          </a:gradFill>
          <a:ln w="10080">
            <a:solidFill>
              <a:srgbClr val="000000"/>
            </a:solidFill>
            <a:round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8" name="Freeform 19"/>
          <p:cNvSpPr/>
          <p:nvPr/>
        </p:nvSpPr>
        <p:spPr>
          <a:xfrm>
            <a:off x="5580000" y="3070080"/>
            <a:ext cx="504720" cy="150840"/>
          </a:xfrm>
          <a:custGeom>
            <a:avLst/>
            <a:gdLst/>
            <a:ahLst/>
            <a:rect l="l" t="t" r="r" b="b"/>
            <a:pathLst>
              <a:path w="504825" h="150813">
                <a:moveTo>
                  <a:pt x="0" y="37703"/>
                </a:moveTo>
                <a:lnTo>
                  <a:pt x="4713" y="37703"/>
                </a:lnTo>
                <a:lnTo>
                  <a:pt x="4713" y="113110"/>
                </a:lnTo>
                <a:lnTo>
                  <a:pt x="0" y="113110"/>
                </a:lnTo>
                <a:lnTo>
                  <a:pt x="0" y="37703"/>
                </a:lnTo>
                <a:close/>
                <a:moveTo>
                  <a:pt x="9426" y="37703"/>
                </a:moveTo>
                <a:lnTo>
                  <a:pt x="18852" y="37703"/>
                </a:lnTo>
                <a:lnTo>
                  <a:pt x="18852" y="113110"/>
                </a:lnTo>
                <a:lnTo>
                  <a:pt x="9426" y="113110"/>
                </a:lnTo>
                <a:lnTo>
                  <a:pt x="9426" y="37703"/>
                </a:lnTo>
                <a:close/>
                <a:moveTo>
                  <a:pt x="23565" y="37703"/>
                </a:moveTo>
                <a:lnTo>
                  <a:pt x="429419" y="37703"/>
                </a:lnTo>
                <a:lnTo>
                  <a:pt x="429419" y="0"/>
                </a:lnTo>
                <a:lnTo>
                  <a:pt x="504825" y="75407"/>
                </a:lnTo>
                <a:lnTo>
                  <a:pt x="429419" y="150813"/>
                </a:lnTo>
                <a:lnTo>
                  <a:pt x="429419" y="113110"/>
                </a:lnTo>
                <a:lnTo>
                  <a:pt x="23565" y="113110"/>
                </a:lnTo>
                <a:lnTo>
                  <a:pt x="23565" y="37703"/>
                </a:lnTo>
                <a:close/>
              </a:path>
            </a:pathLst>
          </a:custGeom>
          <a:gradFill rotWithShape="0">
            <a:gsLst>
              <a:gs pos="0">
                <a:srgbClr val="6c6c6c"/>
              </a:gs>
              <a:gs pos="100000">
                <a:srgbClr val="dadada"/>
              </a:gs>
            </a:gsLst>
            <a:lin ang="5400000"/>
          </a:gradFill>
          <a:ln w="10080">
            <a:solidFill>
              <a:srgbClr val="000000"/>
            </a:solidFill>
            <a:round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Freeform 20"/>
          <p:cNvSpPr/>
          <p:nvPr/>
        </p:nvSpPr>
        <p:spPr>
          <a:xfrm>
            <a:off x="7451640" y="3070080"/>
            <a:ext cx="358920" cy="128880"/>
          </a:xfrm>
          <a:custGeom>
            <a:avLst/>
            <a:gdLst/>
            <a:ahLst/>
            <a:rect l="l" t="t" r="r" b="b"/>
            <a:pathLst>
              <a:path w="358775" h="128588">
                <a:moveTo>
                  <a:pt x="0" y="32147"/>
                </a:moveTo>
                <a:lnTo>
                  <a:pt x="4018" y="32147"/>
                </a:lnTo>
                <a:lnTo>
                  <a:pt x="4018" y="96441"/>
                </a:lnTo>
                <a:lnTo>
                  <a:pt x="0" y="96441"/>
                </a:lnTo>
                <a:lnTo>
                  <a:pt x="0" y="32147"/>
                </a:lnTo>
                <a:close/>
                <a:moveTo>
                  <a:pt x="8037" y="32147"/>
                </a:moveTo>
                <a:lnTo>
                  <a:pt x="16074" y="32147"/>
                </a:lnTo>
                <a:lnTo>
                  <a:pt x="16074" y="96441"/>
                </a:lnTo>
                <a:lnTo>
                  <a:pt x="8037" y="96441"/>
                </a:lnTo>
                <a:lnTo>
                  <a:pt x="8037" y="32147"/>
                </a:lnTo>
                <a:close/>
                <a:moveTo>
                  <a:pt x="20092" y="32147"/>
                </a:moveTo>
                <a:lnTo>
                  <a:pt x="294481" y="32147"/>
                </a:lnTo>
                <a:lnTo>
                  <a:pt x="294481" y="0"/>
                </a:lnTo>
                <a:lnTo>
                  <a:pt x="358775" y="64294"/>
                </a:lnTo>
                <a:lnTo>
                  <a:pt x="294481" y="128588"/>
                </a:lnTo>
                <a:lnTo>
                  <a:pt x="294481" y="96441"/>
                </a:lnTo>
                <a:lnTo>
                  <a:pt x="20092" y="96441"/>
                </a:lnTo>
                <a:lnTo>
                  <a:pt x="20092" y="32147"/>
                </a:lnTo>
                <a:close/>
              </a:path>
            </a:pathLst>
          </a:custGeom>
          <a:gradFill rotWithShape="0">
            <a:gsLst>
              <a:gs pos="0">
                <a:srgbClr val="6c6c6c"/>
              </a:gs>
              <a:gs pos="100000">
                <a:srgbClr val="dadada"/>
              </a:gs>
            </a:gsLst>
            <a:lin ang="5400000"/>
          </a:gradFill>
          <a:ln w="10080">
            <a:solidFill>
              <a:srgbClr val="000000"/>
            </a:solidFill>
            <a:round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0" name="Freeform 21"/>
          <p:cNvSpPr/>
          <p:nvPr/>
        </p:nvSpPr>
        <p:spPr>
          <a:xfrm>
            <a:off x="2994120" y="4365720"/>
            <a:ext cx="1108080" cy="293760"/>
          </a:xfrm>
          <a:custGeom>
            <a:avLst/>
            <a:gdLst/>
            <a:ahLst/>
            <a:rect l="l" t="t" r="r" b="b"/>
            <a:pathLst>
              <a:path w="1108075" h="293688">
                <a:moveTo>
                  <a:pt x="0" y="73422"/>
                </a:moveTo>
                <a:lnTo>
                  <a:pt x="9178" y="73422"/>
                </a:lnTo>
                <a:lnTo>
                  <a:pt x="9178" y="220266"/>
                </a:lnTo>
                <a:lnTo>
                  <a:pt x="0" y="220266"/>
                </a:lnTo>
                <a:lnTo>
                  <a:pt x="0" y="73422"/>
                </a:lnTo>
                <a:close/>
                <a:moveTo>
                  <a:pt x="18356" y="73422"/>
                </a:moveTo>
                <a:lnTo>
                  <a:pt x="36711" y="73422"/>
                </a:lnTo>
                <a:lnTo>
                  <a:pt x="36711" y="220266"/>
                </a:lnTo>
                <a:lnTo>
                  <a:pt x="18356" y="220266"/>
                </a:lnTo>
                <a:lnTo>
                  <a:pt x="18356" y="73422"/>
                </a:lnTo>
                <a:close/>
                <a:moveTo>
                  <a:pt x="45889" y="73422"/>
                </a:moveTo>
                <a:lnTo>
                  <a:pt x="961231" y="73422"/>
                </a:lnTo>
                <a:lnTo>
                  <a:pt x="961231" y="0"/>
                </a:lnTo>
                <a:lnTo>
                  <a:pt x="1108075" y="146844"/>
                </a:lnTo>
                <a:lnTo>
                  <a:pt x="961231" y="293688"/>
                </a:lnTo>
                <a:lnTo>
                  <a:pt x="961231" y="220266"/>
                </a:lnTo>
                <a:lnTo>
                  <a:pt x="45889" y="220266"/>
                </a:lnTo>
                <a:lnTo>
                  <a:pt x="45889" y="73422"/>
                </a:lnTo>
                <a:close/>
              </a:path>
            </a:pathLst>
          </a:custGeom>
          <a:gradFill rotWithShape="0">
            <a:gsLst>
              <a:gs pos="0">
                <a:srgbClr val="6c6c6c"/>
              </a:gs>
              <a:gs pos="100000">
                <a:srgbClr val="dadada"/>
              </a:gs>
            </a:gsLst>
            <a:lin ang="5400000"/>
          </a:gradFill>
          <a:ln w="10080">
            <a:solidFill>
              <a:srgbClr val="000000"/>
            </a:solidFill>
            <a:round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1" name="Freeform 22"/>
          <p:cNvSpPr/>
          <p:nvPr/>
        </p:nvSpPr>
        <p:spPr>
          <a:xfrm>
            <a:off x="5494320" y="4511520"/>
            <a:ext cx="203040" cy="147960"/>
          </a:xfrm>
          <a:custGeom>
            <a:avLst/>
            <a:gdLst/>
            <a:ahLst/>
            <a:rect l="l" t="t" r="r" b="b"/>
            <a:pathLst>
              <a:path w="203200" h="147638">
                <a:moveTo>
                  <a:pt x="0" y="36910"/>
                </a:moveTo>
                <a:lnTo>
                  <a:pt x="4614" y="36910"/>
                </a:lnTo>
                <a:lnTo>
                  <a:pt x="4614" y="110729"/>
                </a:lnTo>
                <a:lnTo>
                  <a:pt x="0" y="110729"/>
                </a:lnTo>
                <a:lnTo>
                  <a:pt x="0" y="36910"/>
                </a:lnTo>
                <a:close/>
                <a:moveTo>
                  <a:pt x="9227" y="36910"/>
                </a:moveTo>
                <a:lnTo>
                  <a:pt x="18455" y="36910"/>
                </a:lnTo>
                <a:lnTo>
                  <a:pt x="18455" y="110729"/>
                </a:lnTo>
                <a:lnTo>
                  <a:pt x="9227" y="110729"/>
                </a:lnTo>
                <a:lnTo>
                  <a:pt x="9227" y="36910"/>
                </a:lnTo>
                <a:close/>
                <a:moveTo>
                  <a:pt x="23068" y="36910"/>
                </a:moveTo>
                <a:lnTo>
                  <a:pt x="129381" y="36910"/>
                </a:lnTo>
                <a:lnTo>
                  <a:pt x="129381" y="0"/>
                </a:lnTo>
                <a:lnTo>
                  <a:pt x="203200" y="73819"/>
                </a:lnTo>
                <a:lnTo>
                  <a:pt x="129381" y="147638"/>
                </a:lnTo>
                <a:lnTo>
                  <a:pt x="129381" y="110729"/>
                </a:lnTo>
                <a:lnTo>
                  <a:pt x="23068" y="110729"/>
                </a:lnTo>
                <a:lnTo>
                  <a:pt x="23068" y="36910"/>
                </a:lnTo>
                <a:close/>
              </a:path>
            </a:pathLst>
          </a:custGeom>
          <a:gradFill rotWithShape="0">
            <a:gsLst>
              <a:gs pos="0">
                <a:srgbClr val="6c6c6c"/>
              </a:gs>
              <a:gs pos="100000">
                <a:srgbClr val="dadada"/>
              </a:gs>
            </a:gsLst>
            <a:lin ang="5400000"/>
          </a:gradFill>
          <a:ln w="10080">
            <a:solidFill>
              <a:srgbClr val="000000"/>
            </a:solidFill>
            <a:round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2" name="Freeform 23"/>
          <p:cNvSpPr/>
          <p:nvPr/>
        </p:nvSpPr>
        <p:spPr>
          <a:xfrm>
            <a:off x="7068960" y="4543560"/>
            <a:ext cx="274680" cy="136440"/>
          </a:xfrm>
          <a:custGeom>
            <a:avLst/>
            <a:gdLst/>
            <a:ahLst/>
            <a:rect l="l" t="t" r="r" b="b"/>
            <a:pathLst>
              <a:path w="274637" h="136525">
                <a:moveTo>
                  <a:pt x="0" y="34131"/>
                </a:moveTo>
                <a:lnTo>
                  <a:pt x="4266" y="34131"/>
                </a:lnTo>
                <a:lnTo>
                  <a:pt x="4266" y="102394"/>
                </a:lnTo>
                <a:lnTo>
                  <a:pt x="0" y="102394"/>
                </a:lnTo>
                <a:lnTo>
                  <a:pt x="0" y="34131"/>
                </a:lnTo>
                <a:close/>
                <a:moveTo>
                  <a:pt x="8533" y="34131"/>
                </a:moveTo>
                <a:lnTo>
                  <a:pt x="17066" y="34131"/>
                </a:lnTo>
                <a:lnTo>
                  <a:pt x="17066" y="102394"/>
                </a:lnTo>
                <a:lnTo>
                  <a:pt x="8533" y="102394"/>
                </a:lnTo>
                <a:lnTo>
                  <a:pt x="8533" y="34131"/>
                </a:lnTo>
                <a:close/>
                <a:moveTo>
                  <a:pt x="21332" y="34131"/>
                </a:moveTo>
                <a:lnTo>
                  <a:pt x="206375" y="34131"/>
                </a:lnTo>
                <a:lnTo>
                  <a:pt x="206375" y="0"/>
                </a:lnTo>
                <a:lnTo>
                  <a:pt x="274637" y="68263"/>
                </a:lnTo>
                <a:lnTo>
                  <a:pt x="206375" y="136525"/>
                </a:lnTo>
                <a:lnTo>
                  <a:pt x="206375" y="102394"/>
                </a:lnTo>
                <a:lnTo>
                  <a:pt x="21332" y="102394"/>
                </a:lnTo>
                <a:lnTo>
                  <a:pt x="21332" y="34131"/>
                </a:lnTo>
                <a:close/>
              </a:path>
            </a:pathLst>
          </a:custGeom>
          <a:gradFill rotWithShape="0">
            <a:gsLst>
              <a:gs pos="0">
                <a:srgbClr val="6c6c6c"/>
              </a:gs>
              <a:gs pos="100000">
                <a:srgbClr val="dadada"/>
              </a:gs>
            </a:gsLst>
            <a:lin ang="5400000"/>
          </a:gradFill>
          <a:ln w="10080">
            <a:solidFill>
              <a:srgbClr val="000000"/>
            </a:solidFill>
            <a:round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Freeform 24"/>
          <p:cNvSpPr/>
          <p:nvPr/>
        </p:nvSpPr>
        <p:spPr>
          <a:xfrm>
            <a:off x="2835360" y="5732640"/>
            <a:ext cx="863640" cy="288720"/>
          </a:xfrm>
          <a:custGeom>
            <a:avLst/>
            <a:gdLst/>
            <a:ahLst/>
            <a:rect l="l" t="t" r="r" b="b"/>
            <a:pathLst>
              <a:path w="863600" h="288925">
                <a:moveTo>
                  <a:pt x="0" y="72231"/>
                </a:moveTo>
                <a:lnTo>
                  <a:pt x="9029" y="72231"/>
                </a:lnTo>
                <a:lnTo>
                  <a:pt x="9029" y="216694"/>
                </a:lnTo>
                <a:lnTo>
                  <a:pt x="0" y="216694"/>
                </a:lnTo>
                <a:lnTo>
                  <a:pt x="0" y="72231"/>
                </a:lnTo>
                <a:close/>
                <a:moveTo>
                  <a:pt x="18058" y="72231"/>
                </a:moveTo>
                <a:lnTo>
                  <a:pt x="36116" y="72231"/>
                </a:lnTo>
                <a:lnTo>
                  <a:pt x="36116" y="216694"/>
                </a:lnTo>
                <a:lnTo>
                  <a:pt x="18058" y="216694"/>
                </a:lnTo>
                <a:lnTo>
                  <a:pt x="18058" y="72231"/>
                </a:lnTo>
                <a:close/>
                <a:moveTo>
                  <a:pt x="45145" y="72231"/>
                </a:moveTo>
                <a:lnTo>
                  <a:pt x="719138" y="72231"/>
                </a:lnTo>
                <a:lnTo>
                  <a:pt x="719138" y="0"/>
                </a:lnTo>
                <a:lnTo>
                  <a:pt x="863600" y="144463"/>
                </a:lnTo>
                <a:lnTo>
                  <a:pt x="719138" y="288925"/>
                </a:lnTo>
                <a:lnTo>
                  <a:pt x="719138" y="216694"/>
                </a:lnTo>
                <a:lnTo>
                  <a:pt x="45145" y="216694"/>
                </a:lnTo>
                <a:lnTo>
                  <a:pt x="45145" y="72231"/>
                </a:lnTo>
                <a:close/>
              </a:path>
            </a:pathLst>
          </a:custGeom>
          <a:gradFill rotWithShape="0">
            <a:gsLst>
              <a:gs pos="0">
                <a:srgbClr val="6c6c6c"/>
              </a:gs>
              <a:gs pos="100000">
                <a:srgbClr val="dadada"/>
              </a:gs>
            </a:gsLst>
            <a:lin ang="5400000"/>
          </a:gradFill>
          <a:ln w="10080">
            <a:solidFill>
              <a:srgbClr val="000000"/>
            </a:solidFill>
            <a:round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Freeform 25"/>
          <p:cNvSpPr/>
          <p:nvPr/>
        </p:nvSpPr>
        <p:spPr>
          <a:xfrm>
            <a:off x="4915080" y="5877000"/>
            <a:ext cx="342720" cy="144360"/>
          </a:xfrm>
          <a:custGeom>
            <a:avLst/>
            <a:gdLst/>
            <a:ahLst/>
            <a:rect l="l" t="t" r="r" b="b"/>
            <a:pathLst>
              <a:path w="342900" h="144463">
                <a:moveTo>
                  <a:pt x="0" y="36116"/>
                </a:moveTo>
                <a:lnTo>
                  <a:pt x="4514" y="36116"/>
                </a:lnTo>
                <a:lnTo>
                  <a:pt x="4514" y="108347"/>
                </a:lnTo>
                <a:lnTo>
                  <a:pt x="0" y="108347"/>
                </a:lnTo>
                <a:lnTo>
                  <a:pt x="0" y="36116"/>
                </a:lnTo>
                <a:close/>
                <a:moveTo>
                  <a:pt x="9029" y="36116"/>
                </a:moveTo>
                <a:lnTo>
                  <a:pt x="18058" y="36116"/>
                </a:lnTo>
                <a:lnTo>
                  <a:pt x="18058" y="108347"/>
                </a:lnTo>
                <a:lnTo>
                  <a:pt x="9029" y="108347"/>
                </a:lnTo>
                <a:lnTo>
                  <a:pt x="9029" y="36116"/>
                </a:lnTo>
                <a:close/>
                <a:moveTo>
                  <a:pt x="22572" y="36116"/>
                </a:moveTo>
                <a:lnTo>
                  <a:pt x="270669" y="36116"/>
                </a:lnTo>
                <a:lnTo>
                  <a:pt x="270669" y="0"/>
                </a:lnTo>
                <a:lnTo>
                  <a:pt x="342900" y="72232"/>
                </a:lnTo>
                <a:lnTo>
                  <a:pt x="270669" y="144463"/>
                </a:lnTo>
                <a:lnTo>
                  <a:pt x="270669" y="108347"/>
                </a:lnTo>
                <a:lnTo>
                  <a:pt x="22572" y="108347"/>
                </a:lnTo>
                <a:lnTo>
                  <a:pt x="22572" y="36116"/>
                </a:lnTo>
                <a:close/>
              </a:path>
            </a:pathLst>
          </a:custGeom>
          <a:gradFill rotWithShape="0">
            <a:gsLst>
              <a:gs pos="0">
                <a:srgbClr val="6c6c6c"/>
              </a:gs>
              <a:gs pos="100000">
                <a:srgbClr val="dadada"/>
              </a:gs>
            </a:gsLst>
            <a:lin ang="5400000"/>
          </a:gradFill>
          <a:ln w="10080">
            <a:solidFill>
              <a:srgbClr val="000000"/>
            </a:solidFill>
            <a:round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5" name="Freeform 26"/>
          <p:cNvSpPr/>
          <p:nvPr/>
        </p:nvSpPr>
        <p:spPr>
          <a:xfrm>
            <a:off x="6615000" y="5877000"/>
            <a:ext cx="480960" cy="216000"/>
          </a:xfrm>
          <a:custGeom>
            <a:avLst/>
            <a:gdLst/>
            <a:ahLst/>
            <a:rect l="l" t="t" r="r" b="b"/>
            <a:pathLst>
              <a:path w="481012" h="215900">
                <a:moveTo>
                  <a:pt x="0" y="53975"/>
                </a:moveTo>
                <a:lnTo>
                  <a:pt x="6747" y="53975"/>
                </a:lnTo>
                <a:lnTo>
                  <a:pt x="6747" y="161925"/>
                </a:lnTo>
                <a:lnTo>
                  <a:pt x="0" y="161925"/>
                </a:lnTo>
                <a:lnTo>
                  <a:pt x="0" y="53975"/>
                </a:lnTo>
                <a:close/>
                <a:moveTo>
                  <a:pt x="13494" y="53975"/>
                </a:moveTo>
                <a:lnTo>
                  <a:pt x="26988" y="53975"/>
                </a:lnTo>
                <a:lnTo>
                  <a:pt x="26988" y="161925"/>
                </a:lnTo>
                <a:lnTo>
                  <a:pt x="13494" y="161925"/>
                </a:lnTo>
                <a:lnTo>
                  <a:pt x="13494" y="53975"/>
                </a:lnTo>
                <a:close/>
                <a:moveTo>
                  <a:pt x="33734" y="53975"/>
                </a:moveTo>
                <a:lnTo>
                  <a:pt x="373062" y="53975"/>
                </a:lnTo>
                <a:lnTo>
                  <a:pt x="373062" y="0"/>
                </a:lnTo>
                <a:lnTo>
                  <a:pt x="481012" y="107950"/>
                </a:lnTo>
                <a:lnTo>
                  <a:pt x="373062" y="215900"/>
                </a:lnTo>
                <a:lnTo>
                  <a:pt x="373062" y="161925"/>
                </a:lnTo>
                <a:lnTo>
                  <a:pt x="33734" y="161925"/>
                </a:lnTo>
                <a:lnTo>
                  <a:pt x="33734" y="53975"/>
                </a:lnTo>
                <a:close/>
              </a:path>
            </a:pathLst>
          </a:custGeom>
          <a:gradFill rotWithShape="0">
            <a:gsLst>
              <a:gs pos="0">
                <a:srgbClr val="6c6c6c"/>
              </a:gs>
              <a:gs pos="100000">
                <a:srgbClr val="dadada"/>
              </a:gs>
            </a:gsLst>
            <a:lin ang="5400000"/>
          </a:gradFill>
          <a:ln w="10080">
            <a:solidFill>
              <a:srgbClr val="000000"/>
            </a:solidFill>
            <a:round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 rot="10800000">
            <a:off x="324000" y="2896920"/>
            <a:ext cx="56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324000" y="2305080"/>
            <a:ext cx="8689680" cy="1052640"/>
            <a:chOff x="324000" y="2305080"/>
            <a:chExt cx="8689680" cy="1052640"/>
          </a:xfrm>
        </p:grpSpPr>
        <p:pic>
          <p:nvPicPr>
            <p:cNvPr id="448" name="Picture 3" descr=""/>
            <p:cNvPicPr/>
            <p:nvPr/>
          </p:nvPicPr>
          <p:blipFill>
            <a:blip r:embed="rId1"/>
            <a:stretch/>
          </p:blipFill>
          <p:spPr>
            <a:xfrm>
              <a:off x="324000" y="2305080"/>
              <a:ext cx="868968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4"/>
            <p:cNvSpPr/>
            <p:nvPr/>
          </p:nvSpPr>
          <p:spPr>
            <a:xfrm>
              <a:off x="324000" y="2305080"/>
              <a:ext cx="8689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Medium"/>
              </a:rPr>
              <a:t>ЗДОРОВЬЕСБЕРЕГАЮЩИЕ ТЕХНОЛОГИИ :</a:t>
            </a:r>
            <a:r>
              <a:rPr b="0" lang="ru-RU" sz="40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355680" y="1609560"/>
            <a:ext cx="425592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Технологии сохранения и стимулирования здоровья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Технологии обучения здоровому образу жизни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Коррекционные технологии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788000" y="1484280"/>
            <a:ext cx="3705120" cy="2184480"/>
            <a:chOff x="4788000" y="1484280"/>
            <a:chExt cx="3705120" cy="2184480"/>
          </a:xfrm>
        </p:grpSpPr>
        <p:pic>
          <p:nvPicPr>
            <p:cNvPr id="453" name="Picture 4" descr=""/>
            <p:cNvPicPr/>
            <p:nvPr/>
          </p:nvPicPr>
          <p:blipFill>
            <a:blip r:embed="rId1"/>
            <a:stretch/>
          </p:blipFill>
          <p:spPr>
            <a:xfrm>
              <a:off x="4788000" y="1484280"/>
              <a:ext cx="3705120" cy="21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 Box 5"/>
            <p:cNvSpPr/>
            <p:nvPr/>
          </p:nvSpPr>
          <p:spPr>
            <a:xfrm>
              <a:off x="4788000" y="1484280"/>
              <a:ext cx="3705120" cy="21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4932360" y="4149720"/>
            <a:ext cx="3562200" cy="2185920"/>
            <a:chOff x="4932360" y="4149720"/>
            <a:chExt cx="3562200" cy="2185920"/>
          </a:xfrm>
        </p:grpSpPr>
        <p:pic>
          <p:nvPicPr>
            <p:cNvPr id="456" name="Picture 7" descr=""/>
            <p:cNvPicPr/>
            <p:nvPr/>
          </p:nvPicPr>
          <p:blipFill>
            <a:blip r:embed="rId2"/>
            <a:stretch/>
          </p:blipFill>
          <p:spPr>
            <a:xfrm>
              <a:off x="4932360" y="4149720"/>
              <a:ext cx="356220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8"/>
            <p:cNvSpPr/>
            <p:nvPr/>
          </p:nvSpPr>
          <p:spPr>
            <a:xfrm>
              <a:off x="4932360" y="4149720"/>
              <a:ext cx="35622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Medium"/>
              </a:rPr>
              <a:t>Технологии сохранения и стимулирования здоровья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9" name="Text Box 2"/>
          <p:cNvSpPr/>
          <p:nvPr/>
        </p:nvSpPr>
        <p:spPr>
          <a:xfrm>
            <a:off x="395280" y="1484280"/>
            <a:ext cx="411156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Стретчинг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49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Ритмопластика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49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Динамические паузы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49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Подвижные и спортивные игры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49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Релаксация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4643280" y="1484280"/>
            <a:ext cx="40435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Гимнастика пальчиковая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49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Гимнастика для глаз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49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Гимнастика дыхательная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49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Гимнастика бодрящая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49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Гимнастика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ортопедическая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1042920" y="512640"/>
            <a:ext cx="244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r>
              <a:rPr b="0" lang="ru-RU" sz="2800" spc="-1" strike="noStrike">
                <a:solidFill>
                  <a:srgbClr val="4e3b30"/>
                </a:solidFill>
                <a:latin typeface="Franklin Gothic Medium"/>
              </a:rPr>
              <a:t>Стретчинг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324000" y="3887640"/>
            <a:ext cx="42908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69920" indent="-169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Как самостоятельное занятие – со старшей группы 1 раз в неделю по 30 минут.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 marL="169920" indent="-169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 marL="169920" indent="-169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Как отдельные упражнения в различных формах физкультурно-оздоровительной работы- со среднего возраста.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24000" y="84240"/>
            <a:ext cx="8756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ТЕХНОЛОГИИ СОХРАНЕНИЯ И СТИМУЛИРОВАНИЯ ЗДОРОВЬЯ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64" name="Group 4"/>
          <p:cNvGrpSpPr/>
          <p:nvPr/>
        </p:nvGrpSpPr>
        <p:grpSpPr>
          <a:xfrm>
            <a:off x="539640" y="1413000"/>
            <a:ext cx="1727280" cy="1293840"/>
            <a:chOff x="539640" y="1413000"/>
            <a:chExt cx="1727280" cy="1293840"/>
          </a:xfrm>
        </p:grpSpPr>
        <p:pic>
          <p:nvPicPr>
            <p:cNvPr id="465" name="Picture 5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72728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6"/>
            <p:cNvSpPr/>
            <p:nvPr/>
          </p:nvSpPr>
          <p:spPr>
            <a:xfrm>
              <a:off x="539640" y="1413000"/>
              <a:ext cx="1727280" cy="12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67" name="Group 7"/>
          <p:cNvGrpSpPr/>
          <p:nvPr/>
        </p:nvGrpSpPr>
        <p:grpSpPr>
          <a:xfrm>
            <a:off x="2556000" y="1428840"/>
            <a:ext cx="1245960" cy="1662120"/>
            <a:chOff x="2556000" y="1428840"/>
            <a:chExt cx="1245960" cy="1662120"/>
          </a:xfrm>
        </p:grpSpPr>
        <p:pic>
          <p:nvPicPr>
            <p:cNvPr id="468" name="Picture 8" descr=""/>
            <p:cNvPicPr/>
            <p:nvPr/>
          </p:nvPicPr>
          <p:blipFill>
            <a:blip r:embed="rId2"/>
            <a:stretch/>
          </p:blipFill>
          <p:spPr>
            <a:xfrm>
              <a:off x="2556000" y="1428840"/>
              <a:ext cx="124596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Text Box 9"/>
            <p:cNvSpPr/>
            <p:nvPr/>
          </p:nvSpPr>
          <p:spPr>
            <a:xfrm>
              <a:off x="2556000" y="1428840"/>
              <a:ext cx="124596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470" name="Text Box 10"/>
          <p:cNvSpPr/>
          <p:nvPr/>
        </p:nvSpPr>
        <p:spPr>
          <a:xfrm>
            <a:off x="5853600" y="836640"/>
            <a:ext cx="312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итмопластик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71" name="Picture 11" descr=""/>
          <p:cNvPicPr/>
          <p:nvPr/>
        </p:nvPicPr>
        <p:blipFill>
          <a:blip r:embed="rId3"/>
          <a:stretch/>
        </p:blipFill>
        <p:spPr>
          <a:xfrm>
            <a:off x="5262480" y="1461960"/>
            <a:ext cx="1371600" cy="16210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2" descr=""/>
          <p:cNvPicPr/>
          <p:nvPr/>
        </p:nvPicPr>
        <p:blipFill>
          <a:blip r:embed="rId4"/>
          <a:stretch/>
        </p:blipFill>
        <p:spPr>
          <a:xfrm>
            <a:off x="6804000" y="1413000"/>
            <a:ext cx="1865160" cy="132876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13"/>
          <p:cNvSpPr/>
          <p:nvPr/>
        </p:nvSpPr>
        <p:spPr>
          <a:xfrm>
            <a:off x="5060880" y="3860640"/>
            <a:ext cx="396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Как самостоятельное занятие – с младшей группы 1 раз в неделю по 15-30 минут.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Как отдельные  ритмические  упражнения в различных формах  физкультурно-оздоровительной  работы -  с младшего возраста.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611280" y="907920"/>
            <a:ext cx="27003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Medium"/>
              </a:rPr>
              <a:t>Динамические паузы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Text Box 2"/>
          <p:cNvSpPr/>
          <p:nvPr/>
        </p:nvSpPr>
        <p:spPr>
          <a:xfrm>
            <a:off x="179280" y="3678120"/>
            <a:ext cx="429120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Во время занятий, в качестве профилактики утомления.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Включают в себя элементы гимнастики для глаз, дыхательной гимнастики и других, в зависимости от вида занятия. 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Во всех возрастах. 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395280" y="-398520"/>
            <a:ext cx="849780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ТЕХНОЛОГИИ СОХРАНЕНИЯ И СТИМУЛИРОВАНИЯ ЗДОРОВЬЯ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77" name="Group 4"/>
          <p:cNvGrpSpPr/>
          <p:nvPr/>
        </p:nvGrpSpPr>
        <p:grpSpPr>
          <a:xfrm>
            <a:off x="250920" y="1773360"/>
            <a:ext cx="2112840" cy="1366560"/>
            <a:chOff x="250920" y="1773360"/>
            <a:chExt cx="2112840" cy="1366560"/>
          </a:xfrm>
        </p:grpSpPr>
        <p:pic>
          <p:nvPicPr>
            <p:cNvPr id="478" name="Picture 5" descr=""/>
            <p:cNvPicPr/>
            <p:nvPr/>
          </p:nvPicPr>
          <p:blipFill>
            <a:blip r:embed="rId1"/>
            <a:stretch/>
          </p:blipFill>
          <p:spPr>
            <a:xfrm>
              <a:off x="250920" y="1773360"/>
              <a:ext cx="2112840" cy="13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6"/>
            <p:cNvSpPr/>
            <p:nvPr/>
          </p:nvSpPr>
          <p:spPr>
            <a:xfrm>
              <a:off x="250920" y="1773360"/>
              <a:ext cx="2112840" cy="13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80" name="Group 7"/>
          <p:cNvGrpSpPr/>
          <p:nvPr/>
        </p:nvGrpSpPr>
        <p:grpSpPr>
          <a:xfrm>
            <a:off x="1979640" y="2781360"/>
            <a:ext cx="1879560" cy="1303200"/>
            <a:chOff x="1979640" y="2781360"/>
            <a:chExt cx="1879560" cy="1303200"/>
          </a:xfrm>
        </p:grpSpPr>
        <p:pic>
          <p:nvPicPr>
            <p:cNvPr id="481" name="Picture 8" descr=""/>
            <p:cNvPicPr/>
            <p:nvPr/>
          </p:nvPicPr>
          <p:blipFill>
            <a:blip r:embed="rId2"/>
            <a:stretch/>
          </p:blipFill>
          <p:spPr>
            <a:xfrm>
              <a:off x="1979640" y="2781360"/>
              <a:ext cx="187956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 Box 9"/>
            <p:cNvSpPr/>
            <p:nvPr/>
          </p:nvSpPr>
          <p:spPr>
            <a:xfrm>
              <a:off x="1979640" y="2781360"/>
              <a:ext cx="1879560" cy="13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483" name="Text Box 10"/>
          <p:cNvSpPr/>
          <p:nvPr/>
        </p:nvSpPr>
        <p:spPr>
          <a:xfrm>
            <a:off x="5058000" y="1197000"/>
            <a:ext cx="33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одвижные игры 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элементы спортивных игр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84" name="Picture 11" descr=""/>
          <p:cNvPicPr/>
          <p:nvPr/>
        </p:nvPicPr>
        <p:blipFill>
          <a:blip r:embed="rId3"/>
          <a:stretch/>
        </p:blipFill>
        <p:spPr>
          <a:xfrm>
            <a:off x="4932360" y="1863720"/>
            <a:ext cx="2016000" cy="12621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2" descr=""/>
          <p:cNvPicPr/>
          <p:nvPr/>
        </p:nvPicPr>
        <p:blipFill>
          <a:blip r:embed="rId4"/>
          <a:stretch/>
        </p:blipFill>
        <p:spPr>
          <a:xfrm>
            <a:off x="6653160" y="2924280"/>
            <a:ext cx="1893960" cy="118908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13"/>
          <p:cNvSpPr/>
          <p:nvPr/>
        </p:nvSpPr>
        <p:spPr>
          <a:xfrm>
            <a:off x="5051520" y="4292640"/>
            <a:ext cx="3552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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Как часть физкультурного занятия.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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Ежедневно на прогулке. 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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В самостоятельной игровой 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деятельности. 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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Во всех возрастах.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08:06:57Z</dcterms:created>
  <dc:creator>Иннокентий</dc:creator>
  <dc:description/>
  <dc:language>en-US</dc:language>
  <cp:lastModifiedBy>Иннокентий</cp:lastModifiedBy>
  <dcterms:modified xsi:type="dcterms:W3CDTF">2012-02-03T18:49:27Z</dcterms:modified>
  <cp:revision>46</cp:revision>
  <dc:subject/>
  <dc:title>Презентация PowerPoint</dc:title>
</cp:coreProperties>
</file>