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7.jpeg" ContentType="image/jpeg"/>
  <Override PartName="/ppt/media/image28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dt" idx="1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E3064-9D62-4C19-97B7-BD68E8B64F2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26129-52F4-4037-A2DB-6DCF7BBA65A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B1E8E-8209-4B8D-96D8-FC7DF463436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407B0-1221-4A2D-BD22-D7CE0A2FE21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EF148-4B1C-491C-B44E-B128DEB59EA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5AB8C-F08A-43B2-8C40-F8048B7649C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52BB2-6B90-4B32-BD68-A220EB1E0A9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430CC-234D-43F9-A825-6B96D7E3E22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AC127-DD21-45F7-81F8-DDFE39D7A93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610EF-8465-4577-825E-995D0C5344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24464-B6A3-4EEF-A377-8D30E82E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7A8DC-9BB8-4DFA-9640-E1ABFDAB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8D3D6-2531-4FC3-91C9-1117455F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47BC9-5CDD-496C-ADBF-8E2409C3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03314-C288-42A8-A591-FFE9E49E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F3779-A8A0-4917-882D-2FCC378A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16306-A6B9-4DB3-ABA0-784FC3EA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79EDE-03D5-49E3-941E-C3C083AC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A6174-DE20-4691-88B7-E99D43DF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2137C-1499-4AE8-AC8F-797F5DC915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7FCB5-80C2-4F6F-AC3F-CF3475A7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CCAB-0F93-41EE-8AEE-145AE6DAB7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5C047-46B4-49FD-B7D4-FD2D362BCB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485C8-7854-4CB1-A704-45ED7083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52095-1E55-4858-8212-140BECC2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4C300-A1DA-4155-BBB3-18F31202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63D9B-0FC5-490B-B982-D99BF0BB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96E96-3B3B-4C0C-A442-C65827BB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9E084-B321-4DE7-84FF-3F8248BF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17618-C4B6-44CB-8EAB-303C5A17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9F809-4CA7-4A10-B48D-ADD5B5B1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5C7E7-0F92-447E-8AAF-A38D069F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B5147-1FCB-417F-B999-B824318A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5BCFD-C224-4C6C-811E-A2B2F055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35B8D-5F3C-462C-B736-DC18F0C9A7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551A-4C41-43D1-970C-56CFD3E0DF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931D-9F7E-4A2E-8378-2CC74580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1BBC-A778-4E80-AB2D-8E6A2C73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941C-2B88-443B-9F4E-EF1436CF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39D9-8BEB-4F49-A424-CD629DC6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6736-6FED-4AA2-9B40-24ADF063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616D-2671-4BB7-911F-86B4B7C6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D7B1-8FFF-4D31-91FA-466C535F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9CFF-C1BB-4D8C-AFA4-50D95C7A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0050-8CEB-4F39-A5B2-07248F75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A6E9-3356-4499-8E29-3A3F8183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2F50-9C61-4B50-A94F-541874D4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CFE9-2339-4BAE-ACD4-D4C0B33F12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017944-6945-455D-AF8D-399718F2B7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4326C-01F6-413A-8AA2-E5FDA9B3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B6F97-C68B-4147-B686-B6336AD0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A0D8E-27AC-46C5-9074-CABC3BB3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066B9-5FD2-48F4-A56D-8F02B3E9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EEC08-A420-401F-AC1E-8FDB4EB6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9641C-8E77-4E0B-9380-F20AC559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D9727-9BAC-4FE2-8E76-0C037DC1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F66AD-90F9-4B6B-8289-4488E2C3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339F6-4537-433D-A78D-897B85AE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C40FA-4048-45C9-973B-DFCEAF44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AF557-2787-4DCE-8B80-69509D37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6FAF6-EC76-4534-BA9F-093C787A8C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68FFE9-5D66-49EE-A6B4-C2D481996F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8AC82-F672-459E-807E-6FA88536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2E715F-37EE-43EB-B926-BE783EBF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59FC94-5B04-4A95-8EBF-0A13CB42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01B648-83D7-4A92-9593-306ECBC1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99DCF3-94ED-4B78-A750-2546E8B5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B66647-9ED8-4D0E-A9F4-F9D46720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BFE78B-E182-4241-9552-7740734A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7E284A-84B1-4665-BBCB-BCADC3C3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E74D7F-998A-4360-B754-891ECBAC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F756CE-CA2E-4B35-BF52-08B24761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3A1DC2-E728-439C-A8A4-D5DD00E8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F486C-BF4C-4347-9D0A-2BEA9BF4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58B0E2-FEFA-473C-8085-A961E7F2E6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C0F52-03C7-4353-A479-A42BCAD799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8EB40-21D9-4AF4-B8DD-9D3DA375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B06CC-0DD1-4DA4-964A-45CC0D49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FF35E-2981-4515-B161-7C635E9D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FB197-1FB1-4C62-9AB9-EAFB329F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4581D-444E-4C91-BBFA-F5744403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1ACEC-824D-4554-8C58-64CC4DEB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8300F-BB26-4F0C-BBBC-CF731135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8A4C4-262B-416D-8706-26D8953D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422F6-AFCB-450A-84A7-42AE4A55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04A75-7695-4B76-B699-0E3901F1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3B84E-7DCC-4703-B2A8-ECBFBBB5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9FE95-03E1-468C-A5EB-A25F5CF16B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D1AD3C-DD3F-4184-900A-BFC50C7964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4EA63-CC87-4FBE-9E49-B00DAB83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D5B618-5024-4CC6-A358-63F21239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656AEF-5E72-4821-8826-238345FA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6ABB24-B076-4F50-B788-BAECA0D6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69114C-363B-4CDF-8BCD-047845DD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4861D9-D25C-4E18-9C36-4EE6135B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6AF1B-BCB2-465D-B5BF-B217DD3D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F6B59-C787-4819-9EA4-81EE3DFF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FC0303-F55C-400D-8276-0A731E75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9E13E-F1F3-4AAB-A672-4637D4EB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5313E8-A0F1-4ADB-84AD-5CDD3992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044CD-AB78-4BD5-9448-55D658F7B6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4C474B-5659-485E-9F9C-AED2FC3904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3C5DB5-2F15-43B8-A925-0F275AB6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FC1B1C-1D9A-4F30-86E2-E07CDF48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0941E8-DF9C-4732-B80E-842A30D6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220372-8C81-4B81-A187-92FF540B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9A91E-15CF-41C0-8C12-009119A4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1D3223-A6F8-4237-AD5D-50ACD91F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69389A-9374-4A46-BD41-27D20728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BABCDE-05E0-4AE8-9E25-95B0925B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75D779-76C5-46E2-B362-17678A33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31BCC4-4E1D-40D6-AA08-DABFA21B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CC5B7E-02ED-42B1-882E-875B490F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45C174-E7AB-4F21-AAB3-F7034FDB88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D9463-E745-449B-AC26-195B9CE53B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C4A17-FFD0-4901-9B52-6F927906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3EB2E-8DC1-492B-8AD9-317923FF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512640" y="1042920"/>
            <a:ext cx="8629920" cy="15840"/>
            <a:chOff x="512640" y="1042920"/>
            <a:chExt cx="8629920" cy="1584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9920" cy="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763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6477120"/>
            <a:ext cx="760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4E01B7-6D69-41B4-8579-203FDB539FB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512640" y="1042920"/>
            <a:ext cx="8629920" cy="15840"/>
            <a:chOff x="512640" y="1042920"/>
            <a:chExt cx="8629920" cy="15840"/>
          </a:xfrm>
        </p:grpSpPr>
        <p:pic>
          <p:nvPicPr>
            <p:cNvPr id="9" name="Picture 10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9920" cy="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11" name="Group 12"/>
          <p:cNvGrpSpPr/>
          <p:nvPr/>
        </p:nvGrpSpPr>
        <p:grpSpPr>
          <a:xfrm>
            <a:off x="512640" y="1054080"/>
            <a:ext cx="8629920" cy="11160"/>
            <a:chOff x="512640" y="1054080"/>
            <a:chExt cx="8629920" cy="11160"/>
          </a:xfrm>
        </p:grpSpPr>
        <p:pic>
          <p:nvPicPr>
            <p:cNvPr id="12" name="Picture 13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99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512640" y="5346720"/>
            <a:ext cx="8629920" cy="9360"/>
            <a:chOff x="512640" y="5346720"/>
            <a:chExt cx="8629920" cy="9360"/>
          </a:xfrm>
        </p:grpSpPr>
        <p:pic>
          <p:nvPicPr>
            <p:cNvPr id="51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29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F64905B-85E1-4012-8B9D-8DB9033BE5BA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512640" y="1042920"/>
            <a:ext cx="8629920" cy="15840"/>
            <a:chOff x="512640" y="1042920"/>
            <a:chExt cx="8629920" cy="15840"/>
          </a:xfrm>
        </p:grpSpPr>
        <p:pic>
          <p:nvPicPr>
            <p:cNvPr id="95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9920" cy="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512640" y="1042920"/>
            <a:ext cx="8629920" cy="15840"/>
            <a:chOff x="512640" y="1042920"/>
            <a:chExt cx="8629920" cy="15840"/>
          </a:xfrm>
        </p:grpSpPr>
        <p:pic>
          <p:nvPicPr>
            <p:cNvPr id="98" name="Picture 5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9920" cy="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512640" y="1054080"/>
            <a:ext cx="8629920" cy="11160"/>
            <a:chOff x="512640" y="1054080"/>
            <a:chExt cx="8629920" cy="11160"/>
          </a:xfrm>
        </p:grpSpPr>
        <p:pic>
          <p:nvPicPr>
            <p:cNvPr id="101" name="Picture 8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99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13FC4FE-C40F-4371-A75A-1891682121C3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512640" y="3438360"/>
            <a:ext cx="8629920" cy="9720"/>
            <a:chOff x="512640" y="3438360"/>
            <a:chExt cx="8629920" cy="9720"/>
          </a:xfrm>
        </p:grpSpPr>
        <p:pic>
          <p:nvPicPr>
            <p:cNvPr id="145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29920" cy="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EB0E0BB-F725-41D1-8393-7FC1997B1630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1"/>
          <p:cNvGrpSpPr/>
          <p:nvPr/>
        </p:nvGrpSpPr>
        <p:grpSpPr>
          <a:xfrm>
            <a:off x="512640" y="6016680"/>
            <a:ext cx="8629920" cy="11160"/>
            <a:chOff x="512640" y="6016680"/>
            <a:chExt cx="8629920" cy="11160"/>
          </a:xfrm>
        </p:grpSpPr>
        <p:pic>
          <p:nvPicPr>
            <p:cNvPr id="189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299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2E151D7-C417-4862-BA5F-B14616D6ECC6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64ECF5B-EC15-43DA-9CA6-FCB1753BEEB4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"/>
          <p:cNvGrpSpPr/>
          <p:nvPr/>
        </p:nvGrpSpPr>
        <p:grpSpPr>
          <a:xfrm>
            <a:off x="512640" y="5846760"/>
            <a:ext cx="8629920" cy="9360"/>
            <a:chOff x="512640" y="5846760"/>
            <a:chExt cx="8629920" cy="9360"/>
          </a:xfrm>
        </p:grpSpPr>
        <p:pic>
          <p:nvPicPr>
            <p:cNvPr id="274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29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CC204E9-16AA-47BA-BC87-D8E4E9D50B0A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B24C0A4-ED02-4E20-970A-0F1A0C584814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1E50A29-F6DB-4188-8EFC-2409A9996307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684360" y="981000"/>
            <a:ext cx="3114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Medium"/>
              </a:rPr>
              <a:t>Гимнастика пальчиковая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8" name="Text Box 2"/>
          <p:cNvSpPr/>
          <p:nvPr/>
        </p:nvSpPr>
        <p:spPr>
          <a:xfrm>
            <a:off x="250920" y="3933720"/>
            <a:ext cx="42908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40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Ежедневно индивидуально или с подгруппой.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В различных режимных моментах.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Во всех возрастах. 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395280" y="299880"/>
            <a:ext cx="83534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Medium"/>
              </a:rPr>
              <a:t>ТЕХНОЛОГИИ СОХРАНЕНИЯ И СТИМУЛИРОВАНИЯ ЗДОРОВЬЯ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410" name="Group 4"/>
          <p:cNvGrpSpPr/>
          <p:nvPr/>
        </p:nvGrpSpPr>
        <p:grpSpPr>
          <a:xfrm>
            <a:off x="179280" y="1557360"/>
            <a:ext cx="2129040" cy="1509840"/>
            <a:chOff x="179280" y="1557360"/>
            <a:chExt cx="2129040" cy="1509840"/>
          </a:xfrm>
        </p:grpSpPr>
        <p:pic>
          <p:nvPicPr>
            <p:cNvPr id="411" name="Picture 5" descr=""/>
            <p:cNvPicPr/>
            <p:nvPr/>
          </p:nvPicPr>
          <p:blipFill>
            <a:blip r:embed="rId1"/>
            <a:stretch/>
          </p:blipFill>
          <p:spPr>
            <a:xfrm>
              <a:off x="179280" y="1557360"/>
              <a:ext cx="2129040" cy="15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Text Box 6"/>
            <p:cNvSpPr/>
            <p:nvPr/>
          </p:nvSpPr>
          <p:spPr>
            <a:xfrm>
              <a:off x="179280" y="1557360"/>
              <a:ext cx="2129040" cy="15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13" name="Group 7"/>
          <p:cNvGrpSpPr/>
          <p:nvPr/>
        </p:nvGrpSpPr>
        <p:grpSpPr>
          <a:xfrm>
            <a:off x="2556000" y="1989000"/>
            <a:ext cx="1409400" cy="1617840"/>
            <a:chOff x="2556000" y="1989000"/>
            <a:chExt cx="1409400" cy="1617840"/>
          </a:xfrm>
        </p:grpSpPr>
        <p:pic>
          <p:nvPicPr>
            <p:cNvPr id="414" name="Picture 8" descr=""/>
            <p:cNvPicPr/>
            <p:nvPr/>
          </p:nvPicPr>
          <p:blipFill>
            <a:blip r:embed="rId2"/>
            <a:stretch/>
          </p:blipFill>
          <p:spPr>
            <a:xfrm>
              <a:off x="2556000" y="1989000"/>
              <a:ext cx="1409400" cy="16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9"/>
            <p:cNvSpPr/>
            <p:nvPr/>
          </p:nvSpPr>
          <p:spPr>
            <a:xfrm>
              <a:off x="2556000" y="1989000"/>
              <a:ext cx="14094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416" name="Text Box 10"/>
          <p:cNvSpPr/>
          <p:nvPr/>
        </p:nvSpPr>
        <p:spPr>
          <a:xfrm>
            <a:off x="5580000" y="1413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5148360" y="118584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Гимнастика для глаз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18" name="Picture 12" descr=""/>
          <p:cNvPicPr/>
          <p:nvPr/>
        </p:nvPicPr>
        <p:blipFill>
          <a:blip r:embed="rId3"/>
          <a:stretch/>
        </p:blipFill>
        <p:spPr>
          <a:xfrm>
            <a:off x="4821120" y="1778040"/>
            <a:ext cx="1887480" cy="13413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3" descr=""/>
          <p:cNvPicPr/>
          <p:nvPr/>
        </p:nvPicPr>
        <p:blipFill>
          <a:blip r:embed="rId4"/>
          <a:stretch/>
        </p:blipFill>
        <p:spPr>
          <a:xfrm>
            <a:off x="6875640" y="2543040"/>
            <a:ext cx="1927080" cy="13669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14"/>
          <p:cNvSpPr/>
          <p:nvPr/>
        </p:nvSpPr>
        <p:spPr>
          <a:xfrm>
            <a:off x="5073480" y="4292640"/>
            <a:ext cx="42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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Ежедневно в любое свободное 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ремя. 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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о всех возрастах.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304920" y="5410080"/>
            <a:ext cx="86104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250920" y="2019240"/>
            <a:ext cx="429084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Специальные упражнения для снятия приступа бронхиальной астмы</a:t>
            </a: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Ежедневно в любое свободное время</a:t>
            </a: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В различных формах физкультурно-оздоровительной работы</a:t>
            </a: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468360" y="260280"/>
            <a:ext cx="8612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ТЕХНОЛОГИИ СОХРАНЕНИЯ И СТИМУЛИРОВАНИЯ ЗДОРОВЬЯ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424" name="Group 4"/>
          <p:cNvGrpSpPr/>
          <p:nvPr/>
        </p:nvGrpSpPr>
        <p:grpSpPr>
          <a:xfrm>
            <a:off x="246240" y="1700280"/>
            <a:ext cx="1738080" cy="1235160"/>
            <a:chOff x="246240" y="1700280"/>
            <a:chExt cx="1738080" cy="1235160"/>
          </a:xfrm>
        </p:grpSpPr>
        <p:pic>
          <p:nvPicPr>
            <p:cNvPr id="425" name="Picture 5" descr=""/>
            <p:cNvPicPr/>
            <p:nvPr/>
          </p:nvPicPr>
          <p:blipFill>
            <a:blip r:embed="rId1"/>
            <a:stretch/>
          </p:blipFill>
          <p:spPr>
            <a:xfrm>
              <a:off x="246240" y="1700280"/>
              <a:ext cx="1738080" cy="12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Text Box 6"/>
            <p:cNvSpPr/>
            <p:nvPr/>
          </p:nvSpPr>
          <p:spPr>
            <a:xfrm>
              <a:off x="246240" y="1700280"/>
              <a:ext cx="17380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27" name="Group 7"/>
          <p:cNvGrpSpPr/>
          <p:nvPr/>
        </p:nvGrpSpPr>
        <p:grpSpPr>
          <a:xfrm>
            <a:off x="2128680" y="2060640"/>
            <a:ext cx="1906920" cy="1353960"/>
            <a:chOff x="2128680" y="2060640"/>
            <a:chExt cx="1906920" cy="1353960"/>
          </a:xfrm>
        </p:grpSpPr>
        <p:pic>
          <p:nvPicPr>
            <p:cNvPr id="428" name="Picture 8" descr=""/>
            <p:cNvPicPr/>
            <p:nvPr/>
          </p:nvPicPr>
          <p:blipFill>
            <a:blip r:embed="rId2"/>
            <a:stretch/>
          </p:blipFill>
          <p:spPr>
            <a:xfrm>
              <a:off x="2128680" y="2060640"/>
              <a:ext cx="190692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9"/>
            <p:cNvSpPr/>
            <p:nvPr/>
          </p:nvSpPr>
          <p:spPr>
            <a:xfrm>
              <a:off x="2128680" y="2060640"/>
              <a:ext cx="1906920" cy="13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430" name="Text Box 10"/>
          <p:cNvSpPr/>
          <p:nvPr/>
        </p:nvSpPr>
        <p:spPr>
          <a:xfrm>
            <a:off x="392400" y="1197000"/>
            <a:ext cx="364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Гимнастика дыхательная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1" name="Rectangle 11"/>
          <p:cNvSpPr/>
          <p:nvPr/>
        </p:nvSpPr>
        <p:spPr>
          <a:xfrm>
            <a:off x="5360400" y="1225440"/>
            <a:ext cx="32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Гимнастика бодрящая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3"/>
          <a:stretch/>
        </p:blipFill>
        <p:spPr>
          <a:xfrm>
            <a:off x="4788000" y="1844640"/>
            <a:ext cx="1896840" cy="13510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"/>
          <p:cNvPicPr/>
          <p:nvPr/>
        </p:nvPicPr>
        <p:blipFill>
          <a:blip r:embed="rId4"/>
          <a:stretch/>
        </p:blipFill>
        <p:spPr>
          <a:xfrm>
            <a:off x="7164360" y="1895400"/>
            <a:ext cx="1436760" cy="181764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14"/>
          <p:cNvSpPr/>
          <p:nvPr/>
        </p:nvSpPr>
        <p:spPr>
          <a:xfrm>
            <a:off x="4468680" y="3789360"/>
            <a:ext cx="4035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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Упражнения на кроватях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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Ходьба по колючим коврикам и 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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ребристым дорожкам 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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Умывание прохладной водой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179280" y="128520"/>
            <a:ext cx="868680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Технологии сохранения и стимулирования здоровья</a:t>
            </a:r>
            <a:br>
              <a:rPr sz="2200"/>
            </a:br>
            <a:r>
              <a:rPr b="0" lang="ru-RU" sz="18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e3b30"/>
                </a:solidFill>
                <a:latin typeface="Franklin Gothic Medium"/>
              </a:rPr>
              <a:t>Гимнастика ортопедическая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6" name="Text Box 2"/>
          <p:cNvSpPr/>
          <p:nvPr/>
        </p:nvSpPr>
        <p:spPr>
          <a:xfrm>
            <a:off x="304920" y="4246560"/>
            <a:ext cx="868680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550"/>
              </a:spcBef>
              <a:buClr>
                <a:srgbClr val="4e3b3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рофилактика и коррекция болезней опорного свода стопы 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700"/>
              </a:spcBef>
              <a:buClr>
                <a:srgbClr val="4e3b3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В различных формах физкультурно-оздоровительной работы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1258920" y="1413000"/>
            <a:ext cx="2184480" cy="2735280"/>
            <a:chOff x="1258920" y="1413000"/>
            <a:chExt cx="2184480" cy="2735280"/>
          </a:xfrm>
        </p:grpSpPr>
        <p:pic>
          <p:nvPicPr>
            <p:cNvPr id="438" name="Picture 4" descr=""/>
            <p:cNvPicPr/>
            <p:nvPr/>
          </p:nvPicPr>
          <p:blipFill>
            <a:blip r:embed="rId1"/>
            <a:stretch/>
          </p:blipFill>
          <p:spPr>
            <a:xfrm>
              <a:off x="1258920" y="1413000"/>
              <a:ext cx="218448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5"/>
            <p:cNvSpPr/>
            <p:nvPr/>
          </p:nvSpPr>
          <p:spPr>
            <a:xfrm>
              <a:off x="1258920" y="1413000"/>
              <a:ext cx="21844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40" name="Group 6"/>
          <p:cNvGrpSpPr/>
          <p:nvPr/>
        </p:nvGrpSpPr>
        <p:grpSpPr>
          <a:xfrm>
            <a:off x="4572000" y="1467000"/>
            <a:ext cx="3273480" cy="2454120"/>
            <a:chOff x="4572000" y="1467000"/>
            <a:chExt cx="3273480" cy="2454120"/>
          </a:xfrm>
        </p:grpSpPr>
        <p:pic>
          <p:nvPicPr>
            <p:cNvPr id="441" name="Picture 7" descr=""/>
            <p:cNvPicPr/>
            <p:nvPr/>
          </p:nvPicPr>
          <p:blipFill>
            <a:blip r:embed="rId2"/>
            <a:stretch/>
          </p:blipFill>
          <p:spPr>
            <a:xfrm>
              <a:off x="4572000" y="1467000"/>
              <a:ext cx="3273480" cy="24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Text Box 8"/>
            <p:cNvSpPr/>
            <p:nvPr/>
          </p:nvSpPr>
          <p:spPr>
            <a:xfrm>
              <a:off x="4572000" y="1467000"/>
              <a:ext cx="3273480" cy="24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3240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Технологии обучения здоровому образу жизни</a:t>
            </a: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304920" y="1554120"/>
            <a:ext cx="4262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49"/>
              </a:spcBef>
              <a:buClr>
                <a:srgbClr val="4e3b3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Физкультурные занятие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649"/>
              </a:spcBef>
              <a:buClr>
                <a:srgbClr val="4e3b3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Коммуникативные игры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649"/>
              </a:spcBef>
              <a:buClr>
                <a:srgbClr val="4e3b3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Занятия из серии «ЗОЖ»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445" name="Group 3"/>
          <p:cNvGrpSpPr/>
          <p:nvPr/>
        </p:nvGrpSpPr>
        <p:grpSpPr>
          <a:xfrm>
            <a:off x="6084720" y="1197000"/>
            <a:ext cx="2184480" cy="2663640"/>
            <a:chOff x="6084720" y="1197000"/>
            <a:chExt cx="2184480" cy="2663640"/>
          </a:xfrm>
        </p:grpSpPr>
        <p:pic>
          <p:nvPicPr>
            <p:cNvPr id="446" name="Picture 4" descr=""/>
            <p:cNvPicPr/>
            <p:nvPr/>
          </p:nvPicPr>
          <p:blipFill>
            <a:blip r:embed="rId1"/>
            <a:stretch/>
          </p:blipFill>
          <p:spPr>
            <a:xfrm>
              <a:off x="6084720" y="1197000"/>
              <a:ext cx="218448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 Box 5"/>
            <p:cNvSpPr/>
            <p:nvPr/>
          </p:nvSpPr>
          <p:spPr>
            <a:xfrm>
              <a:off x="6084720" y="1197000"/>
              <a:ext cx="218448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48" name="Group 6"/>
          <p:cNvGrpSpPr/>
          <p:nvPr/>
        </p:nvGrpSpPr>
        <p:grpSpPr>
          <a:xfrm>
            <a:off x="5138640" y="3892680"/>
            <a:ext cx="3438720" cy="2185920"/>
            <a:chOff x="5138640" y="3892680"/>
            <a:chExt cx="3438720" cy="2185920"/>
          </a:xfrm>
        </p:grpSpPr>
        <p:pic>
          <p:nvPicPr>
            <p:cNvPr id="449" name="Picture 7" descr=""/>
            <p:cNvPicPr/>
            <p:nvPr/>
          </p:nvPicPr>
          <p:blipFill>
            <a:blip r:embed="rId2"/>
            <a:stretch/>
          </p:blipFill>
          <p:spPr>
            <a:xfrm>
              <a:off x="5138640" y="3892680"/>
              <a:ext cx="343872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Text Box 8"/>
            <p:cNvSpPr/>
            <p:nvPr/>
          </p:nvSpPr>
          <p:spPr>
            <a:xfrm>
              <a:off x="5138640" y="3892680"/>
              <a:ext cx="343872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304920" y="312840"/>
            <a:ext cx="868680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Технология обучения здоровому образу жизни</a:t>
            </a:r>
            <a:br>
              <a:rPr sz="2000"/>
            </a:b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br>
              <a:rPr sz="3200"/>
            </a:br>
            <a:r>
              <a:rPr b="0" lang="ru-RU" sz="1800" spc="-1" strike="noStrike">
                <a:solidFill>
                  <a:srgbClr val="4e3b30"/>
                </a:solidFill>
                <a:latin typeface="Franklin Gothic Medium"/>
              </a:rPr>
              <a:t>Физкультурное занятие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304920" y="1554120"/>
            <a:ext cx="4262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499"/>
              </a:spcBef>
              <a:buClr>
                <a:srgbClr val="4e3b3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Занятия по традиционной схеме 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700"/>
              </a:spcBef>
              <a:buClr>
                <a:srgbClr val="4e3b3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Занятия - тренировки в основных видах движений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499"/>
              </a:spcBef>
              <a:buClr>
                <a:srgbClr val="4e3b3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Занятия - соревнования 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700"/>
              </a:spcBef>
              <a:buClr>
                <a:srgbClr val="4e3b3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Занятия - зачеты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499"/>
              </a:spcBef>
              <a:buClr>
                <a:srgbClr val="4e3b3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Занятия, состоящие из набора подвижных игр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 игровых упражнений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499"/>
              </a:spcBef>
              <a:buClr>
                <a:srgbClr val="4e3b3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Занятия на воздухе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453" name="Group 3"/>
          <p:cNvGrpSpPr/>
          <p:nvPr/>
        </p:nvGrpSpPr>
        <p:grpSpPr>
          <a:xfrm>
            <a:off x="5321160" y="1554120"/>
            <a:ext cx="3075120" cy="2184480"/>
            <a:chOff x="5321160" y="1554120"/>
            <a:chExt cx="3075120" cy="2184480"/>
          </a:xfrm>
        </p:grpSpPr>
        <p:pic>
          <p:nvPicPr>
            <p:cNvPr id="454" name="Picture 4" descr=""/>
            <p:cNvPicPr/>
            <p:nvPr/>
          </p:nvPicPr>
          <p:blipFill>
            <a:blip r:embed="rId1"/>
            <a:stretch/>
          </p:blipFill>
          <p:spPr>
            <a:xfrm>
              <a:off x="5321160" y="1554120"/>
              <a:ext cx="3075120" cy="21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Text Box 5"/>
            <p:cNvSpPr/>
            <p:nvPr/>
          </p:nvSpPr>
          <p:spPr>
            <a:xfrm>
              <a:off x="5321160" y="1554120"/>
              <a:ext cx="3075120" cy="21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56" name="Group 6"/>
          <p:cNvGrpSpPr/>
          <p:nvPr/>
        </p:nvGrpSpPr>
        <p:grpSpPr>
          <a:xfrm>
            <a:off x="5181480" y="3892680"/>
            <a:ext cx="3395880" cy="2185920"/>
            <a:chOff x="5181480" y="3892680"/>
            <a:chExt cx="3395880" cy="2185920"/>
          </a:xfrm>
        </p:grpSpPr>
        <p:pic>
          <p:nvPicPr>
            <p:cNvPr id="457" name="Picture 7" descr=""/>
            <p:cNvPicPr/>
            <p:nvPr/>
          </p:nvPicPr>
          <p:blipFill>
            <a:blip r:embed="rId2"/>
            <a:stretch/>
          </p:blipFill>
          <p:spPr>
            <a:xfrm>
              <a:off x="5181480" y="3892680"/>
              <a:ext cx="339588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8"/>
            <p:cNvSpPr/>
            <p:nvPr/>
          </p:nvSpPr>
          <p:spPr>
            <a:xfrm>
              <a:off x="5181480" y="3892680"/>
              <a:ext cx="339588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324000" y="158760"/>
            <a:ext cx="86104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Технологии обучения здоровому образу жизни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281160" y="817560"/>
            <a:ext cx="37861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Коммуникативные игры 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4851360" y="1206360"/>
            <a:ext cx="4292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Занятия из серии «ЗОЖ»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462" name="Group 4"/>
          <p:cNvGrpSpPr/>
          <p:nvPr/>
        </p:nvGrpSpPr>
        <p:grpSpPr>
          <a:xfrm>
            <a:off x="281160" y="1677960"/>
            <a:ext cx="1985760" cy="1487520"/>
            <a:chOff x="281160" y="1677960"/>
            <a:chExt cx="1985760" cy="1487520"/>
          </a:xfrm>
        </p:grpSpPr>
        <p:pic>
          <p:nvPicPr>
            <p:cNvPr id="463" name="Picture 5" descr=""/>
            <p:cNvPicPr/>
            <p:nvPr/>
          </p:nvPicPr>
          <p:blipFill>
            <a:blip r:embed="rId1"/>
            <a:stretch/>
          </p:blipFill>
          <p:spPr>
            <a:xfrm>
              <a:off x="281160" y="1677960"/>
              <a:ext cx="198576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6"/>
            <p:cNvSpPr/>
            <p:nvPr/>
          </p:nvSpPr>
          <p:spPr>
            <a:xfrm>
              <a:off x="281160" y="1677960"/>
              <a:ext cx="1985760" cy="14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65" name="Group 7"/>
          <p:cNvGrpSpPr/>
          <p:nvPr/>
        </p:nvGrpSpPr>
        <p:grpSpPr>
          <a:xfrm>
            <a:off x="2411280" y="1916280"/>
            <a:ext cx="1132200" cy="1506240"/>
            <a:chOff x="2411280" y="1916280"/>
            <a:chExt cx="1132200" cy="1506240"/>
          </a:xfrm>
        </p:grpSpPr>
        <p:pic>
          <p:nvPicPr>
            <p:cNvPr id="466" name="Picture 8" descr=""/>
            <p:cNvPicPr/>
            <p:nvPr/>
          </p:nvPicPr>
          <p:blipFill>
            <a:blip r:embed="rId2"/>
            <a:stretch/>
          </p:blipFill>
          <p:spPr>
            <a:xfrm>
              <a:off x="2411280" y="1916280"/>
              <a:ext cx="1132200" cy="15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Text Box 9"/>
            <p:cNvSpPr/>
            <p:nvPr/>
          </p:nvSpPr>
          <p:spPr>
            <a:xfrm>
              <a:off x="2411280" y="1916280"/>
              <a:ext cx="1132200" cy="15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468" name="Text Box 10"/>
          <p:cNvSpPr/>
          <p:nvPr/>
        </p:nvSpPr>
        <p:spPr>
          <a:xfrm>
            <a:off x="183600" y="3716280"/>
            <a:ext cx="302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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Беседы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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Этюды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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гры разной степени 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одвижности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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Творческие  занятия 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69" name="Picture 11" descr=""/>
          <p:cNvPicPr/>
          <p:nvPr/>
        </p:nvPicPr>
        <p:blipFill>
          <a:blip r:embed="rId3"/>
          <a:stretch/>
        </p:blipFill>
        <p:spPr>
          <a:xfrm>
            <a:off x="4356000" y="1844640"/>
            <a:ext cx="2490840" cy="12794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2" descr=""/>
          <p:cNvPicPr/>
          <p:nvPr/>
        </p:nvPicPr>
        <p:blipFill>
          <a:blip r:embed="rId4"/>
          <a:stretch/>
        </p:blipFill>
        <p:spPr>
          <a:xfrm>
            <a:off x="7020000" y="1733400"/>
            <a:ext cx="1946160" cy="138276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13"/>
          <p:cNvSpPr/>
          <p:nvPr/>
        </p:nvSpPr>
        <p:spPr>
          <a:xfrm>
            <a:off x="7020000" y="50101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2" name="Rectangle 14"/>
          <p:cNvSpPr/>
          <p:nvPr/>
        </p:nvSpPr>
        <p:spPr>
          <a:xfrm>
            <a:off x="4356000" y="3716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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Формирование представлений о здоровом образе жизни.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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Формирование привычки следить за своим здоровьем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Medium"/>
              </a:rPr>
              <a:t>Коррекционные технологии</a:t>
            </a: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304920" y="1554120"/>
            <a:ext cx="4262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Сказкотерапия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Технологии музыкального воздействия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Психогимнастика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ико-педагогическая коррекционная технология по работе с детьми с аллергическими заболеваниями в условиях дошкольного учреждения компенсирующего вида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475" name="Group 3"/>
          <p:cNvGrpSpPr/>
          <p:nvPr/>
        </p:nvGrpSpPr>
        <p:grpSpPr>
          <a:xfrm>
            <a:off x="5003640" y="3938760"/>
            <a:ext cx="3119760" cy="2339640"/>
            <a:chOff x="5003640" y="3938760"/>
            <a:chExt cx="3119760" cy="2339640"/>
          </a:xfrm>
        </p:grpSpPr>
        <p:pic>
          <p:nvPicPr>
            <p:cNvPr id="476" name="Picture 4" descr=""/>
            <p:cNvPicPr/>
            <p:nvPr/>
          </p:nvPicPr>
          <p:blipFill>
            <a:blip r:embed="rId1"/>
            <a:stretch/>
          </p:blipFill>
          <p:spPr>
            <a:xfrm>
              <a:off x="5003640" y="3938760"/>
              <a:ext cx="3119760" cy="23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5"/>
            <p:cNvSpPr/>
            <p:nvPr/>
          </p:nvSpPr>
          <p:spPr>
            <a:xfrm>
              <a:off x="5003640" y="3938760"/>
              <a:ext cx="3119760" cy="23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78" name="Group 6"/>
          <p:cNvGrpSpPr/>
          <p:nvPr/>
        </p:nvGrpSpPr>
        <p:grpSpPr>
          <a:xfrm>
            <a:off x="5181480" y="1554120"/>
            <a:ext cx="3214800" cy="2284560"/>
            <a:chOff x="5181480" y="1554120"/>
            <a:chExt cx="3214800" cy="2284560"/>
          </a:xfrm>
        </p:grpSpPr>
        <p:pic>
          <p:nvPicPr>
            <p:cNvPr id="479" name="Picture 7" descr=""/>
            <p:cNvPicPr/>
            <p:nvPr/>
          </p:nvPicPr>
          <p:blipFill>
            <a:blip r:embed="rId2"/>
            <a:stretch/>
          </p:blipFill>
          <p:spPr>
            <a:xfrm>
              <a:off x="5181480" y="1554120"/>
              <a:ext cx="3214800" cy="22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Text Box 8"/>
            <p:cNvSpPr/>
            <p:nvPr/>
          </p:nvSpPr>
          <p:spPr>
            <a:xfrm>
              <a:off x="5181480" y="1554120"/>
              <a:ext cx="3214800" cy="22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Medium"/>
              </a:rPr>
              <a:t>Наши выпускники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482" name="Group 2"/>
          <p:cNvGrpSpPr/>
          <p:nvPr/>
        </p:nvGrpSpPr>
        <p:grpSpPr>
          <a:xfrm>
            <a:off x="544680" y="4030560"/>
            <a:ext cx="2811240" cy="1830600"/>
            <a:chOff x="544680" y="4030560"/>
            <a:chExt cx="2811240" cy="1830600"/>
          </a:xfrm>
        </p:grpSpPr>
        <p:pic>
          <p:nvPicPr>
            <p:cNvPr id="483" name="Picture 3" descr=""/>
            <p:cNvPicPr/>
            <p:nvPr/>
          </p:nvPicPr>
          <p:blipFill>
            <a:blip r:embed="rId1"/>
            <a:stretch/>
          </p:blipFill>
          <p:spPr>
            <a:xfrm>
              <a:off x="544680" y="4030560"/>
              <a:ext cx="2811240" cy="18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Text Box 4"/>
            <p:cNvSpPr/>
            <p:nvPr/>
          </p:nvSpPr>
          <p:spPr>
            <a:xfrm>
              <a:off x="544680" y="4030560"/>
              <a:ext cx="2811240" cy="18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85" name="Group 5"/>
          <p:cNvGrpSpPr/>
          <p:nvPr/>
        </p:nvGrpSpPr>
        <p:grpSpPr>
          <a:xfrm>
            <a:off x="4788000" y="1484280"/>
            <a:ext cx="3335400" cy="2300400"/>
            <a:chOff x="4788000" y="1484280"/>
            <a:chExt cx="3335400" cy="2300400"/>
          </a:xfrm>
        </p:grpSpPr>
        <p:pic>
          <p:nvPicPr>
            <p:cNvPr id="486" name="Picture 6" descr=""/>
            <p:cNvPicPr/>
            <p:nvPr/>
          </p:nvPicPr>
          <p:blipFill>
            <a:blip r:embed="rId2"/>
            <a:stretch/>
          </p:blipFill>
          <p:spPr>
            <a:xfrm>
              <a:off x="4788000" y="1484280"/>
              <a:ext cx="3335400" cy="23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Text Box 7"/>
            <p:cNvSpPr/>
            <p:nvPr/>
          </p:nvSpPr>
          <p:spPr>
            <a:xfrm>
              <a:off x="4788000" y="1484280"/>
              <a:ext cx="3335400" cy="23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88" name="Group 8"/>
          <p:cNvGrpSpPr/>
          <p:nvPr/>
        </p:nvGrpSpPr>
        <p:grpSpPr>
          <a:xfrm>
            <a:off x="826920" y="1484280"/>
            <a:ext cx="3105360" cy="2300400"/>
            <a:chOff x="826920" y="1484280"/>
            <a:chExt cx="3105360" cy="2300400"/>
          </a:xfrm>
        </p:grpSpPr>
        <p:pic>
          <p:nvPicPr>
            <p:cNvPr id="489" name="Picture 9" descr=""/>
            <p:cNvPicPr/>
            <p:nvPr/>
          </p:nvPicPr>
          <p:blipFill>
            <a:blip r:embed="rId3"/>
            <a:stretch/>
          </p:blipFill>
          <p:spPr>
            <a:xfrm>
              <a:off x="826920" y="1484280"/>
              <a:ext cx="3105360" cy="23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Text Box 10"/>
            <p:cNvSpPr/>
            <p:nvPr/>
          </p:nvSpPr>
          <p:spPr>
            <a:xfrm>
              <a:off x="826920" y="1484280"/>
              <a:ext cx="3105360" cy="23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pic>
        <p:nvPicPr>
          <p:cNvPr id="491" name="Picture 11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3621240" cy="243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08:06:57Z</dcterms:created>
  <dc:creator>Иннокентий</dc:creator>
  <dc:description/>
  <dc:language>en-US</dc:language>
  <cp:lastModifiedBy>Иннокентий</cp:lastModifiedBy>
  <dcterms:modified xsi:type="dcterms:W3CDTF">2012-02-03T18:50:32Z</dcterms:modified>
  <cp:revision>46</cp:revision>
  <dc:subject/>
  <dc:title>Презентация PowerPoint</dc:title>
</cp:coreProperties>
</file>