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A54-D402-4A1C-9751-D77E5ED2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8B2-866F-4DAE-B4AF-D580334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38706-0E19-4142-8D26-766845C5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88216-11B5-4624-A4CF-96F4B436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38AD3-FA35-4372-8E46-014E288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5A8EC-3E1C-4354-B333-15FAEC5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3D38C-460C-4D74-9F8E-9B04A09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2D6BB-DA1B-4AFA-B85C-9AFA2C5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7032D8-A82A-46A4-A34D-D21B2B65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20E41-F56E-4FCA-843C-86007BA2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FBD80-A227-46E8-AAFF-8EB16500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8A0-84BA-4E26-B48D-5922CC06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0B6-1CCB-47B8-8878-AD92AFA4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0198D-0D1C-4BA9-923E-7DCFBC84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5BD76-03A5-42B1-881F-CFD745E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C154F-F958-4E63-A1D4-1564A857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3689E-30F3-44B5-A7DA-A2B5C34B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4BFB1-9352-4D06-AF73-1F3B680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0CE2C-35C2-4E75-AD52-90F8DF14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4E323-D233-4B94-93F1-559BF1D3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A08-0C19-4D2B-97FC-3EB2B61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C246B-A9F3-4CCB-9A67-878467F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AE45D-77FA-4258-8ABA-23C472C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67AD-C2EF-41A3-BE61-4DE0A4C5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DF859-6496-42D9-8C3C-B7C64C0A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1D72F-C6C9-4581-AE90-08B90947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79AA-7677-45BA-B3C9-31128317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075B-8512-4D92-AEFC-64063B19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8705-C186-4D85-863C-036B7692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09A2-2A74-4EA1-B70F-699CE70E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5F82-9214-4A8B-BAFA-641A7907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1D0-DA85-48C2-A575-22775018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0F34-AAFD-4954-B7D4-12AF4512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F7CC-9A2D-4466-9644-874A9C9D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9B14-319B-43BE-8D0B-F6F7F8E2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211A-B391-49C8-8F1E-1071F27C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8003-8F07-4EC2-BB30-89984B43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1142-32A6-4B24-B130-047C5776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B544-4FD2-4469-BABA-E325B605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8B4B3-6687-4483-9B47-6A346A94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F5B79-4FF7-4471-93E9-845162D5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65E28-E9EF-4677-A70C-FE5501F6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B71-22DD-43DA-8851-41FAAE2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9507C-83AA-4AAE-9D32-0C634FA2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FCC98-EF72-4F57-B28C-6F90A23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C6EC3-650C-4CD4-9BEC-EBC0ED3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4F0F9-3B29-48F0-BCC0-B929BE0E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9496F-2BE3-4497-8BDD-07E0AB4A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F0A06-06A3-4E29-8E94-7A742305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493B6-6718-495F-8621-B1296F6E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AA8FC-224C-40C8-A889-A06E588D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F3470-FD39-417A-81D4-35D6296C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7F23-C154-4FC9-819F-B6E5D8E9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ACA-A45A-493D-A11B-559DFA0D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A5B2-2AA2-4919-ABDD-F0DA0BF9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04796-F427-4780-A94F-D99ABA8D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E4CE-E2E2-44FB-A68D-91FE591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FB13-4E48-49A9-90CC-F2B5D519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7AA5-5498-41C8-8B76-3C84BF2D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46E11-E64A-469A-9401-9F2096E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32330-696B-42C3-94B4-77C98EB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4F50-9119-4034-A001-4829F35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2E08-2826-48AF-B421-C2B844D9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CDC49-3E1E-4734-A0D5-F2B4034D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CE9-1E08-46CD-9562-2208094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98CC5-8051-4AEB-94C8-6A5CB425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07C5D-D908-4E58-9742-2DDDBCCD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DCCC9-4AC5-4DC4-B6AB-D6FE82E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0FA4-3761-4F27-BDF1-4F180828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7D271-B66E-4A20-B500-1089846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5EBD-9A4D-4FB6-8772-834A6D4B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13F9E-2824-4EC8-9A78-1AC7022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9BC6E-2FC8-46C0-B2D4-854FDC66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DF47A-BAE3-48AE-9978-A23E850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AC7FC-BE38-42B5-B333-A3761C9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2CA-E949-4624-BA36-5CF5B99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2551-6996-4720-BC44-44193ED2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2EB05-DD96-4A7D-8254-C417A063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6C654-7C05-4412-90A7-FEFA3656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DECF-1B3A-47B2-B904-22703A29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16653-2B5C-460F-BBD4-9C52F26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5B6B-37E9-478A-A1FD-606FCF51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15237-66DA-4F90-ABD8-A081F80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FD55C-B449-4A30-A9A6-8308A08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AE683-A315-4A46-A751-E1FF6847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DE3B-0437-4EBD-8284-F23E2F1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AFB-6CBC-4FD7-8830-6542272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FEF7-8F91-4FCE-857D-18364EE5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8C10-D349-48ED-AE67-49F2A47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7E7A-C518-4521-B542-F79E26A4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667BB-1649-40D6-A067-1791FD0F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6EDC8-2556-4FAC-B406-3B9AD394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28C3B-0772-4DDF-AD92-F95670F0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AC91E2-48B3-4623-9C9C-97CE640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5F7AC-6BC9-4301-8CBD-E404F168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F64E99-C9F7-46E1-A935-BEBC0F5C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B2691D-63D0-41CC-8BC9-3957F94F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293-CDF9-4AEC-BB41-A0D7A85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E9B81-9BA1-445F-9532-EC0486C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D973A-372D-438F-B248-3474C872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4D24D-ABFF-4930-B2FA-8D8F4542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2960C8-394B-4940-8E23-4C3D0550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ECB0F-58BD-4A03-B586-2629111E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245AF9-AC68-4B0E-8DCA-B6901620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49615-1CCF-4176-8A50-D4799451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48F42-5B3F-4A20-A284-449C1B71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9C79A1-209F-47A9-85F1-654D19E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43848-A87F-4616-9132-D0C141D9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8BF5-BF80-4183-B1C1-4C2F010D11E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D6FB-0A4C-4782-B2FA-6DBBC81A128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45B8-CA7E-4CC5-AC19-B3C5513DD0A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06B3-02CC-4346-AA16-423DAC7566F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F2D8-0C63-47DC-98C6-0CC8A3850B9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A6FB-9839-4BE8-90B9-9EDAC281A68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A8A9-124A-41C4-B47A-FF7348F2483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DFEC-06AA-404B-B8C4-B124E500270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4509-3030-42BC-B91B-164F5DBF636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11040" y="-208080"/>
            <a:ext cx="8777520" cy="2884680"/>
          </a:xfrm>
          <a:prstGeom prst="rect">
            <a:avLst/>
          </a:prstGeom>
          <a:ln w="0">
            <a:noFill/>
          </a:ln>
        </p:spPr>
      </p:pic>
      <p:grpSp>
        <p:nvGrpSpPr>
          <p:cNvPr id="395" name="Группа 14"/>
          <p:cNvGrpSpPr/>
          <p:nvPr/>
        </p:nvGrpSpPr>
        <p:grpSpPr>
          <a:xfrm>
            <a:off x="2309760" y="2916360"/>
            <a:ext cx="3702240" cy="3114720"/>
            <a:chOff x="2309760" y="2916360"/>
            <a:chExt cx="3702240" cy="3114720"/>
          </a:xfrm>
        </p:grpSpPr>
        <p:grpSp>
          <p:nvGrpSpPr>
            <p:cNvPr id="396" name="Группа 7"/>
            <p:cNvGrpSpPr/>
            <p:nvPr/>
          </p:nvGrpSpPr>
          <p:grpSpPr>
            <a:xfrm>
              <a:off x="2890080" y="3395160"/>
              <a:ext cx="2507040" cy="2199960"/>
              <a:chOff x="2890080" y="3395160"/>
              <a:chExt cx="2507040" cy="2199960"/>
            </a:xfrm>
          </p:grpSpPr>
          <p:sp>
            <p:nvSpPr>
              <p:cNvPr id="397" name="Шестиугольник 4"/>
              <p:cNvSpPr/>
              <p:nvPr/>
            </p:nvSpPr>
            <p:spPr>
              <a:xfrm>
                <a:off x="2890080" y="3395160"/>
                <a:ext cx="2507040" cy="2199960"/>
              </a:xfrm>
              <a:prstGeom prst="hexagon">
                <a:avLst>
                  <a:gd name="adj" fmla="val 24564"/>
                  <a:gd name="vf" fmla="val 115470"/>
                </a:avLst>
              </a:prstGeom>
              <a:noFill/>
              <a:ln w="38160">
                <a:solidFill>
                  <a:srgbClr val="e8b7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Овал 6"/>
              <p:cNvSpPr/>
              <p:nvPr/>
            </p:nvSpPr>
            <p:spPr>
              <a:xfrm>
                <a:off x="3057120" y="3395160"/>
                <a:ext cx="2158560" cy="2197080"/>
              </a:xfrm>
              <a:prstGeom prst="ellipse">
                <a:avLst/>
              </a:prstGeom>
              <a:noFill/>
              <a:ln w="38160">
                <a:solidFill>
                  <a:srgbClr val="e8b7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99" name="TextBox 8" descr=""/>
            <p:cNvPicPr/>
            <p:nvPr/>
          </p:nvPicPr>
          <p:blipFill>
            <a:blip r:embed="rId2"/>
            <a:stretch/>
          </p:blipFill>
          <p:spPr>
            <a:xfrm>
              <a:off x="2309760" y="4272480"/>
              <a:ext cx="58356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TextBox 9" descr=""/>
            <p:cNvPicPr/>
            <p:nvPr/>
          </p:nvPicPr>
          <p:blipFill>
            <a:blip r:embed="rId3"/>
            <a:stretch/>
          </p:blipFill>
          <p:spPr>
            <a:xfrm>
              <a:off x="3129120" y="2922120"/>
              <a:ext cx="58356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TextBox 10" descr=""/>
            <p:cNvPicPr/>
            <p:nvPr/>
          </p:nvPicPr>
          <p:blipFill>
            <a:blip r:embed="rId4"/>
            <a:stretch/>
          </p:blipFill>
          <p:spPr>
            <a:xfrm>
              <a:off x="4662000" y="2916360"/>
              <a:ext cx="58356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TextBox 11" descr=""/>
            <p:cNvPicPr/>
            <p:nvPr/>
          </p:nvPicPr>
          <p:blipFill>
            <a:blip r:embed="rId5"/>
            <a:stretch/>
          </p:blipFill>
          <p:spPr>
            <a:xfrm>
              <a:off x="5428440" y="4272480"/>
              <a:ext cx="58356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TextBox 12" descr=""/>
            <p:cNvPicPr/>
            <p:nvPr/>
          </p:nvPicPr>
          <p:blipFill>
            <a:blip r:embed="rId6"/>
            <a:stretch/>
          </p:blipFill>
          <p:spPr>
            <a:xfrm>
              <a:off x="4567680" y="5617080"/>
              <a:ext cx="58356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TextBox 13" descr=""/>
            <p:cNvPicPr/>
            <p:nvPr/>
          </p:nvPicPr>
          <p:blipFill>
            <a:blip r:embed="rId7"/>
            <a:stretch/>
          </p:blipFill>
          <p:spPr>
            <a:xfrm>
              <a:off x="3176280" y="5617080"/>
              <a:ext cx="583560" cy="41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4" descr=""/>
          <p:cNvPicPr/>
          <p:nvPr/>
        </p:nvPicPr>
        <p:blipFill>
          <a:blip r:embed="rId1"/>
          <a:stretch/>
        </p:blipFill>
        <p:spPr>
          <a:xfrm>
            <a:off x="6084720" y="2006640"/>
            <a:ext cx="2657520" cy="3105000"/>
          </a:xfrm>
          <a:prstGeom prst="rect">
            <a:avLst/>
          </a:prstGeom>
          <a:ln w="0">
            <a:noFill/>
          </a:ln>
        </p:spPr>
      </p:pic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-139680" y="-122400"/>
            <a:ext cx="9442440" cy="15494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50920" y="1600200"/>
            <a:ext cx="6408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ый шестиугольник вписана окружность радиуса 8 см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: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indent="2811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у шестиугольника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indent="2811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шестиугольника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indent="2811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около него окружност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08" name="Группа 27"/>
          <p:cNvGrpSpPr/>
          <p:nvPr/>
        </p:nvGrpSpPr>
        <p:grpSpPr>
          <a:xfrm>
            <a:off x="6482880" y="1268280"/>
            <a:ext cx="2193840" cy="2615400"/>
            <a:chOff x="6482880" y="1268280"/>
            <a:chExt cx="2193840" cy="2615400"/>
          </a:xfrm>
        </p:grpSpPr>
        <p:grpSp>
          <p:nvGrpSpPr>
            <p:cNvPr id="409" name="Группа 16"/>
            <p:cNvGrpSpPr/>
            <p:nvPr/>
          </p:nvGrpSpPr>
          <p:grpSpPr>
            <a:xfrm>
              <a:off x="6482880" y="1496160"/>
              <a:ext cx="2193840" cy="2097360"/>
              <a:chOff x="6482880" y="1496160"/>
              <a:chExt cx="2193840" cy="2097360"/>
            </a:xfrm>
          </p:grpSpPr>
          <p:sp>
            <p:nvSpPr>
              <p:cNvPr id="410" name="Прямая соединительная линия 12"/>
              <p:cNvSpPr/>
              <p:nvPr/>
            </p:nvSpPr>
            <p:spPr>
              <a:xfrm>
                <a:off x="6840360" y="2547720"/>
                <a:ext cx="72216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1" name="Группа 15"/>
              <p:cNvGrpSpPr/>
              <p:nvPr/>
            </p:nvGrpSpPr>
            <p:grpSpPr>
              <a:xfrm>
                <a:off x="6482880" y="1496160"/>
                <a:ext cx="2193840" cy="2097360"/>
                <a:chOff x="6482880" y="1496160"/>
                <a:chExt cx="2193840" cy="2097360"/>
              </a:xfrm>
            </p:grpSpPr>
            <p:grpSp>
              <p:nvGrpSpPr>
                <p:cNvPr id="412" name="Группа 8"/>
                <p:cNvGrpSpPr/>
                <p:nvPr/>
              </p:nvGrpSpPr>
              <p:grpSpPr>
                <a:xfrm>
                  <a:off x="6482880" y="1496160"/>
                  <a:ext cx="2193840" cy="2097360"/>
                  <a:chOff x="6482880" y="1496160"/>
                  <a:chExt cx="2193840" cy="2097360"/>
                </a:xfrm>
              </p:grpSpPr>
              <p:sp>
                <p:nvSpPr>
                  <p:cNvPr id="413" name="Овал 4"/>
                  <p:cNvSpPr/>
                  <p:nvPr/>
                </p:nvSpPr>
                <p:spPr>
                  <a:xfrm rot="1598400">
                    <a:off x="6849720" y="1801080"/>
                    <a:ext cx="1465560" cy="14875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Шестиугольник 5"/>
                  <p:cNvSpPr/>
                  <p:nvPr/>
                </p:nvSpPr>
                <p:spPr>
                  <a:xfrm rot="1598400">
                    <a:off x="6726240" y="1799640"/>
                    <a:ext cx="1706760" cy="1490400"/>
                  </a:xfrm>
                  <a:prstGeom prst="hexagon">
                    <a:avLst>
                      <a:gd name="adj" fmla="val 24992"/>
                      <a:gd name="vf" fmla="val 11547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5" name="TextBox 14"/>
                <p:cNvSpPr/>
                <p:nvPr/>
              </p:nvSpPr>
              <p:spPr>
                <a:xfrm rot="1598400">
                  <a:off x="7548120" y="2433960"/>
                  <a:ext cx="28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Cambria"/>
                    </a:rPr>
                    <a:t>О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Группа 26"/>
            <p:cNvGrpSpPr/>
            <p:nvPr/>
          </p:nvGrpSpPr>
          <p:grpSpPr>
            <a:xfrm>
              <a:off x="6516720" y="1268280"/>
              <a:ext cx="2152440" cy="2615400"/>
              <a:chOff x="6516720" y="1268280"/>
              <a:chExt cx="2152440" cy="2615400"/>
            </a:xfrm>
          </p:grpSpPr>
          <p:sp>
            <p:nvSpPr>
              <p:cNvPr id="417" name="TextBox 18"/>
              <p:cNvSpPr/>
              <p:nvPr/>
            </p:nvSpPr>
            <p:spPr>
              <a:xfrm>
                <a:off x="6516720" y="292284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Rockwel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TextBox 19"/>
              <p:cNvSpPr/>
              <p:nvPr/>
            </p:nvSpPr>
            <p:spPr>
              <a:xfrm>
                <a:off x="6545160" y="200232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Rockwel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TextBox 20"/>
              <p:cNvSpPr/>
              <p:nvPr/>
            </p:nvSpPr>
            <p:spPr>
              <a:xfrm>
                <a:off x="7329960" y="126828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Rockwel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TextBox 21"/>
              <p:cNvSpPr/>
              <p:nvPr/>
            </p:nvSpPr>
            <p:spPr>
              <a:xfrm>
                <a:off x="8372160" y="186012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Rockwel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TextBox 22"/>
              <p:cNvSpPr/>
              <p:nvPr/>
            </p:nvSpPr>
            <p:spPr>
              <a:xfrm>
                <a:off x="8381520" y="279504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Rockwell"/>
                  </a:rPr>
                  <a:t>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Box 23"/>
              <p:cNvSpPr/>
              <p:nvPr/>
            </p:nvSpPr>
            <p:spPr>
              <a:xfrm>
                <a:off x="7517520" y="351540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Rockwel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TextBox 28"/>
              <p:cNvSpPr/>
              <p:nvPr/>
            </p:nvSpPr>
            <p:spPr>
              <a:xfrm>
                <a:off x="6914160" y="2248200"/>
                <a:ext cx="79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Rockwell"/>
                  </a:rPr>
                  <a:t>8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Cambria"/>
                  </a:rPr>
                  <a:t>с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1089000" y="4552920"/>
                <a:ext cx="5554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07960" y="5132520"/>
                <a:ext cx="113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EF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"/>
              <p:cNvSpPr txBox="1"/>
              <p:nvPr/>
            </p:nvSpPr>
            <p:spPr>
              <a:xfrm>
                <a:off x="1120680" y="5854680"/>
                <a:ext cx="4860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4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-139680" y="-6480"/>
            <a:ext cx="9442440" cy="1683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0" y="148392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4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в правильном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ольник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88920" indent="24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88920" indent="24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88920" indent="24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88920" indent="24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сторона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иус вписанной окружности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диус описанной окружности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иметр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лощадь многоугольника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88920" indent="244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7"/>
              <p:cNvSpPr txBox="1"/>
              <p:nvPr/>
            </p:nvSpPr>
            <p:spPr>
              <a:xfrm>
                <a:off x="438120" y="2176560"/>
                <a:ext cx="39578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450720" y="3137040"/>
                <a:ext cx="39211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1"/>
              <p:cNvSpPr txBox="1"/>
              <p:nvPr/>
            </p:nvSpPr>
            <p:spPr>
              <a:xfrm>
                <a:off x="1736640" y="3946680"/>
                <a:ext cx="8636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-139680" y="-6480"/>
            <a:ext cx="9442440" cy="16830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0" y="148392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4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88920" indent="244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663640" cy="38257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3132000" y="1268280"/>
                <a:ext cx="1724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8"/>
              <p:cNvSpPr txBox="1"/>
              <p:nvPr/>
            </p:nvSpPr>
            <p:spPr>
              <a:xfrm>
                <a:off x="3132000" y="1916280"/>
                <a:ext cx="18860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10"/>
              <p:cNvSpPr txBox="1"/>
              <p:nvPr/>
            </p:nvSpPr>
            <p:spPr>
              <a:xfrm>
                <a:off x="3132000" y="2637000"/>
                <a:ext cx="13176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Rectangle 12"/>
          <p:cNvSpPr/>
          <p:nvPr/>
        </p:nvSpPr>
        <p:spPr>
          <a:xfrm>
            <a:off x="5148360" y="155772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3"/>
              <p:cNvSpPr txBox="1"/>
              <p:nvPr/>
            </p:nvSpPr>
            <p:spPr>
              <a:xfrm>
                <a:off x="5219640" y="2349360"/>
                <a:ext cx="14400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7"/>
              <p:cNvSpPr txBox="1"/>
              <p:nvPr/>
            </p:nvSpPr>
            <p:spPr>
              <a:xfrm>
                <a:off x="3059280" y="3141720"/>
                <a:ext cx="185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19"/>
              <p:cNvSpPr txBox="1"/>
              <p:nvPr/>
            </p:nvSpPr>
            <p:spPr>
              <a:xfrm>
                <a:off x="5076720" y="3141720"/>
                <a:ext cx="1871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21"/>
              <p:cNvSpPr txBox="1"/>
              <p:nvPr/>
            </p:nvSpPr>
            <p:spPr>
              <a:xfrm>
                <a:off x="3059280" y="3933720"/>
                <a:ext cx="37764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O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H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3"/>
              <p:cNvSpPr txBox="1"/>
              <p:nvPr/>
            </p:nvSpPr>
            <p:spPr>
              <a:xfrm>
                <a:off x="3059280" y="4508640"/>
                <a:ext cx="4338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O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∈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H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5"/>
              <p:cNvSpPr txBox="1"/>
              <p:nvPr/>
            </p:nvSpPr>
            <p:spPr>
              <a:xfrm>
                <a:off x="3059280" y="5070600"/>
                <a:ext cx="3168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7"/>
              <p:cNvSpPr txBox="1"/>
              <p:nvPr/>
            </p:nvSpPr>
            <p:spPr>
              <a:xfrm>
                <a:off x="971640" y="5742000"/>
                <a:ext cx="201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29"/>
              <p:cNvSpPr txBox="1"/>
              <p:nvPr/>
            </p:nvSpPr>
            <p:spPr>
              <a:xfrm>
                <a:off x="5364000" y="5732640"/>
                <a:ext cx="22323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4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4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583080" cy="3424320"/>
          </a:xfrm>
          <a:prstGeom prst="rect">
            <a:avLst/>
          </a:prstGeom>
          <a:ln w="0">
            <a:noFill/>
          </a:ln>
        </p:spPr>
      </p:pic>
      <p:pic>
        <p:nvPicPr>
          <p:cNvPr id="471" name="Заголовок 11" descr=""/>
          <p:cNvPicPr/>
          <p:nvPr/>
        </p:nvPicPr>
        <p:blipFill>
          <a:blip r:embed="rId2"/>
          <a:stretch/>
        </p:blipFill>
        <p:spPr>
          <a:xfrm>
            <a:off x="139680" y="255600"/>
            <a:ext cx="4870440" cy="36831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8659800" cy="22129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11"/>
              <p:cNvSpPr txBox="1"/>
              <p:nvPr/>
            </p:nvSpPr>
            <p:spPr>
              <a:xfrm>
                <a:off x="4040280" y="1468440"/>
                <a:ext cx="431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2570040" y="3129120"/>
                <a:ext cx="4017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4"/>
              <p:cNvSpPr txBox="1"/>
              <p:nvPr/>
            </p:nvSpPr>
            <p:spPr>
              <a:xfrm>
                <a:off x="900000" y="3471840"/>
                <a:ext cx="100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2843280" y="3965400"/>
                <a:ext cx="4759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"/>
              <p:cNvSpPr txBox="1"/>
              <p:nvPr/>
            </p:nvSpPr>
            <p:spPr>
              <a:xfrm>
                <a:off x="1266840" y="4405320"/>
                <a:ext cx="72342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"/>
              <p:cNvSpPr txBox="1"/>
              <p:nvPr/>
            </p:nvSpPr>
            <p:spPr>
              <a:xfrm>
                <a:off x="844560" y="5324400"/>
                <a:ext cx="78566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Rectangle 6"/>
          <p:cNvSpPr/>
          <p:nvPr/>
        </p:nvSpPr>
        <p:spPr>
          <a:xfrm>
            <a:off x="395280" y="21708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правильного треугольника, вписанного в окружность, равен 18 см.  Найдите сторону квадрата, вписанного в ту же окруж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Группа 10" descr=""/>
          <p:cNvPicPr/>
          <p:nvPr/>
        </p:nvPicPr>
        <p:blipFill>
          <a:blip r:embed="rId1"/>
          <a:stretch/>
        </p:blipFill>
        <p:spPr>
          <a:xfrm>
            <a:off x="371520" y="1407960"/>
            <a:ext cx="2487600" cy="2487600"/>
          </a:xfrm>
          <a:prstGeom prst="rect">
            <a:avLst/>
          </a:prstGeom>
          <a:ln w="0">
            <a:noFill/>
          </a:ln>
        </p:spPr>
      </p:pic>
      <p:grpSp>
        <p:nvGrpSpPr>
          <p:cNvPr id="483" name="Группа 14"/>
          <p:cNvGrpSpPr/>
          <p:nvPr/>
        </p:nvGrpSpPr>
        <p:grpSpPr>
          <a:xfrm>
            <a:off x="2987640" y="1413000"/>
            <a:ext cx="2592360" cy="2592360"/>
            <a:chOff x="2987640" y="1413000"/>
            <a:chExt cx="2592360" cy="2592360"/>
          </a:xfrm>
        </p:grpSpPr>
        <p:sp>
          <p:nvSpPr>
            <p:cNvPr id="484" name="Овал 2"/>
            <p:cNvSpPr/>
            <p:nvPr/>
          </p:nvSpPr>
          <p:spPr>
            <a:xfrm>
              <a:off x="2987640" y="1413000"/>
              <a:ext cx="2592360" cy="2592360"/>
            </a:xfrm>
            <a:prstGeom prst="ellipse">
              <a:avLst/>
            </a:prstGeom>
            <a:noFill/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оугольник 13"/>
            <p:cNvSpPr/>
            <p:nvPr/>
          </p:nvSpPr>
          <p:spPr>
            <a:xfrm>
              <a:off x="3301920" y="1814400"/>
              <a:ext cx="1936800" cy="1712880"/>
            </a:xfrm>
            <a:prstGeom prst="rect">
              <a:avLst/>
            </a:prstGeom>
            <a:noFill/>
            <a:ln w="38160">
              <a:solidFill>
                <a:srgbClr val="e8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Rectangle 6"/>
          <p:cNvSpPr/>
          <p:nvPr/>
        </p:nvSpPr>
        <p:spPr>
          <a:xfrm>
            <a:off x="5867280" y="1485360"/>
            <a:ext cx="34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=1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7"/>
              <p:cNvSpPr txBox="1"/>
              <p:nvPr/>
            </p:nvSpPr>
            <p:spPr>
              <a:xfrm>
                <a:off x="6875640" y="2708280"/>
                <a:ext cx="520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7:52:17Z</dcterms:created>
  <dc:creator>И</dc:creator>
  <dc:description/>
  <dc:language>en-US</dc:language>
  <cp:lastModifiedBy>И</cp:lastModifiedBy>
  <dcterms:modified xsi:type="dcterms:W3CDTF">2012-02-03T16:28:42Z</dcterms:modified>
  <cp:revision>35</cp:revision>
  <dc:subject/>
  <dc:title>Формулы для вычисления площади правильного многоугольника, его стороны и радиуса вписанной окружности</dc:title>
</cp:coreProperties>
</file>