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9B4-C349-4A6E-9F82-711525CF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02C-E3C0-4526-831C-49C9E9FF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D6B-CB89-4B8A-953E-97CE1C82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681-B7CA-4D50-9745-2C172450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0B3E-55F4-4EF7-8924-E3805F85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8821-B762-4BA3-A5BB-5C9D6DE1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F235-C5A8-4108-969C-AB2284B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ED5B-7124-47CE-8D8A-9551EA6F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E8BD-39DF-4A9D-B9AA-EDFA16C6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77F-5D8F-40F6-B6C1-B707D596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EEA7-BE29-4FCA-9B70-262FF94F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F8E-831F-4FFD-8295-C16D4EFD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A0E7-9ACF-4E3D-B46E-9566ADF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35DD-BF65-4559-A4A9-4C8F6F14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28D6-853D-4931-AA33-4A340F7C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52B-E42A-476B-B058-3F890F3A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63E-0E99-4E44-A9CC-F7AE3CD2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2102-456B-4A88-A852-733F7D50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97B6-861C-4310-8340-F079C8B6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29AF-D56E-4B58-B032-BFA0E876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F44A2-B493-4849-9479-FF1FF642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CB85-1A79-438D-B5E3-DBA21CF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97C-21F3-4AC3-8547-4348D09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3B2B-DFEB-4FD1-B245-92D4EC9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A1E4-3102-4FB9-8C0B-E5E279B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DC61-5A2B-40B6-A21A-8902D9A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1DC4F-822B-4FE6-8083-6170D0E7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E6798-6F03-42E8-BF4D-26D658E0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A085-4A4B-427B-B2FD-98766167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39D6-4FB0-48AA-B54B-D7312607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4797B-129F-415F-BCC6-30DC871A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E163-7262-4482-814D-7ECD0836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CACC-45BD-414C-9A1A-69D254BC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BEE-3B35-4170-A5F9-64342D2E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1265-F223-4F5A-A96F-0A977690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8795-7DF2-4624-B8C0-F9BA25D9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E142-852B-4522-BD38-49A1CE80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45FC-4D70-4AAF-803E-AC14C609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FB44-9DC3-4434-B0CF-8995C0E3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37F5-71CB-40CC-80D9-0144CB2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ED8C-0861-47F7-8D56-420D544C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4D9F5-B8EA-4287-9AD7-08C88B1A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A634-1DC5-412A-B617-B8EB259B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2446-7FBA-4FA1-ABC0-05090574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14A-8506-4E39-ABC5-6313C54E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1FA0B-56D7-4D0B-87A0-28A21A71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CAD3-4619-4B9C-8425-4E90BBE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C45F5-B10F-4FCF-A896-5F108C3A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EA04-2B2E-41E7-ACCD-B8EE1204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2D826-4553-4277-8C5B-09928189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5F0F-26B0-4C53-83CD-F206FA50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4CD3D-46E0-461E-8A38-2E25C9F1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5974F-4497-4F74-88AD-7ECA856A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75802-10CF-49BE-AE47-480EF6BE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DF878-7DCB-418A-A345-CBF5537B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0C9-8A84-4743-A84F-FC6D224B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B1F8-4E11-41B5-9CDA-748E10CC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AD9-4E94-4448-A076-20CAE4F6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D09-8EC8-40FC-A5BF-63585D9B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4E8-045D-4772-A830-5F57A729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CB56-8B9C-457E-B29F-52EA47C1095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84F0-04B1-4801-ABB2-9932BE16B79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0159-8ECF-40BB-8E31-DD66E42C738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F161-0D88-4EC8-B31C-EA3A9F8065B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C529-BBF6-4B90-A2B7-B4125705845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214200" y="357120"/>
            <a:ext cx="792000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c66bb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дагогическое мастерство</a:t>
            </a:r>
            <a:endParaRPr b="1" lang="en-US" sz="1800" spc="1" strike="noStrike">
              <a:ln w="9360">
                <a:solidFill>
                  <a:srgbClr val="ac66bb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c66bb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ac66bb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качество образования:</a:t>
            </a:r>
            <a:endParaRPr b="1" lang="en-US" sz="1800" spc="1" strike="noStrike">
              <a:ln w="9360">
                <a:solidFill>
                  <a:srgbClr val="ac66bb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c66bb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ac66bb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ыт, мастерство"</a:t>
            </a:r>
            <a:endParaRPr b="1" lang="en-US" sz="1800" spc="1" strike="noStrike">
              <a:ln w="9360">
                <a:solidFill>
                  <a:srgbClr val="ac66bb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ac66bb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1" name="Picture 8" descr="vectorstock-238775-back-to-school-illustration-vector"/>
          <p:cNvPicPr/>
          <p:nvPr/>
        </p:nvPicPr>
        <p:blipFill>
          <a:blip r:embed="rId1"/>
          <a:stretch/>
        </p:blipFill>
        <p:spPr>
          <a:xfrm>
            <a:off x="3276720" y="3860640"/>
            <a:ext cx="2573280" cy="27082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2936880" y="324468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Деловая иг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457200" y="1609560"/>
          <a:ext cx="7238880" cy="4472280"/>
        </p:xfrm>
        <a:graphic>
          <a:graphicData uri="http://schemas.openxmlformats.org/drawingml/2006/table">
            <a:tbl>
              <a:tblPr/>
              <a:tblGrid>
                <a:gridCol w="471600"/>
                <a:gridCol w="2423880"/>
                <a:gridCol w="1447920"/>
                <a:gridCol w="1447920"/>
                <a:gridCol w="1447560"/>
              </a:tblGrid>
              <a:tr h="8557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   Я не могу учиться лучше, так, как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то мне не хочется учи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5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огое не поним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5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огу заставить себя работ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не успеваю работать вместе со все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20101007111354"/>
          <p:cNvPicPr/>
          <p:nvPr/>
        </p:nvPicPr>
        <p:blipFill>
          <a:blip r:embed="rId1"/>
          <a:stretch/>
        </p:blipFill>
        <p:spPr>
          <a:xfrm>
            <a:off x="214200" y="214200"/>
            <a:ext cx="8143920" cy="5959440"/>
          </a:xfrm>
          <a:prstGeom prst="rect">
            <a:avLst/>
          </a:prstGeom>
          <a:ln w="0">
            <a:noFill/>
          </a:ln>
        </p:spPr>
      </p:pic>
      <p:sp>
        <p:nvSpPr>
          <p:cNvPr id="242" name="Заголовок 1"/>
          <p:cNvSpPr/>
          <p:nvPr/>
        </p:nvSpPr>
        <p:spPr>
          <a:xfrm>
            <a:off x="179280" y="121428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Bookman Old Style"/>
              </a:rPr>
              <a:t>АНТИТЕЗЫ КРИТЕРИЕВ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1500120" y="2933280"/>
            <a:ext cx="66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ЫНИЦИАТИВНЫЙ-ИНИЦИАТИВ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ВЫЙ-ТРУДОЛЮБИВ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ЯННЫЙ-СОБРАНН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7255080" cy="1206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торое задани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Что вы считаете признакам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наличия высокой мотивации достижений в учёбе? (Выберите три ответа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Третье  задание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Какие формы стимулирова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вы применяете в учебной работе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ANd9GcSrMqTM08Rhh-_ZHeDaUIBHEuqAkuR_bydI9oaD9aZATbIVxWZt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4"/>
          <p:cNvSpPr/>
          <p:nvPr/>
        </p:nvSpPr>
        <p:spPr>
          <a:xfrm>
            <a:off x="1000080" y="21420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Открытый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	</a:t>
            </a:r>
            <a:r>
              <a:rPr b="1" lang="ru-RU" sz="60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	</a:t>
            </a:r>
            <a:r>
              <a:rPr b="1" lang="ru-RU" sz="60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	</a:t>
            </a:r>
            <a:r>
              <a:rPr b="1" lang="ru-RU" sz="60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      </a:t>
            </a:r>
            <a:r>
              <a:rPr b="1" lang="ru-RU" sz="60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микрофон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39400" cy="6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214200" y="714240"/>
          <a:ext cx="8643960" cy="614520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62160"/>
                <a:gridCol w="2160360"/>
              </a:tblGrid>
              <a:tr h="540000"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ействия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gridSpan="3"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акция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224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учитель пользуется ав­торит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1916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йтральном отношении к учит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544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отрицательном от­ношении к учит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1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ь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3480" indent="-33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явление рад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гласие выполнить без обяза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5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гласие без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34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2240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язательность  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1916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при наличии своих интере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нор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369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3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ественное, добросовестное вы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1916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льное вы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5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ход от выполнения тре­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3964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каз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ра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1916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способлен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злоб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365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ощ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3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ие ответственности и требовательности к се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дово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5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рение к учит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236600"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щ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3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ощь учителю в выполнении обещанного 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мнение, скептицизм к обещанн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5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ижение значения вы­полненного обещания и злорадство по поводу его не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39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3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ощь учителю в его рабо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ие критичности к учит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5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иление негативного отношения к учит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603360" y="1616040"/>
            <a:ext cx="82422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«Не забывайте, что почва, на которой строится ваше педагогическое мастерство, — в самом ребенке, в его отношении к знаниям и к вам, учителю. Это — желание учиться, вдохновение, готовность к преодолению трудностей. Заботливо обогащайте эту почву, без нее нет школы.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. А. Сухомлинский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41212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857160"/>
          <a:ext cx="8929800" cy="571500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8049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ъяснительный спосо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еятельностный спосо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1880">
                <a:tc>
                  <a:txBody>
                    <a:bodyPr lIns="25560" rIns="25560" tIns="0" bIns="0" anchor="t">
                      <a:noAutofit/>
                    </a:bodyPr>
                    <a:p>
                      <a:pPr marL="154080" algn="ctr">
                        <a:lnSpc>
                          <a:spcPts val="10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ctr">
                        <a:lnSpc>
                          <a:spcPts val="10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уются внешние мотив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ctr">
                        <a:lnSpc>
                          <a:spcPts val="10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5408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а на внутренние мотив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481040">
                <a:tc>
                  <a:txBody>
                    <a:bodyPr lIns="25560" rIns="25560" tIns="0" bIns="0" anchor="t">
                      <a:noAutofit/>
                    </a:bodyPr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ираются педагогом, час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уются привы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ства, независимо о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вленной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ый с учащимися выб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нообразных обучающих средст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just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екватных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57240">
                <a:tc>
                  <a:txBody>
                    <a:bodyPr lIns="25560" rIns="25560" tIns="0" bIns="0" anchor="t">
                      <a:noAutofit/>
                    </a:bodyPr>
                    <a:p>
                      <a:pPr marL="15408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уются инвариантные действ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усмотренные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риативность действий, созд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уации выбора в соответствии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стями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35280">
                <a:tc>
                  <a:txBody>
                    <a:bodyPr lIns="25560" rIns="25560" tIns="0" bIns="0" anchor="t">
                      <a:noAutofit/>
                    </a:bodyPr>
                    <a:p>
                      <a:pPr marL="24444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4444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леживается внешний результа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4444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ым образом  уровень усво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ое - внутренние пози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изменения в процес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04600">
                <a:tc>
                  <a:txBody>
                    <a:bodyPr lIns="25560" rIns="25560" tIns="0" bIns="0" anchor="t">
                      <a:noAutofit/>
                    </a:bodyPr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е полученного результата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6336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принятыми этало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5408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на основе приме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154080" algn="ctr"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ых этал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ми все то, что есть в ребенке, как естественное, сообразное его природ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Сопроводи его позитивную самореализацию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Старайся ничему не учить ребенка напрямую. Учись са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Ищи истину вместе с ним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Искренне восхищайся всем красивы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7255080" cy="96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214200" y="1357200"/>
          <a:ext cx="7832880" cy="4662720"/>
        </p:xfrm>
        <a:graphic>
          <a:graphicData uri="http://schemas.openxmlformats.org/drawingml/2006/table">
            <a:tbl>
              <a:tblPr/>
              <a:tblGrid>
                <a:gridCol w="571680"/>
                <a:gridCol w="3214800"/>
                <a:gridCol w="1143000"/>
                <a:gridCol w="928440"/>
                <a:gridCol w="1000080"/>
                <a:gridCol w="93600"/>
                <a:gridCol w="881280"/>
              </a:tblGrid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,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к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к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к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к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Почему (зачем) вы учитесь, ходите в школу? Что вас заставляет учить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9440" indent="-6494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ится получать пятё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и заставля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3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усь потому, что так над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12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му что интересно, нравится узнавать н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3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ятся отдельные предме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12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ся не нравится, но общаться с друзьями в школе нрав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457200" y="1609560"/>
          <a:ext cx="8043840" cy="4534200"/>
        </p:xfrm>
        <a:graphic>
          <a:graphicData uri="http://schemas.openxmlformats.org/drawingml/2006/table">
            <a:tbl>
              <a:tblPr/>
              <a:tblGrid>
                <a:gridCol w="682560"/>
                <a:gridCol w="3075120"/>
                <a:gridCol w="1143000"/>
                <a:gridCol w="1071360"/>
                <a:gridCol w="1071720"/>
                <a:gridCol w="1000080"/>
              </a:tblGrid>
              <a:tr h="11336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 Поставьте свои собственные цели в учебной деятельнос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3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ить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 классов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3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ся без двоек (тро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33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1124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ть культурным и образованным челове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20101007111354"/>
          <p:cNvPicPr/>
          <p:nvPr/>
        </p:nvPicPr>
        <p:blipFill>
          <a:blip r:embed="rId1"/>
          <a:stretch/>
        </p:blipFill>
        <p:spPr>
          <a:xfrm>
            <a:off x="214200" y="214200"/>
            <a:ext cx="8143920" cy="5959440"/>
          </a:xfrm>
          <a:prstGeom prst="rect">
            <a:avLst/>
          </a:prstGeom>
          <a:ln w="0">
            <a:noFill/>
          </a:ln>
        </p:spPr>
      </p:pic>
      <p:sp>
        <p:nvSpPr>
          <p:cNvPr id="233" name="Заголовок 1"/>
          <p:cNvSpPr/>
          <p:nvPr/>
        </p:nvSpPr>
        <p:spPr>
          <a:xfrm>
            <a:off x="179280" y="121428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Bookman Old Style"/>
              </a:rPr>
              <a:t>ДИАПАЗОН СТИМУЛОВ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2014920" y="2509920"/>
            <a:ext cx="452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ись благодарности в дневни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есное поощр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повая рабо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начение консультан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тавка лучших рабо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428760" y="1214280"/>
          <a:ext cx="7715160" cy="5072400"/>
        </p:xfrm>
        <a:graphic>
          <a:graphicData uri="http://schemas.openxmlformats.org/drawingml/2006/table">
            <a:tbl>
              <a:tblPr/>
              <a:tblGrid>
                <a:gridCol w="577800"/>
                <a:gridCol w="2508120"/>
                <a:gridCol w="1542960"/>
                <a:gridCol w="1543320"/>
                <a:gridCol w="1542960"/>
              </a:tblGrid>
              <a:tr h="100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4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3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778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Я стараюсь учиться лучше, чт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ить хорошую оце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ш класс был лучш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ня уважали однокласс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я хвалили 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больше знал и ум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28760" y="1643040"/>
          <a:ext cx="7238880" cy="4572000"/>
        </p:xfrm>
        <a:graphic>
          <a:graphicData uri="http://schemas.openxmlformats.org/drawingml/2006/table">
            <a:tbl>
              <a:tblPr/>
              <a:tblGrid>
                <a:gridCol w="328320"/>
                <a:gridCol w="2567160"/>
                <a:gridCol w="1447920"/>
                <a:gridCol w="1447560"/>
                <a:gridCol w="1447920"/>
              </a:tblGrid>
              <a:tr h="91440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 Если я получаю хорошую отметку, мне больше всего нравится, что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ду считаться хорошим учени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и будут дово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я не будут наказы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хвалят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6:08:53Z</dcterms:created>
  <dc:creator>Светлана</dc:creator>
  <dc:description/>
  <dc:language>en-US</dc:language>
  <cp:lastModifiedBy>Светлана</cp:lastModifiedBy>
  <dcterms:modified xsi:type="dcterms:W3CDTF">2011-11-01T17:25:41Z</dcterms:modified>
  <cp:revision>2</cp:revision>
  <dc:subject/>
  <dc:title>Слайд 1</dc:title>
</cp:coreProperties>
</file>