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AAC-2C73-48E3-84D8-281BCFCE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53F-9ECE-485F-B680-271EA36F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DB1F1-C0C8-43A2-B921-9A2D1F59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AB8AC-3493-4F29-8727-FFA8A777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A9311-0C8D-4E0F-9C87-C5DD9CB8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76A11-1709-4A10-9F4E-E14DCCA3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DD78F-A60F-4ED2-9112-E378D41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44181-E442-4A31-B903-B148645C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3DD78-D5F9-47D2-8B6F-7D1C5D3A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C9A40-6BC3-4538-9A0D-C57753BE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86E75-EA64-43DF-BE54-CD09CF1C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39B67-8695-4B81-A87B-E6A30A54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62A-505B-431D-91E4-75D42368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CAC30-0C2B-4706-9946-2E2786E6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87B4A-5EEA-4773-8BB6-9EF5CDDF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E1066-0424-4CED-B71D-520CEB92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B5C7B-1EB8-4BE7-BF7F-3501DE15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CDB7E-414B-437A-A689-0AEBF6CE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24F59-40C6-489C-BA9E-8250DDAF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3DC8B-554D-49DB-854C-8460B5C1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2DD6C-1FB9-4BD7-B0A9-37D55BFC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4D0B2-0A99-4F33-A308-1107090E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953A3-961B-4D3D-BD2F-A7E1BD9C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FB9-F2E6-47BE-8BED-D5F59026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2528C-7F4D-40B2-B289-A6FB4EF8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D65A2-42F1-4119-BFB1-9B34249B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01E0D-89E1-4621-948E-71B0FC6C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481F2-117F-4743-9A2F-5B03942B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764C6-061A-4E1D-A142-F7E0B25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85C4A-8E21-4638-951C-E8706E29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B8564-81DA-47E0-B755-DC072E64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10159-A0F2-46C9-8D79-676B95A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183C5-DF62-427A-9CE9-69FF3C84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5DBE2-CC2B-4901-9DE9-51B2D0FD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D9FF-6926-439F-AB74-C08D4B8B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60443-E97A-4A31-B4A1-DDD6583D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F4B70-02F8-4162-BECE-CFB7DC53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576A0-0309-4636-BFF0-765F6735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C1FF9-5CC7-421C-BB16-0FB6862F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31ED9-90E4-4297-AE8C-A5B931F3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8B24D-F468-424E-A307-1B152BF5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91BF9-E772-4C7B-83F0-31880A7F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75FEB-8ED2-432B-838A-7A2DBEBA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A0795-5EA5-4254-ACD9-76846F87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121A7-3A19-4DE2-96C0-C32F302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5EB0-3CB6-4F02-A17A-5BD36846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CFACF-CD49-4CD2-AA1A-F9C13BF1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AD705-0052-4ED4-9D5B-8A21095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73DD3-BB92-4759-8E63-D3AC7B20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C7E85-AAB1-4BC4-84FF-805414F7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E3047-0B94-4AB2-AD41-5B488542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6D583-4E36-4E9B-BE64-30D31F5E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19DFF-067A-4E3F-99D4-1CC3B4A9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9F345-5719-437D-B7BD-C6B12C4C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14948-54E2-47C0-998E-9E7D6BFE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112BC-8EA5-42F7-A6AD-87D99B4C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BB3-CB8E-4512-BBE1-A46A8239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AA0B2-D015-4695-8240-1DBAF72E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409B2-CBEC-41D5-BFD9-A2488B76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267F5-98E8-4C29-99B7-E43FB398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6668F-6D29-47E3-A15E-E65E38A3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710AE-8357-4E40-AF7A-E95EC8D0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B1355-4415-4C35-9037-849F94A7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9F4CF-2FA8-4C39-BDD3-B4B232EF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DE1D6-C455-41BB-A580-660B9351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FC396-4858-4CC8-A7D2-58E3E172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C874B-4C56-4FE2-B0B3-7D16F66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0AED-A233-42A2-BE75-C31FD84D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739E6-5BED-4856-8323-AA8D41A7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E7488-288B-4E96-B562-5AD9EB89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68155-7DDD-4716-B074-1065F80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CCF7E-813D-4F33-AC19-3856974B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A2A35-571C-498C-BF3C-23418B7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1EFC3-5D85-43EB-84C2-5110009A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4DE9A-A73B-42EA-AE90-37705BC7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AA207-B48D-4669-A529-A210A2FC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D83B3-264C-4FC0-BFE6-0BDC81FB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E22D-5859-4427-8CAD-6243AC03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DBEB-77B8-4EC8-940C-5839BA01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71EF-08DA-433C-9445-C34FB244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DD5-4B8D-4041-85BC-36DCE9CF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CED4-8950-49B2-9854-1474E65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D34E-EF1C-4892-9220-E312D6C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BE0F-994D-4C73-99C4-1CF2F55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EA7D-CAFA-41C5-8977-AA78C9B9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52A0-EF06-4E21-B065-C4450888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8F04-B96D-4D15-982B-506B48F9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EF6D-B988-4922-8A01-F97B54FB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43F4-3DD6-48A5-98C0-CF4CAD6F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AE65-324C-48A9-8803-4F195260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3FFA-D474-4376-AF5E-86CB9686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AB2-1BDE-4D41-AF1D-F1ED8EB5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6D3D-E95A-43D0-8646-BAC29F79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4C489-6C48-408B-A8BB-542DAFB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2DA9-7407-402B-934A-81A190D8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A757-3EF3-4EC2-8E2B-7B7FCCE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241D-0D18-402E-B28B-2E9B0646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2B86-A69D-4712-9D44-983AF17A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B06D-F131-4857-8E7B-4510E8C5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7BE6E-5647-44AA-97E8-BFA827F3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FFF66-98DC-41B7-B44F-5592ED6A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7007-4344-4925-830D-DB906CA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512-0416-4AF3-A972-7F4766A9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7579-3172-400E-94B9-9E908540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01F7-0406-4B99-9108-B9728305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7873-F7D9-488B-A661-C8195911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4D6E-FFD6-4DC5-80B5-A870484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5DC5-C51E-46BC-AC35-6E1D7795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FA2D6-C107-4A36-90A6-11F2F7B2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DB0F-2BBA-4DB1-81DF-8309EEC8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F4CD-53D0-4889-99E2-738661A2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2CD51-75BB-46E5-8348-E905D7BA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0D0D7-5DAD-402C-BCE3-137FFE10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48F-B071-4F14-872D-C18A4B43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475C-C271-4002-87D3-38FDEA10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C78A-8FBC-4CEE-9ECC-BA945CC7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2842B-0D9D-479B-B997-D8E6EAB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5208A-33C7-4164-A87D-D2B48696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6280F-804E-4F64-9924-948759A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67841-5CDC-4347-A0B8-22290B18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AC6D-3198-46C4-92E9-FB1A91A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7F69-14F6-47B4-8CBB-DDF84431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25AD-A6D9-4CDD-ADE4-435F0474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38985-CCB3-4EA3-9775-8E3EBAA9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776-AD4E-4874-9977-DDB7DD5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CBFE1-C310-47F8-86AD-EA1E3E66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E860-1B7A-4C4D-B53E-93A104D2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F36A-B29C-4D4B-A194-D267DB6C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8587-6CE3-478B-B6D0-9E805EF8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730A9-B3DA-4391-8859-AC79A222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1644F-E89B-4EFE-A980-B6119B94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ED320-FAFB-415E-A3CC-A657B5BA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7BD4-B626-4441-B821-1A0100AA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26853-46C2-4F98-9AA7-8437E65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1F45-3F1E-492D-B733-7A4CA312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A12-4B13-4420-B108-D3910EA2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92A3B-3F6E-465D-9E2F-941BDADB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2D4D8-6830-4E9B-9E11-2EB80135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8042D-AA55-4A3A-8608-EC338399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E0E2-4DB2-4014-85BB-1F00129C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E2676-AE65-48B8-9FA7-CAB72D4A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0ED56-C822-4F49-AA52-579B8573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DA4B7-9B46-4BAB-A5E4-203AEE68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61CA7-6958-4030-96E6-52B8087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E1AD-ED6C-41BA-894E-28F5FE9A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31059-390B-45E2-8305-FB14D1A0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7C9-C9C4-46F5-BA35-BB8E15F4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5BBE0-16D8-4FAE-AFC3-F9ED93D2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1C772-095D-4CE6-A1F5-9DC3EAA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5DCD-10D6-4D12-8503-BAAC58D1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5442-B4A8-44E3-82C5-97E45794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DCAB1-80A4-4B1A-B960-5F7DC693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5A58E-BF11-46E3-9703-35A27E7F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C8E10-BC10-4D6D-B58E-32AD009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56C1D-F5CE-4C5C-A67E-6182C09F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4A86-80B6-4A19-86FC-D4AD522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FC265-B317-4E53-A726-18554F61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56A-A68B-485D-822B-068AA00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F8505-4595-42DE-B867-91BD1AF5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F7F9-6257-4A6D-BD7A-A0D7AA24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7C5F4-27F8-4800-AEC4-65F874CB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0977B-3620-4750-8EE3-729A90EE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B8408-87D5-4BDB-84B8-9CA93A0E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E9A3E-C992-4813-96CF-D31B533C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0472A-0B39-4765-853E-9C6DF394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75C03-F190-454B-B3E9-0AEE7FCD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20D4D-9C3B-49F0-B5E8-25129899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89D2F-A8CC-4EFC-880C-530AC27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19B5-9F02-4594-98D3-2054C83099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4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4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5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995F-2085-4CD1-9182-85658AF8866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5E37-1508-42CC-9B59-AFB7640388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2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4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5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5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5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1F9F-963E-4AE9-8350-F0BCE4EFEC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0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0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1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81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9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8882-8526-4A6C-BE54-969BF988AE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4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5F85-F6A2-48C7-80F3-0F2CB3FB3D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0F42-6F40-4937-8211-58131E4995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951F-11B3-4CDD-B8CE-8DA038BF46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3F74-EB98-42CB-96B6-7ABE8782AA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7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D5C1-F2C7-46E4-BE47-11F1E928B6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DF3C-795F-4D04-B7D6-324E5738A8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C664-75C2-41EE-8C13-2A07BDEF0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1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2504-54DA-471A-8CAD-972D228D0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6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6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6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6941-24EA-4A28-A674-8ECC083E247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68360" y="4365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ФИЗИКА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7 клас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78920" y="907560"/>
            <a:ext cx="849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Сложение двух сил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правленных по одной прямой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внодействующая сил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"/>
          <p:cNvGrpSpPr/>
          <p:nvPr/>
        </p:nvGrpSpPr>
        <p:grpSpPr>
          <a:xfrm>
            <a:off x="2664000" y="2708280"/>
            <a:ext cx="2268360" cy="3527280"/>
            <a:chOff x="2664000" y="2708280"/>
            <a:chExt cx="2268360" cy="3527280"/>
          </a:xfrm>
        </p:grpSpPr>
        <p:sp>
          <p:nvSpPr>
            <p:cNvPr id="1081" name=""/>
            <p:cNvSpPr/>
            <p:nvPr/>
          </p:nvSpPr>
          <p:spPr>
            <a:xfrm>
              <a:off x="2664000" y="2708280"/>
              <a:ext cx="2268360" cy="22683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56000" y="3859200"/>
              <a:ext cx="613080" cy="2376360"/>
            </a:xfrm>
            <a:prstGeom prst="downArrow">
              <a:avLst>
                <a:gd name="adj1" fmla="val 50000"/>
                <a:gd name="adj2" fmla="val 96903"/>
              </a:avLst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35640" y="3859200"/>
              <a:ext cx="288720" cy="1403280"/>
            </a:xfrm>
            <a:prstGeom prst="downArrow">
              <a:avLst>
                <a:gd name="adj1" fmla="val 50000"/>
                <a:gd name="adj2" fmla="val 121509"/>
              </a:avLst>
            </a:prstGeom>
            <a:solidFill>
              <a:srgbClr val="0000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08720" y="3859200"/>
              <a:ext cx="144360" cy="863640"/>
            </a:xfrm>
            <a:prstGeom prst="downArrow">
              <a:avLst>
                <a:gd name="adj1" fmla="val 50000"/>
                <a:gd name="adj2" fmla="val 149564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4103640" y="38973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140360" y="393372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103640" y="4869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140360" y="494172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140360" y="57340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211640" y="5805360"/>
            <a:ext cx="25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543640" y="368136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 = 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+ 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03280" y="944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внодействующая двух сил, действующих на тело по одной прямой в одну стор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616720" y="3753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264360" y="3753000"/>
            <a:ext cx="25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985080" y="3753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1692360" y="2492280"/>
            <a:ext cx="2195280" cy="3529080"/>
            <a:chOff x="1692360" y="2492280"/>
            <a:chExt cx="2195280" cy="3529080"/>
          </a:xfrm>
        </p:grpSpPr>
        <p:sp>
          <p:nvSpPr>
            <p:cNvPr id="1097" name=""/>
            <p:cNvSpPr/>
            <p:nvPr/>
          </p:nvSpPr>
          <p:spPr>
            <a:xfrm>
              <a:off x="1692360" y="2528640"/>
              <a:ext cx="2195280" cy="2195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2555640" y="2492280"/>
              <a:ext cx="468360" cy="3529080"/>
              <a:chOff x="2555640" y="2492280"/>
              <a:chExt cx="468360" cy="3529080"/>
            </a:xfrm>
          </p:grpSpPr>
          <p:sp>
            <p:nvSpPr>
              <p:cNvPr id="1099" name=""/>
              <p:cNvSpPr/>
              <p:nvPr/>
            </p:nvSpPr>
            <p:spPr>
              <a:xfrm>
                <a:off x="2700000" y="2492280"/>
                <a:ext cx="144360" cy="1079640"/>
              </a:xfrm>
              <a:prstGeom prst="upArrow">
                <a:avLst>
                  <a:gd name="adj1" fmla="val 50000"/>
                  <a:gd name="adj2" fmla="val 186970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555640" y="3573360"/>
                <a:ext cx="468360" cy="1295280"/>
              </a:xfrm>
              <a:prstGeom prst="downArrow">
                <a:avLst>
                  <a:gd name="adj1" fmla="val 50000"/>
                  <a:gd name="adj2" fmla="val 69139"/>
                </a:avLst>
              </a:prstGeom>
              <a:solidFill>
                <a:srgbClr val="ff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700000" y="3573360"/>
                <a:ext cx="179280" cy="2448000"/>
              </a:xfrm>
              <a:prstGeom prst="downArrow">
                <a:avLst>
                  <a:gd name="adj1" fmla="val 50000"/>
                  <a:gd name="adj2" fmla="val 341365"/>
                </a:avLst>
              </a:prstGeom>
              <a:solidFill>
                <a:srgbClr val="0000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2" name=""/>
          <p:cNvSpPr/>
          <p:nvPr/>
        </p:nvSpPr>
        <p:spPr>
          <a:xfrm>
            <a:off x="5543640" y="368136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 = F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F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616720" y="3753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300720" y="3716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48360" y="3753000"/>
            <a:ext cx="252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059280" y="5408640"/>
            <a:ext cx="31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024360" y="39686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27280" y="285264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03640" y="5481720"/>
            <a:ext cx="28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132000" y="4041720"/>
            <a:ext cx="252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951280" y="2924280"/>
            <a:ext cx="25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92000" y="1125360"/>
            <a:ext cx="811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внодействующая двух сил, направленных по одной прямой в противоположные сторо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817560" y="101592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внодействующая двух равных  противоположно направленных с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58920" y="2781360"/>
            <a:ext cx="2916360" cy="291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564000" y="4149720"/>
            <a:ext cx="1800000" cy="324000"/>
          </a:xfrm>
          <a:prstGeom prst="rightArrow">
            <a:avLst>
              <a:gd name="adj1" fmla="val 50000"/>
              <a:gd name="adj2" fmla="val 138889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763640" y="4149720"/>
            <a:ext cx="1800360" cy="324000"/>
          </a:xfrm>
          <a:prstGeom prst="leftArrow">
            <a:avLst>
              <a:gd name="adj1" fmla="val 50000"/>
              <a:gd name="adj2" fmla="val 138917"/>
            </a:avLst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376360" y="364500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F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700360" y="3645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392720" y="3681360"/>
            <a:ext cx="323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975280" y="3681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 =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048360" y="3753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Решение задач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440000" y="2708280"/>
            <a:ext cx="59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Дед, взявшись за репку, развивает силу тяги 600 Н, бабка 100 Н, внучка 50 Н, Жучка 30 Н, кошка 10 Н, а мышка 2 Н. Чему равна равнодействующая всех этих сил, направленных по одной прямой в одну сторону. Сила, удерживающая репку в земле равна 791 Н. Справится ли эта компания без мыш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757080" y="372600"/>
            <a:ext cx="76298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тоги виктори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1042920" y="1881360"/>
            <a:ext cx="6615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сследовательска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работа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1368360" y="2133720"/>
            <a:ext cx="644364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Итог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занят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б авто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и и задач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ить и систематизировать  знания о силах, приложенных к тел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сти понятие равнодействующей силы, как векторной суммы всех сил, действующих на тел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олнить исследовательскую рабо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1116000" y="333360"/>
            <a:ext cx="66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наем ли м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физику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22" name=""/>
          <p:cNvSpPr/>
          <p:nvPr/>
        </p:nvSpPr>
        <p:spPr>
          <a:xfrm>
            <a:off x="250920" y="2349360"/>
            <a:ext cx="86421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ая сила вызывает приливы и отливы в морях и океанах на Земл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Сила тяготения, действующая со стороны Луны и Солнца на воду морей и оке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ая сила вызывает оползни, камнепады и лавины в гор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Под действием силы тяжести частицы почвы, камни и снег начинают с крутых откосов сползать вниз с нарастающей скоростью, увлекая за собой другие час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Пружина динамометра под действием силы 4 Н удлинилась на 5 мм. Определите вес груза, под действием которого эта пружина удлиняется на 15 м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12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"/>
          <p:cNvGrpSpPr/>
          <p:nvPr/>
        </p:nvGrpSpPr>
        <p:grpSpPr>
          <a:xfrm>
            <a:off x="179280" y="836640"/>
            <a:ext cx="8785440" cy="5687640"/>
            <a:chOff x="179280" y="836640"/>
            <a:chExt cx="8785440" cy="5687640"/>
          </a:xfrm>
        </p:grpSpPr>
        <p:sp>
          <p:nvSpPr>
            <p:cNvPr id="1024" name=""/>
            <p:cNvSpPr/>
            <p:nvPr/>
          </p:nvSpPr>
          <p:spPr>
            <a:xfrm>
              <a:off x="179280" y="836640"/>
              <a:ext cx="8785440" cy="568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395280" y="1739520"/>
              <a:ext cx="8280360" cy="3489120"/>
              <a:chOff x="395280" y="1739520"/>
              <a:chExt cx="8280360" cy="34891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95280" y="4584240"/>
                <a:ext cx="8280360" cy="644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69840" y="1739520"/>
                <a:ext cx="1081080" cy="28447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62200" y="1739520"/>
                <a:ext cx="1008000" cy="28447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83280" y="1739520"/>
                <a:ext cx="1079640" cy="28447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1476360" y="4585320"/>
              <a:ext cx="0" cy="124308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588000" y="3422160"/>
              <a:ext cx="0" cy="253764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4067280" y="1223280"/>
              <a:ext cx="0" cy="349236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179280" y="836640"/>
            <a:ext cx="8785440" cy="5687640"/>
            <a:chOff x="179280" y="836640"/>
            <a:chExt cx="8785440" cy="5687640"/>
          </a:xfrm>
        </p:grpSpPr>
        <p:sp>
          <p:nvSpPr>
            <p:cNvPr id="1034" name=""/>
            <p:cNvSpPr/>
            <p:nvPr/>
          </p:nvSpPr>
          <p:spPr>
            <a:xfrm>
              <a:off x="179280" y="836640"/>
              <a:ext cx="8785440" cy="5687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395280" y="1739520"/>
              <a:ext cx="8280360" cy="3489120"/>
              <a:chOff x="395280" y="1739520"/>
              <a:chExt cx="8280360" cy="3489120"/>
            </a:xfrm>
          </p:grpSpPr>
          <p:sp>
            <p:nvSpPr>
              <p:cNvPr id="1036" name=""/>
              <p:cNvSpPr/>
              <p:nvPr/>
            </p:nvSpPr>
            <p:spPr>
              <a:xfrm>
                <a:off x="395280" y="4584240"/>
                <a:ext cx="8280360" cy="644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969840" y="1739520"/>
                <a:ext cx="1081080" cy="28447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562200" y="1739520"/>
                <a:ext cx="1008000" cy="28447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083280" y="1739520"/>
                <a:ext cx="1079640" cy="28447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1476360" y="4585320"/>
              <a:ext cx="0" cy="124308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588000" y="3422160"/>
              <a:ext cx="0" cy="253764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4067280" y="1223280"/>
              <a:ext cx="0" cy="349236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468360" y="297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Назовите силы, изображенные на рису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11280" y="59500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92000" y="595008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1800" spc="-1" strike="noStrike">
                <a:solidFill>
                  <a:srgbClr val="ff9900"/>
                </a:solidFill>
                <a:latin typeface="Tahoma"/>
              </a:rPr>
              <a:t>Вес                        Сила упругости             Сила тяже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539640" y="1341360"/>
            <a:ext cx="8136000" cy="4176720"/>
            <a:chOff x="539640" y="1341360"/>
            <a:chExt cx="8136000" cy="4176720"/>
          </a:xfrm>
        </p:grpSpPr>
        <p:sp>
          <p:nvSpPr>
            <p:cNvPr id="1047" name=""/>
            <p:cNvSpPr/>
            <p:nvPr/>
          </p:nvSpPr>
          <p:spPr>
            <a:xfrm>
              <a:off x="539640" y="1341360"/>
              <a:ext cx="8136000" cy="360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258920" y="1701720"/>
              <a:ext cx="0" cy="223200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72000" y="1701720"/>
              <a:ext cx="0" cy="223200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812000" y="1701720"/>
              <a:ext cx="0" cy="223200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2000" y="2854440"/>
              <a:ext cx="914400" cy="914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14800" y="2997360"/>
              <a:ext cx="914400" cy="914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308720" y="2997360"/>
              <a:ext cx="914400" cy="914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224000" y="3286080"/>
              <a:ext cx="0" cy="1152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72000" y="2997360"/>
              <a:ext cx="0" cy="13316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7775640" y="2133360"/>
              <a:ext cx="0" cy="9363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>
              <a:off x="719280" y="4437000"/>
              <a:ext cx="97128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"/>
                </a:rPr>
                <a:t>А</a:t>
              </a:r>
              <a:endPara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4086360" y="4581360"/>
              <a:ext cx="97128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"/>
                </a:rPr>
                <a:t>Б</a:t>
              </a:r>
              <a:endPara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9" name=""/>
            <p:cNvSpPr txBox="1"/>
            <p:nvPr/>
          </p:nvSpPr>
          <p:spPr>
            <a:xfrm>
              <a:off x="7380360" y="4365720"/>
              <a:ext cx="97164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"/>
                </a:rPr>
                <a:t>В</a:t>
              </a:r>
              <a:endPara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971640" y="6922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5. Обозначьте соответствующими буквами силы, изображенные на рисун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39640" y="5985000"/>
            <a:ext cx="7848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4400" spc="-1" strike="noStrike">
                <a:solidFill>
                  <a:srgbClr val="ff9900"/>
                </a:solidFill>
                <a:latin typeface="Tahoma"/>
              </a:rPr>
              <a:t>Р</a:t>
            </a:r>
            <a:r>
              <a:rPr b="1" i="1" lang="en-US" sz="4400" spc="-1" strike="noStrike">
                <a:solidFill>
                  <a:srgbClr val="ff9900"/>
                </a:solidFill>
                <a:latin typeface="Tahoma"/>
              </a:rPr>
              <a:t>             </a:t>
            </a:r>
            <a:r>
              <a:rPr b="1" i="1" lang="ru-RU" sz="4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1" i="1" lang="en-US" sz="4400" spc="-1" strike="noStrike">
                <a:solidFill>
                  <a:srgbClr val="ff9900"/>
                </a:solidFill>
                <a:latin typeface="Tahoma"/>
              </a:rPr>
              <a:t>F</a:t>
            </a:r>
            <a:r>
              <a:rPr b="1" i="1" lang="ru-RU" sz="4400" spc="-1" strike="noStrike" baseline="-25000">
                <a:solidFill>
                  <a:srgbClr val="ff9900"/>
                </a:solidFill>
                <a:latin typeface="Tahoma"/>
              </a:rPr>
              <a:t>упр</a:t>
            </a:r>
            <a:r>
              <a:rPr b="1" i="1" lang="en-US" sz="4400" spc="-1" strike="noStrike">
                <a:solidFill>
                  <a:srgbClr val="ff9900"/>
                </a:solidFill>
                <a:latin typeface="Tahoma"/>
              </a:rPr>
              <a:t>            F</a:t>
            </a:r>
            <a:r>
              <a:rPr b="1" i="1" lang="ru-RU" sz="4400" spc="-1" strike="noStrike" baseline="-25000">
                <a:solidFill>
                  <a:srgbClr val="ff9900"/>
                </a:solidFill>
                <a:latin typeface="Tahoma"/>
              </a:rPr>
              <a:t>тя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611280" y="873000"/>
            <a:ext cx="810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. Зачем на шинах автомашин, колесных тракторов делают глубокий рельефный рисунок (протектор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ahoma"/>
              </a:rPr>
              <a:t>Для увеличения силы т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. Если масса воды в ведре уменьшится в два раза, уменьшится ли ее вес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ahoma"/>
              </a:rPr>
              <a:t>Уменьшится в 2 р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кторин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бота с карточк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ма занят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971640" y="2600280"/>
            <a:ext cx="7200720" cy="29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ожение сил,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йствующих на тело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 одной прямой.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700360" y="2997360"/>
            <a:ext cx="2843280" cy="34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211280" y="4221000"/>
            <a:ext cx="36360" cy="16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монстрация опы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0" name=""/>
          <p:cNvSpPr/>
          <p:nvPr/>
        </p:nvSpPr>
        <p:spPr>
          <a:xfrm>
            <a:off x="1584360" y="1881360"/>
            <a:ext cx="0" cy="345564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11280" y="1663560"/>
            <a:ext cx="1765080" cy="176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564000" y="1952640"/>
            <a:ext cx="51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F1 + F2 = 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80000" y="3429000"/>
            <a:ext cx="97128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635280" y="4473720"/>
            <a:ext cx="1116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5013360"/>
            <a:ext cx="1116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672000" y="5553000"/>
            <a:ext cx="111600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808360" y="32004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500 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616720" y="3168720"/>
            <a:ext cx="51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=F1+F2+F3+F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924360" y="3139920"/>
            <a:ext cx="863640" cy="576360"/>
          </a:xfrm>
          <a:prstGeom prst="downArrowCallout">
            <a:avLst>
              <a:gd name="adj1" fmla="val 37464"/>
              <a:gd name="adj2" fmla="val 37461"/>
              <a:gd name="adj3" fmla="val 16667"/>
              <a:gd name="adj4" fmla="val 6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2:24:50Z</dcterms:created>
  <dc:creator>Компьютерный класс</dc:creator>
  <dc:description/>
  <dc:language>en-US</dc:language>
  <cp:lastModifiedBy>UserXP</cp:lastModifiedBy>
  <dcterms:modified xsi:type="dcterms:W3CDTF">2012-02-03T19:41:36Z</dcterms:modified>
  <cp:revision>14</cp:revision>
  <dc:subject/>
  <dc:title>ФИЗИКА  7 класс</dc:title>
</cp:coreProperties>
</file>