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807-345C-4011-816B-65206F92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A55-A543-4FD8-93EB-213DE9C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A8D-9284-452A-9384-C3AC83CE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A4E-BB36-4B1F-91D4-DEEB66C2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FAD-3585-497C-8163-9A8A625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166-9790-49CE-AC27-9FDA036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C3A-DB8B-4439-BD27-7F2F346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A69-20B5-4607-8919-B504307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6A3-737C-4396-B0ED-568C14F8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E18-E695-47F6-BF70-BAFF320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EC0-E298-4976-8637-07AC79A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4B1-1EFC-447C-87AD-61D1A9D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DDD-0282-4285-8BDB-1629970A1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42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5"/>
          <p:cNvSpPr/>
          <p:nvPr/>
        </p:nvSpPr>
        <p:spPr>
          <a:xfrm>
            <a:off x="1332000" y="1484280"/>
            <a:ext cx="6553080" cy="230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2133720"/>
            <a:ext cx="633564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Georgia"/>
              </a:rPr>
              <a:t>Усадьба Архангельско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Доклад  Рыжовой  М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«А»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класс  школа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 8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89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5" descr="_23_5"/>
          <p:cNvPicPr/>
          <p:nvPr/>
        </p:nvPicPr>
        <p:blipFill>
          <a:blip r:embed="rId2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4120" y="160200"/>
            <a:ext cx="91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Архангельском три парка – французский, итальянский и англий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94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5" descr="15"/>
          <p:cNvPicPr/>
          <p:nvPr/>
        </p:nvPicPr>
        <p:blipFill>
          <a:blip r:embed="rId2"/>
          <a:stretch/>
        </p:blipFill>
        <p:spPr>
          <a:xfrm>
            <a:off x="4643280" y="3357720"/>
            <a:ext cx="4392720" cy="322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IMG_4941"/>
          <p:cNvPicPr/>
          <p:nvPr/>
        </p:nvPicPr>
        <p:blipFill>
          <a:blip r:embed="rId3"/>
          <a:stretch/>
        </p:blipFill>
        <p:spPr>
          <a:xfrm>
            <a:off x="179280" y="549360"/>
            <a:ext cx="4267440" cy="57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60"/>
          <p:cNvPicPr/>
          <p:nvPr/>
        </p:nvPicPr>
        <p:blipFill>
          <a:blip r:embed="rId4"/>
          <a:stretch/>
        </p:blipFill>
        <p:spPr>
          <a:xfrm>
            <a:off x="4643280" y="212760"/>
            <a:ext cx="43214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00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66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" descr="64"/>
          <p:cNvPicPr/>
          <p:nvPr/>
        </p:nvPicPr>
        <p:blipFill>
          <a:blip r:embed="rId2"/>
          <a:stretch/>
        </p:blipFill>
        <p:spPr>
          <a:xfrm>
            <a:off x="127080" y="1054080"/>
            <a:ext cx="8889840" cy="568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673280" y="30168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оннада – последняя постройка князя Юсуп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Rectangle 4"/>
          <p:cNvGrpSpPr/>
          <p:nvPr/>
        </p:nvGrpSpPr>
        <p:grpSpPr>
          <a:xfrm>
            <a:off x="23760" y="-12600"/>
            <a:ext cx="9169560" cy="6883200"/>
            <a:chOff x="23760" y="-12600"/>
            <a:chExt cx="9169560" cy="6883200"/>
          </a:xfrm>
        </p:grpSpPr>
        <p:pic>
          <p:nvPicPr>
            <p:cNvPr id="105" name="Rectangle 4" descr=""/>
            <p:cNvPicPr/>
            <p:nvPr/>
          </p:nvPicPr>
          <p:blipFill>
            <a:blip r:embed="rId1"/>
            <a:stretch/>
          </p:blipFill>
          <p:spPr>
            <a:xfrm>
              <a:off x="23760" y="-12600"/>
              <a:ext cx="91695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36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6" descr="21"/>
          <p:cNvPicPr/>
          <p:nvPr/>
        </p:nvPicPr>
        <p:blipFill>
          <a:blip r:embed="rId2"/>
          <a:stretch/>
        </p:blipFill>
        <p:spPr>
          <a:xfrm>
            <a:off x="395280" y="1052640"/>
            <a:ext cx="8353440" cy="5559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28320" y="368280"/>
            <a:ext cx="84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шкин дружил с князем Юсуповым и дважды был в Архангель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10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5" descr="12"/>
          <p:cNvPicPr/>
          <p:nvPr/>
        </p:nvPicPr>
        <p:blipFill>
          <a:blip r:embed="rId2"/>
          <a:stretch/>
        </p:blipFill>
        <p:spPr>
          <a:xfrm>
            <a:off x="250920" y="115920"/>
            <a:ext cx="5329080" cy="6626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990760" y="2066760"/>
            <a:ext cx="250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руинная арк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ужит входом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глийский па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15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5" descr="IMG_4976"/>
          <p:cNvPicPr/>
          <p:nvPr/>
        </p:nvPicPr>
        <p:blipFill>
          <a:blip r:embed="rId2"/>
          <a:stretch/>
        </p:blipFill>
        <p:spPr>
          <a:xfrm>
            <a:off x="395280" y="907920"/>
            <a:ext cx="8394840" cy="5799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43800" y="260280"/>
            <a:ext cx="84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кладовая с аркой, дорожка под ней ведет к старице Москвы –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20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5" descr="IMG_4944"/>
          <p:cNvPicPr/>
          <p:nvPr/>
        </p:nvPicPr>
        <p:blipFill>
          <a:blip r:embed="rId2"/>
          <a:stretch/>
        </p:blipFill>
        <p:spPr>
          <a:xfrm>
            <a:off x="468360" y="189000"/>
            <a:ext cx="4870440" cy="649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060240" y="1512720"/>
            <a:ext cx="234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  хорош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рхангель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то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лото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25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5" descr="51"/>
          <p:cNvPicPr/>
          <p:nvPr/>
        </p:nvPicPr>
        <p:blipFill>
          <a:blip r:embed="rId2"/>
          <a:stretch/>
        </p:blipFill>
        <p:spPr>
          <a:xfrm>
            <a:off x="127080" y="1052640"/>
            <a:ext cx="8889840" cy="5689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804320" y="189000"/>
            <a:ext cx="53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 прогулки по усадьбе  можно устро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кник на берегу Москва -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30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8"/>
          <p:cNvSpPr/>
          <p:nvPr/>
        </p:nvSpPr>
        <p:spPr>
          <a:xfrm>
            <a:off x="2505960" y="1762200"/>
            <a:ext cx="364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за    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4"/>
          <p:cNvGrpSpPr/>
          <p:nvPr/>
        </p:nvGrpSpPr>
        <p:grpSpPr>
          <a:xfrm>
            <a:off x="-12600" y="-36360"/>
            <a:ext cx="9169200" cy="6881760"/>
            <a:chOff x="-12600" y="-36360"/>
            <a:chExt cx="9169200" cy="6881760"/>
          </a:xfrm>
        </p:grpSpPr>
        <p:pic>
          <p:nvPicPr>
            <p:cNvPr id="48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36360"/>
              <a:ext cx="9169200" cy="68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-270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5" descr="archangelskoe-m6"/>
          <p:cNvPicPr/>
          <p:nvPr/>
        </p:nvPicPr>
        <p:blipFill>
          <a:blip r:embed="rId2"/>
          <a:stretch/>
        </p:blipFill>
        <p:spPr>
          <a:xfrm>
            <a:off x="561960" y="1268280"/>
            <a:ext cx="8042400" cy="534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888480" y="309600"/>
            <a:ext cx="75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адьба Архангельское – красивейшая усадьба Подмосков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в 30 минутах езды от наш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53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7"/>
          <p:cNvSpPr/>
          <p:nvPr/>
        </p:nvSpPr>
        <p:spPr>
          <a:xfrm>
            <a:off x="592200" y="-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0920" y="333360"/>
            <a:ext cx="862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 попадаете в  барскую усадьбу, которая больше похожа на итальянскую виллу или французский зам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MG_4937"/>
          <p:cNvPicPr/>
          <p:nvPr/>
        </p:nvPicPr>
        <p:blipFill>
          <a:blip r:embed="rId2"/>
          <a:stretch/>
        </p:blipFill>
        <p:spPr>
          <a:xfrm>
            <a:off x="468360" y="11970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Rectangle 4"/>
          <p:cNvGrpSpPr/>
          <p:nvPr/>
        </p:nvGrpSpPr>
        <p:grpSpPr>
          <a:xfrm>
            <a:off x="-12600" y="-36360"/>
            <a:ext cx="9169200" cy="6881760"/>
            <a:chOff x="-12600" y="-36360"/>
            <a:chExt cx="9169200" cy="6881760"/>
          </a:xfrm>
        </p:grpSpPr>
        <p:pic>
          <p:nvPicPr>
            <p:cNvPr id="59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36360"/>
              <a:ext cx="9169200" cy="68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-270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IMG_4945"/>
          <p:cNvPicPr/>
          <p:nvPr/>
        </p:nvPicPr>
        <p:blipFill>
          <a:blip r:embed="rId2"/>
          <a:stretch/>
        </p:blipFill>
        <p:spPr>
          <a:xfrm>
            <a:off x="250920" y="1413000"/>
            <a:ext cx="8642160" cy="518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332000" y="189000"/>
            <a:ext cx="59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ним владельцем усадьбы б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зь Юсуп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ем и закончилось строи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4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7" descr="30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551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1912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60360" y="114480"/>
            <a:ext cx="85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рам Архангела Михаи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ая ранняя постройка. Он расположен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ом берегу старицы Москвы-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72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IMG_4925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>
                  <a:alpha val="64313"/>
                </a:srgbClr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124000" y="333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дворец в усадьбе очень красив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8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79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lamp_archangelskoe"/>
          <p:cNvPicPr/>
          <p:nvPr/>
        </p:nvPicPr>
        <p:blipFill>
          <a:blip r:embed="rId2"/>
          <a:stretch/>
        </p:blipFill>
        <p:spPr>
          <a:xfrm>
            <a:off x="431640" y="115920"/>
            <a:ext cx="5653080" cy="6613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657480" y="2205000"/>
            <a:ext cx="2201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утри 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ть 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лотой лю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84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5" descr="4"/>
          <p:cNvPicPr/>
          <p:nvPr/>
        </p:nvPicPr>
        <p:blipFill>
          <a:blip r:embed="rId2"/>
          <a:stretch/>
        </p:blipFill>
        <p:spPr>
          <a:xfrm>
            <a:off x="468360" y="1071720"/>
            <a:ext cx="8280360" cy="549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24080" y="18576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дворцом раскинулся огромный парк с террасами, мрамо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уями и стриженными алле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9:04:09Z</dcterms:created>
  <dc:creator> </dc:creator>
  <dc:description/>
  <dc:language>en-US</dc:language>
  <cp:lastModifiedBy>1976</cp:lastModifiedBy>
  <dcterms:modified xsi:type="dcterms:W3CDTF">2012-02-02T22:00:15Z</dcterms:modified>
  <cp:revision>40</cp:revision>
  <dc:subject/>
  <dc:title>Кролики</dc:title>
</cp:coreProperties>
</file>