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7093-38DC-481B-8D4C-69AD642FFA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BD91-9B84-4BB9-9F8A-9BCABD0739E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405-08F6-41C6-8088-2092015C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7A9-B3A4-4CF1-B27E-B269C612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98A-C40C-483D-A7AD-ADC2FE45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592-6E4A-42E0-9B56-EA2E62F4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63EC-58FD-4ED2-8E84-7218040B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01A9-1847-4A7E-A73B-AB27112C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01DB-1704-4563-B127-D9FEBC83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D81D-6A91-4B36-9BB7-896B47C2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CF48-3EAC-4B00-A41B-68EBA9E6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43E3-7955-4BD4-A0B3-DE49CAF1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7608-9E14-4FA5-A3A8-AF011FB6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A26-3571-44FB-A33D-5C58E30C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D4AF-D2E5-4AD1-BCDC-E753B09E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E0D2-3C4A-46A7-ACDA-A6CAAFB4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92B8-7626-4E4E-AA97-521E6AD5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BCE1-8486-47A9-8D45-191B64B7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D963-2376-4198-84B3-57EE1EA5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1AE-32E3-4F8C-BD1B-86B88118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225-2659-45D0-A7C6-00FD3AF1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99DC-EC9E-4ACB-A95F-9D753E79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99A-E284-4630-B3B2-50E65F83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17A-2B5A-42B0-80B4-DD36680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C8F-1232-4944-813A-F06E0E6A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551-AB66-4950-B22C-1C54B544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E800-1E7B-492D-BEEC-6B5C97D9F8F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0A54-0C64-45ED-9969-87CA8457E15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adebad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Бала хокуклары турында</a:t>
            </a: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Конвен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3320" y="3338640"/>
            <a:ext cx="7692840" cy="41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989 елны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ӊ 20 ноябрендә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Берл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әшкән милләтләр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оешмасыны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ӊ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Генераль Ассамблеясы тарафыннан яклау тапка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33 нче стат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тнашучы дәүләтләр баланы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27640" y="764280"/>
            <a:ext cx="7779960" cy="998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Статья 3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3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о – участники принимают все необходимые меры,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ключая законодательные, административные и социальные меры, а также меры в области образования, с тем, чтобы защитить детей от незаконного употребления наркотических средств и психотропных вещест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Статья 3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о – участники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защищают ребенка от всех других форм эксплуатации,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носящих ущерб любому аспекту благосостояния ребенк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39680" y="904680"/>
            <a:ext cx="7478280" cy="944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1 нче стат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18 яше тулганчы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һәрбер кеше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ЛА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лып к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68000" y="621720"/>
            <a:ext cx="8084160" cy="10054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6 нчы стат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Һәрбер баланы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ӊ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тормышка хокукы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р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7 нче стат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Һәрбер баланы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ӊ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у белә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семгә хокукы һә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ра-бар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гражданства алырга,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улай ук 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өмкин булса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та-анасын белергә һәм аларныӊ кайгыртуына хокукы б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13 нче стат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лан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ӊ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үз фикерен әйтерг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хокукы ба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 хокук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әгъл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үмат эзләргә ире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бирә. Шулай ук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әгъл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үматн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төрле формада - телдән, язма яки басма формада, сәнгать әсәрләре яки башка чаралар ярдәмендә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алырга, таратыр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хокук бирә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24 нче стат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лан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сәламәтлек саклау системасыныӊ камилләшкән хезмәтләреннән файдаланырг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һәм авыруларын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өрле чаралар белән дәвалар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хокукы б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28 нче стат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аланыӊ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белем алуга хокук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  <a:ea typeface="Arial"/>
              </a:rPr>
              <a:t>бар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тнашучы дәүләтлә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) т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үләүсез башлангыч һәм урта белем алуны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б) урта белем бир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үнеӊ төрле формаларын хуплыйла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в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һәркемнеӊ сәләте нигезендә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югары белем алуныӊ мөмкинлеген тәэмин итәлә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29 нчы стат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тнашучы дәүләтләр белем  бирү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) шәхесне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ӊ сәләтен һәм аӊын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физик мөмкинлекләрен үстерүгә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б) кеше хокукларын хөрмәт итүгә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в) баланы аӊлы тормышка әзерләүгә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г) табигатькә сакчыл караш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тәрбияләүгә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юнәлдерелгә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улырга тиеш, диләр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31 нче стат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тнашучы дәүләтләр баланыӊ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) ял итәргә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б) уеннарда һәм яшенә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туры килгән төрле чаралар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атнашырга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) мәдәни тормышта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 ирекле рәвештә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катнашырга һәм сәнгать белән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шөгыльләнергә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кукы бар диләр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8:16:47Z</dcterms:created>
  <dc:creator>User</dc:creator>
  <dc:description/>
  <dc:language>en-US</dc:language>
  <cp:lastModifiedBy>камбеева</cp:lastModifiedBy>
  <dcterms:modified xsi:type="dcterms:W3CDTF">2011-11-18T10:35:28Z</dcterms:modified>
  <cp:revision>25</cp:revision>
  <dc:subject/>
  <dc:title>Конвенция о правах ребёнка</dc:title>
</cp:coreProperties>
</file>