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59AD-6619-4B49-9148-39A2B3E146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6484-D609-4C3F-814D-FCA39D7068AB}" type="slidenum">
              <a:rPr b="0" lang="ru-RU" sz="1200" spc="-1" strike="noStrike">
                <a:solidFill>
                  <a:srgbClr val="cc721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721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CA6-E458-4F3D-8B40-8D4D41D8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B7CB-2A3F-49FF-B59C-CC803AFB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CBD-D995-4CFD-8AF2-EAD3FBAB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B91-3CD2-480B-A10B-AE3E4323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A3D9-7996-49F9-87D2-10C20B36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DABC-56E4-4438-BFC9-49A4349F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05CE-8EB2-4175-AA00-0E8A97BD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3C17-A0B1-4125-AAA7-F4AAB42B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F431-E2FB-4A5D-81F1-D76ED549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23BB-6F15-4B38-859D-ED567AFF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5D6E-CE9A-4566-AB1C-194B0806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2861-E6BC-4B9D-8BA2-B89969F5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3658-C9ED-4360-87AB-65F079BC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CEAA-9DD1-4C31-A1A4-35661E0A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B8A4-4CA9-4569-B631-A8AA3B2F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4F40-523F-47B6-B920-CAC2BE96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2B51-A39E-4E11-8ED7-47421820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180B-1761-4F1F-9B8B-8D1AFBBC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92A-2B8E-4E6E-8DF5-63C2041E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87C8-3BAD-47F2-8F0E-FC0EEBB1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3B6-8FEF-452D-A197-45745632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F76-1154-4D6C-978E-50BB7890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2CBB-2A8C-427A-9938-14A9D45E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B85-FE21-4F85-BA1B-6CCE47F7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28A6-BFDB-4CF7-9BC0-4433B8B641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793E-6CBD-489A-A4B7-70168E9AA2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21304"/>
                </a:solidFill>
                <a:latin typeface="Times New Roman"/>
              </a:rPr>
              <a:t>Биогеоценозы.</a:t>
            </a:r>
            <a:br>
              <a:rPr sz="6600"/>
            </a:br>
            <a:r>
              <a:rPr b="0" lang="ru-RU" sz="6600" spc="-1" strike="noStrike">
                <a:solidFill>
                  <a:srgbClr val="221304"/>
                </a:solidFill>
                <a:latin typeface="Times New Roman"/>
              </a:rPr>
              <a:t>Экосистемы.</a:t>
            </a:r>
            <a:br>
              <a:rPr sz="6600"/>
            </a:br>
            <a:endParaRPr b="0" lang="en-US" sz="6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64008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оение и св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лкова Н. 8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Пирамида продукции и поток энергии в экосистемах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36708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332424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337176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  <p:pic>
        <p:nvPicPr>
          <p:cNvPr id="146" name="Рисунок 8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467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Дополнительная информация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вание «биоценоз»  ввел в науку немецкий ученый Карл Мебиус в 1877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е о биогеоценозе и сам термин  создал российский ученый-ботаник, академик  Владимир Николаевич Сукачё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е о биосфере создал В.И. Вернадск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е «экосистема» ввёл в науку английский ботаник А. Тес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6"/>
          <p:cNvSpPr txBox="1"/>
          <p:nvPr/>
        </p:nvSpPr>
        <p:spPr>
          <a:xfrm>
            <a:off x="1071720" y="2143080"/>
            <a:ext cx="7678440" cy="34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ипы взаимоотношений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биогеоценоз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божья коровка"/>
          <p:cNvPicPr/>
          <p:nvPr/>
        </p:nvPicPr>
        <p:blipFill>
          <a:blip r:embed="rId1"/>
          <a:stretch/>
        </p:blipFill>
        <p:spPr>
          <a:xfrm>
            <a:off x="2214720" y="1857240"/>
            <a:ext cx="5140080" cy="3848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928800" y="5000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ищниче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это взаимоотношения, при которых одни живые организмы убивают и поедают других</a:t>
            </a:r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омела"/>
          <p:cNvPicPr/>
          <p:nvPr/>
        </p:nvPicPr>
        <p:blipFill>
          <a:blip r:embed="rId1"/>
          <a:stretch/>
        </p:blipFill>
        <p:spPr>
          <a:xfrm>
            <a:off x="1857240" y="2071800"/>
            <a:ext cx="5905800" cy="3924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1357200" y="14292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аразитиз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взаимоотношения, при которых одни живые организмы живут за счёт потребления питательных веществ и органов или тканей других организмов</a:t>
            </a:r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прилипала"/>
          <p:cNvPicPr/>
          <p:nvPr/>
        </p:nvPicPr>
        <p:blipFill>
          <a:blip r:embed="rId1"/>
          <a:stretch/>
        </p:blipFill>
        <p:spPr>
          <a:xfrm>
            <a:off x="1143000" y="2000160"/>
            <a:ext cx="7416720" cy="39117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1214280" y="2858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мменсализ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взаимоотношения, при которых одни организмы испытывают пользу для себя, а другие не получают для себя ни пользы, ни вреда .</a:t>
            </a:r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лишайник"/>
          <p:cNvPicPr/>
          <p:nvPr/>
        </p:nvPicPr>
        <p:blipFill>
          <a:blip r:embed="rId1"/>
          <a:stretch/>
        </p:blipFill>
        <p:spPr>
          <a:xfrm>
            <a:off x="1785960" y="1785960"/>
            <a:ext cx="6119640" cy="4357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1285920" y="28584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имбиоз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взаимоотношения, при которых живые организмы получают обоюдную выгоду и не могут жить друг без друга</a:t>
            </a:r>
            <a:r>
              <a:rPr b="1" lang="ru-RU" sz="2400" spc="-1" strike="noStrike">
                <a:solidFill>
                  <a:srgbClr val="cc7218"/>
                </a:solidFill>
                <a:latin typeface="Times New Roman"/>
              </a:rPr>
              <a:t> . </a:t>
            </a:r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лес"/>
          <p:cNvPicPr/>
          <p:nvPr/>
        </p:nvPicPr>
        <p:blipFill>
          <a:blip r:embed="rId1"/>
          <a:stretch/>
        </p:blipFill>
        <p:spPr>
          <a:xfrm>
            <a:off x="2928960" y="1714680"/>
            <a:ext cx="3287520" cy="4941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428840" y="28584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нкуренц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взаимовредные отношения между живыми организмами, обладающими сходными потребностями</a:t>
            </a:r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рмины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цено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сложная природная система, комплекс совместно живущих и связанных друг с другом видов (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-жизнь,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ino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-общий). Надорганизменный  уровень организации жизни. Биоценоз моховой кочки, разрушающегося пня, луга, болота, л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то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o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место) место, занимаемое природным биоценоз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еоценоз= биоценоз +биото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сист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совокупность организмов и неорганических компонентов, в которой может поддерживаться круговорот вещ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ообразовате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эдификатор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виды, которые в наибольшей мере влияют на условия жизни в сообществе. Ель в еловом лесу, мхи на болоте, дождевые черв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бактерии в поч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рмины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пь пит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оследовательный ряд питающихся друг другом организмов в котором можно проследить расходование первоначальной порции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ти пит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ереплетение пищевых цеп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офический уров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аждое звено цепи пит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ая ниш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это свойство вида, отражающее его роль и местоположение в системе многочисленных  биоценотических связ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русно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ь-закономерное распределение  видов в простран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ичная продук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одукция растений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мас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асса тела живых организм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1" descr=""/>
          <p:cNvPicPr/>
          <p:nvPr/>
        </p:nvPicPr>
        <p:blipFill>
          <a:blip r:embed="rId1"/>
          <a:stretch/>
        </p:blipFill>
        <p:spPr>
          <a:xfrm>
            <a:off x="1352520" y="-171360"/>
            <a:ext cx="7456680" cy="193356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2" descr=""/>
          <p:cNvPicPr/>
          <p:nvPr/>
        </p:nvPicPr>
        <p:blipFill>
          <a:blip r:embed="rId2"/>
          <a:stretch/>
        </p:blipFill>
        <p:spPr>
          <a:xfrm>
            <a:off x="828720" y="1700280"/>
            <a:ext cx="3852720" cy="101268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3" descr=""/>
          <p:cNvPicPr/>
          <p:nvPr/>
        </p:nvPicPr>
        <p:blipFill>
          <a:blip r:embed="rId3"/>
          <a:stretch/>
        </p:blipFill>
        <p:spPr>
          <a:xfrm>
            <a:off x="5614920" y="1700280"/>
            <a:ext cx="2571840" cy="101268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4" descr=""/>
          <p:cNvPicPr/>
          <p:nvPr/>
        </p:nvPicPr>
        <p:blipFill>
          <a:blip r:embed="rId4"/>
          <a:stretch/>
        </p:blipFill>
        <p:spPr>
          <a:xfrm>
            <a:off x="652320" y="3024360"/>
            <a:ext cx="3900600" cy="13284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5" descr=""/>
          <p:cNvPicPr/>
          <p:nvPr/>
        </p:nvPicPr>
        <p:blipFill>
          <a:blip r:embed="rId5"/>
          <a:stretch/>
        </p:blipFill>
        <p:spPr>
          <a:xfrm>
            <a:off x="4730760" y="3024360"/>
            <a:ext cx="4218120" cy="132840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6" descr=""/>
          <p:cNvPicPr/>
          <p:nvPr/>
        </p:nvPicPr>
        <p:blipFill>
          <a:blip r:embed="rId6"/>
          <a:stretch/>
        </p:blipFill>
        <p:spPr>
          <a:xfrm>
            <a:off x="2030400" y="4870440"/>
            <a:ext cx="4870440" cy="1474920"/>
          </a:xfrm>
          <a:prstGeom prst="rect">
            <a:avLst/>
          </a:prstGeom>
          <a:ln w="0">
            <a:noFill/>
          </a:ln>
        </p:spPr>
      </p:pic>
      <p:cxnSp>
        <p:nvCxnSpPr>
          <p:cNvPr id="109" name="Прямая со стрелкой 8"/>
          <p:cNvCxnSpPr>
            <a:stCxn id="104" idx="3"/>
            <a:endCxn id="105" idx="1"/>
          </p:cNvCxnSpPr>
          <p:nvPr/>
        </p:nvCxnSpPr>
        <p:spPr>
          <a:xfrm>
            <a:off x="4378320" y="2273400"/>
            <a:ext cx="1551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0" name="Прямая со стрелкой 10"/>
          <p:cNvCxnSpPr/>
          <p:nvPr/>
        </p:nvCxnSpPr>
        <p:spPr>
          <a:xfrm>
            <a:off x="4000320" y="4000680"/>
            <a:ext cx="1572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1" name="Прямая со стрелкой 12"/>
          <p:cNvCxnSpPr/>
          <p:nvPr/>
        </p:nvCxnSpPr>
        <p:spPr>
          <a:xfrm flipV="1">
            <a:off x="2999880" y="2643120"/>
            <a:ext cx="335844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2" name="Прямая со стрелкой 15"/>
          <p:cNvCxnSpPr/>
          <p:nvPr/>
        </p:nvCxnSpPr>
        <p:spPr>
          <a:xfrm>
            <a:off x="4071600" y="2643120"/>
            <a:ext cx="250092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3" name="Прямая со стрелкой 17"/>
          <p:cNvCxnSpPr/>
          <p:nvPr/>
        </p:nvCxnSpPr>
        <p:spPr>
          <a:xfrm flipH="1">
            <a:off x="2212200" y="2571840"/>
            <a:ext cx="252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4" name="Прямая со стрелкой 19"/>
          <p:cNvCxnSpPr/>
          <p:nvPr/>
        </p:nvCxnSpPr>
        <p:spPr>
          <a:xfrm flipH="1">
            <a:off x="7286400" y="2642760"/>
            <a:ext cx="216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Прямая со стрелкой 21"/>
          <p:cNvCxnSpPr/>
          <p:nvPr/>
        </p:nvCxnSpPr>
        <p:spPr>
          <a:xfrm>
            <a:off x="2285640" y="4214880"/>
            <a:ext cx="121500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6" name="Прямая со стрелкой 23"/>
          <p:cNvCxnSpPr/>
          <p:nvPr/>
        </p:nvCxnSpPr>
        <p:spPr>
          <a:xfrm flipH="1">
            <a:off x="5500080" y="4357800"/>
            <a:ext cx="114372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7" name="Прямая со стрелкой 25"/>
          <p:cNvCxnSpPr/>
          <p:nvPr/>
        </p:nvCxnSpPr>
        <p:spPr>
          <a:xfrm flipH="1">
            <a:off x="2999520" y="2499120"/>
            <a:ext cx="3001320" cy="264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8" name="Прямая со стрелкой 27"/>
          <p:cNvCxnSpPr/>
          <p:nvPr/>
        </p:nvCxnSpPr>
        <p:spPr>
          <a:xfrm>
            <a:off x="3285720" y="2499840"/>
            <a:ext cx="2715480" cy="264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Биоценоз пруда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32424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  <p:pic>
        <p:nvPicPr>
          <p:cNvPr id="122" name="Рисунок 3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990720" y="1295280"/>
            <a:ext cx="7696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Биоценоз дубрав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36708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  <p:pic>
        <p:nvPicPr>
          <p:cNvPr id="126" name="Рисунок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990720" y="1447920"/>
            <a:ext cx="76960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Основные группы организмов в сообществе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59100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  <p:pic>
        <p:nvPicPr>
          <p:cNvPr id="130" name="Рисунок 1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1143000" y="1447920"/>
            <a:ext cx="7620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Необходимые компоненты экосистемы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25764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25764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  <p:pic>
        <p:nvPicPr>
          <p:cNvPr id="135" name="Рисунок 5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7724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Цепь выедания и цепь разложения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7176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337176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7218"/>
              </a:solidFill>
              <a:latin typeface="Times New Roman"/>
            </a:endParaRPr>
          </a:p>
        </p:txBody>
      </p:sp>
      <p:pic>
        <p:nvPicPr>
          <p:cNvPr id="140" name="Рисунок 6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5:20:57Z</dcterms:created>
  <dc:creator>User</dc:creator>
  <dc:description/>
  <dc:language>en-US</dc:language>
  <cp:lastModifiedBy>Biologu</cp:lastModifiedBy>
  <dcterms:modified xsi:type="dcterms:W3CDTF">2011-02-15T10:07:20Z</dcterms:modified>
  <cp:revision>16</cp:revision>
  <dc:subject/>
  <dc:title>Презентация PowerPoint</dc:title>
</cp:coreProperties>
</file>